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936B-3D77-4B0C-8F68-F30B0C7D76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lases de palabras cuyo inventario está cerrado en una lengua, ya no se incorporan más palabras a ese grupo. Es el caso de las preposiciones, las conjunciones, los artículos y los pronombres. En cambio, hay otras clases de palabras que admiten incorporaciones, como los verbos, sustantivos y adjetiv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77B-6D4B-478E-8442-F6ED0B8771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2C2-AF24-488C-89EE-8D9BCC2D1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gramática teórica está dividida en cuatro áreas principales, que son: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nología, morfología, sintaxis y semánt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emántica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(del griego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emantikos,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lo que tiene significado”), estudio del significado de los signos lingüísticos; esto es, palabras, expresiones y or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s lenguas naturales tienen la capacidad de añadir nuevas unidades léxicas a medida que surgen cambios históricos y nuevas realidades en las comunidades de hablantes que las us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semántica léxica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s el estudio de lo que denotan las palabras de una lengua natural.</a:t>
            </a:r>
            <a:r>
              <a:rPr b="0" lang="es-MX" sz="1200" spc="-1" strike="noStrike" baseline="30000">
                <a:solidFill>
                  <a:srgbClr val="000000"/>
                </a:solidFill>
                <a:latin typeface="Calibri"/>
              </a:rPr>
              <a:t>[2]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Las palabras pueden o bien denotar entidades físicas del mundo o bien conceptos. Las unidades de significado en la semántica léxica se denominan unidades léxicas. Las lenguas naturales tienen la capacidad de añadir nuevas unidades léxicas a medida que surgen cambios históricos y nuevas realidades en las comunidades de hablantes que las us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semántica léxica incluye teorías y propuestas de clasificación y análisis del significado de las palabras, las diferencias y similitudes en la organización del lexicón de los diversos idiomas y la relación entre el significado de las palabras y el significado de las oraciones y la sint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Una cuestión importante que explora la semántica léxica es si el significado de una unidad léxica queda determinado examinando su posición y relaciones dentro de una red semántica o si por el contrario el significado está localmente contenido en la unidad léxica. Esto conduce a dos enfoques diferentes de la semántica léxica. Otro tópico explorado es la relación de representación entre formas léxicas y conceptos. Finalmente debe señalarse que en semántica léxica resultan importantes las relaciones de sinonimia, antinomia, hiponimia e hiperonomia para analizar las cuestiones anterio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E79-173C-4942-A1FE-30BA868CB6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2AAF-1B2D-4840-BF94-3ED931A7388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CONCEPTOS (por ejemplo, en el caso de libertad, se puede abstraer a partir de estar en un espacio grande, de moverse sin traba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DAEE-C123-4557-B948-89B9D976E9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ADA-E858-4E2F-9AFB-C9FDC9E4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3C8-7597-4DFE-B204-BCEB135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814-F50C-4959-A28B-9BD2DDFB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659-A9F2-4E66-87E7-F8069705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33B-B09B-401B-BB62-5026F127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C46A-CFA3-48D8-8B73-5941070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4FA-75DB-47A8-BFAF-193A18A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87E-AB7C-4DAC-99CE-A07F8849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81B-4556-46AA-A141-8B15B35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0645-FA09-4915-A4DA-CE7BEF49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26C1-4F75-4A40-805F-C1277F5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77B-54F1-4D50-99E8-1F1A270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F6B9-E914-461F-8E62-66FBB28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32A-9F55-43C0-9586-72E2142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C70C-4E65-43FD-944E-29F8A42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F88D-B657-4FAC-A0EB-52D6AF65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E37F-61AE-4072-A3BE-1A2246F8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7875-4CA5-4286-8B3A-B6474224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4C46-DE10-4814-A838-3B12E87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2EB8-E253-440A-BF9F-E7544AFB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D150-0F45-4396-AC7B-D2556B1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A1F8-77F3-45DA-A23B-E9AFEB71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F81-A53C-40F6-8614-BDA545C5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87A5-40C2-40CE-BB0D-045A856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2ACE-E9F6-46CF-9D26-2BC64BFE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60A1-40AD-4048-A4FD-380BF190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E3BB-50F0-4842-BACE-C53F795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D103-A4A5-4FA0-AE1A-78DDD788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A15B-A6FA-4937-B9D6-9704E178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6D0E-DB15-4144-8A3F-B56475D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59A2-8CF2-4B88-8536-3D735A43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F5BE-5B13-4CDC-B020-080AB8A0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80C6-BC33-453D-965D-E69EFDD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D64-201E-4793-875C-444A4E82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D543-6C2E-4E94-A735-B038BD7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0DD3-F762-4CF5-9284-0DB0580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35B4-FFEF-4C51-9E52-0D75DB2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E9B4-4D88-46DA-86A7-8AA2A294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F699-D1EF-4665-8652-F3AD8F0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49C28-CA47-469E-8675-7D92699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88C6-3FB8-43CE-818F-0EC71399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B919-FA2E-4627-814C-AF49C366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C746-55BC-460F-ABB0-EBAD4D05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2A74-9593-4C14-85B7-6DB6ECF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38E-BB03-4685-B272-AACFED7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7E0C-FEE0-43E1-8C46-FC2DDDC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26E9-1878-46E2-872B-5792DEF5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1431-EB90-4A21-A067-1D6C4804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3CF6-7540-46B3-8866-E7A6E76F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A8B5-6AF8-4978-8854-3EABCC23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E01A-CFC6-4D91-854B-3823A16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B8D9-F9D6-4779-BFE2-012B92D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0CD13-B4F8-4C23-889B-5DEAF92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60FA-8914-495F-9690-49BD7EEF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ADB0-E99E-48E6-B62E-9ED9ADDB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737-C1B4-4F45-8A85-49BDF4B1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F1AF-370A-4FE5-80EF-E1371B19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FD0-99CE-4303-B34D-9FDD19F6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1F4-F096-414D-844B-7E7A4B0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95B-D1B6-4C40-8704-6DC206D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487-3172-4D29-9DF4-32DAA41887D2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74B-0468-424E-B3D2-AF5601389A33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77BF-0321-46C2-882E-887C684D8D5C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2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EAE4-E341-45B7-9DA6-BB6A75CB57C6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1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2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211-6011-4D62-BB73-FCD45F46E380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Claudia Ara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696464"/>
                </a:solidFill>
                <a:latin typeface="Perpetua"/>
              </a:rPr>
              <a:t>Universidad de Chi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Franklin Gothic Book"/>
              </a:rPr>
              <a:t>La semántica y los tipos de significado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Franklin Gothic Book"/>
              </a:rPr>
              <a:t>PALABRAS CONCRETAS Y ABSTRACTA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5640" y="141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SILLA/COMER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     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SALUD/LIBERT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PALABRAS PERTENECIENTES A CLASES ABIERT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Perpetua"/>
              </a:rPr>
              <a:t>¿Cuáles son las clases abiert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Las clases de palabras que admiten nuevas incorporacion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9b2d1f"/>
                </a:solidFill>
                <a:latin typeface="Perpetua"/>
              </a:rPr>
              <a:t>          </a:t>
            </a:r>
            <a:r>
              <a:rPr b="1" lang="es-MX" sz="2600" spc="-1" strike="noStrike">
                <a:solidFill>
                  <a:srgbClr val="9b2d1f"/>
                </a:solidFill>
                <a:latin typeface="Perpetua"/>
              </a:rPr>
              <a:t>VERBOS           SUSTANTIVOS        ADJETIV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9b2d1f"/>
                </a:solidFill>
                <a:latin typeface="Perpetua"/>
              </a:rPr>
              <a:t>                    </a:t>
            </a:r>
            <a:r>
              <a:rPr b="1" lang="es-MX" sz="2600" spc="-1" strike="noStrike">
                <a:solidFill>
                  <a:srgbClr val="9b2d1f"/>
                </a:solidFill>
                <a:latin typeface="Perpetua"/>
              </a:rPr>
              <a:t>ADVERBI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696464"/>
                </a:solidFill>
                <a:latin typeface="Franklin Gothic Book"/>
              </a:rPr>
              <a:t>CLASES DE PALABRAS ABIERTAS Y CERRAD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Perpetua"/>
              </a:rPr>
              <a:t>Hay clases de palabras cuyo </a:t>
            </a: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inventario</a:t>
            </a:r>
            <a:r>
              <a:rPr b="0" lang="es-MX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está cerrado </a:t>
            </a:r>
            <a:r>
              <a:rPr b="0" lang="es-MX" sz="2800" spc="-1" strike="noStrike">
                <a:solidFill>
                  <a:srgbClr val="000000"/>
                </a:solidFill>
                <a:latin typeface="Perpetua"/>
              </a:rPr>
              <a:t>en una lengua, ya no se incorporan más palabras a ese grupo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preposiciones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 conjunciones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artícu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pronomb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PREPOSICIONES: </a:t>
            </a:r>
            <a:r>
              <a:rPr b="1" i="1" lang="es-MX" sz="2600" spc="-1" strike="noStrike">
                <a:solidFill>
                  <a:srgbClr val="000000"/>
                </a:solidFill>
                <a:latin typeface="Perpetua"/>
              </a:rPr>
              <a:t>a, ante, bajo, con, contra, de, desde, durante, en, entre, hacia, hasta, mediante, para, por, pro, según, sin, sobre, tras (20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00000" y="26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CLASES 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  CLAS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     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ABIERTAS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ff0000"/>
                </a:solidFill>
                <a:latin typeface="Perpetua"/>
              </a:rPr>
              <a:t>CERRADA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Palabras de 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Palabra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contenido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funcional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Significado puede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Significad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c00000"/>
                </a:solidFill>
                <a:latin typeface="Perpetua"/>
              </a:rPr>
              <a:t>variar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s-MX" sz="3200" spc="-1" strike="noStrike">
                <a:solidFill>
                  <a:srgbClr val="0000ff"/>
                </a:solidFill>
                <a:latin typeface="Perpetua"/>
              </a:rPr>
              <a:t>invariab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una vida </a:t>
            </a:r>
            <a:r>
              <a:rPr b="1" lang="es-MX" sz="3200" spc="-1" strike="noStrike">
                <a:solidFill>
                  <a:srgbClr val="0000ff"/>
                </a:solidFill>
                <a:latin typeface="Perpetua"/>
              </a:rPr>
              <a:t>de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perros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199080" indent="-199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me siento como </a:t>
            </a:r>
            <a:r>
              <a:rPr b="1" lang="es-MX" sz="3200" spc="-1" strike="noStrike">
                <a:solidFill>
                  <a:srgbClr val="0000ff"/>
                </a:solidFill>
                <a:latin typeface="Perpetua"/>
              </a:rPr>
              <a:t>en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un día </a:t>
            </a:r>
            <a:r>
              <a:rPr b="1" lang="es-MX" sz="3200" spc="-1" strike="noStrike">
                <a:solidFill>
                  <a:srgbClr val="0000ff"/>
                </a:solidFill>
                <a:latin typeface="Perpetua"/>
              </a:rPr>
              <a:t>de</a:t>
            </a:r>
            <a:r>
              <a:rPr b="1" lang="es-MX" sz="3200" spc="-1" strike="noStrike">
                <a:solidFill>
                  <a:srgbClr val="000000"/>
                </a:solidFill>
                <a:latin typeface="Perpetua"/>
              </a:rPr>
              <a:t> lluvia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3 Flecha abajo"/>
          <p:cNvSpPr/>
          <p:nvPr/>
        </p:nvSpPr>
        <p:spPr>
          <a:xfrm>
            <a:off x="2340000" y="3141720"/>
            <a:ext cx="720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4 Flecha abajo"/>
          <p:cNvSpPr/>
          <p:nvPr/>
        </p:nvSpPr>
        <p:spPr>
          <a:xfrm>
            <a:off x="6227640" y="3141720"/>
            <a:ext cx="720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696464"/>
                </a:solidFill>
                <a:latin typeface="Franklin Gothic Book"/>
              </a:rPr>
              <a:t>DENOT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557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Es la relación que se establece entre un signo lingüístico (la palabra) y su referente, es decir, lo que designa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86" name="Object 7"/>
          <p:cNvGraphicFramePr/>
          <p:nvPr/>
        </p:nvGraphicFramePr>
        <p:xfrm>
          <a:off x="1403280" y="3500280"/>
          <a:ext cx="2362320" cy="14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500280"/>
                    <a:ext cx="2362320" cy="14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8"/>
          <p:cNvSpPr/>
          <p:nvPr/>
        </p:nvSpPr>
        <p:spPr>
          <a:xfrm>
            <a:off x="1403280" y="5157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3995640" y="4005360"/>
            <a:ext cx="1371600" cy="533160"/>
          </a:xfrm>
          <a:prstGeom prst="rightArrow">
            <a:avLst>
              <a:gd name="adj1" fmla="val 50000"/>
              <a:gd name="adj2" fmla="val 64315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508720" y="2997360"/>
            <a:ext cx="3254400" cy="28526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400800" y="4149720"/>
            <a:ext cx="27432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IGNIFI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EP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VIPA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5580000" y="407664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5940360" y="3357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ORT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96464"/>
                </a:solidFill>
                <a:latin typeface="Franklin Gothic Book"/>
              </a:rPr>
              <a:t>DENOT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Lleva la raíz /nota/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Una 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nota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es una característica de los concepto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616680" indent="-237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Por ejemplo: si analizamos la palabra 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rosa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 diremos que es 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un ser, orgánico, insensible, vegetal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616680" indent="-237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Todas estas palabras (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ser, orgánico, insensible, vegetal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) son las notas conceptuales del concepto 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rosa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Esas notas lo definen. Surgen del propi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84400" indent="-2844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concepto: de ahí que digamos </a:t>
            </a:r>
            <a:r>
              <a:rPr b="1" lang="es-MX" sz="2600" spc="-1" strike="noStrike">
                <a:solidFill>
                  <a:srgbClr val="9b2d1f"/>
                </a:solidFill>
                <a:latin typeface="Perpetua"/>
              </a:rPr>
              <a:t>denotar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DENOT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NOTAS CONCEPTU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ser, orgánico, insensible, vegetal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 son rasgos que surgen del mismo concept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Es el tipo de significado que podemos leer en un diccionari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43520" indent="-185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Es decir, el diccionario contiene términos denotativ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5710320" y="2662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96464"/>
                </a:solidFill>
                <a:latin typeface="Franklin Gothic Book"/>
              </a:rPr>
              <a:t>DENOTACIÓN y CONNOTACIÓ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Si miramos en el diccionario el significado de 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sol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, leeremos: </a:t>
            </a:r>
            <a:r>
              <a:rPr b="1" i="1" lang="es-MX" sz="2400" spc="-1" strike="noStrike">
                <a:solidFill>
                  <a:srgbClr val="000000"/>
                </a:solidFill>
                <a:latin typeface="Perpetua"/>
              </a:rPr>
              <a:t>astro central de nuestro sistema s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Pero si yo digo de un hijo mío que es un sol, estoy añadiendo algo a su significado </a:t>
            </a:r>
            <a:r>
              <a:rPr b="1" lang="es-MX" sz="2400" spc="-1" strike="noStrike">
                <a:solidFill>
                  <a:srgbClr val="9b2d1f"/>
                </a:solidFill>
                <a:latin typeface="Perpetua"/>
              </a:rPr>
              <a:t>denotativo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. Ese significado es 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connotativo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5710320" y="26668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96464"/>
                </a:solidFill>
                <a:latin typeface="Franklin Gothic Book"/>
              </a:rPr>
              <a:t>CONNOT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Lleva la misma raíz (“notar” = conjuntos de rasgos, como </a:t>
            </a:r>
            <a:r>
              <a:rPr b="1" i="1" lang="es-MX" sz="2600" spc="-1" strike="noStrike">
                <a:solidFill>
                  <a:srgbClr val="000000"/>
                </a:solidFill>
                <a:latin typeface="Perpetua"/>
              </a:rPr>
              <a:t>denotar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Lleva delante el prefijo </a:t>
            </a:r>
            <a:r>
              <a:rPr b="1" i="1" lang="es-MX" sz="2600" spc="-1" strike="noStrike">
                <a:solidFill>
                  <a:srgbClr val="9b2d1f"/>
                </a:solidFill>
                <a:latin typeface="Perpetua"/>
              </a:rPr>
              <a:t>co-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, que significa </a:t>
            </a:r>
            <a:r>
              <a:rPr b="1" i="1" lang="es-MX" sz="2600" spc="-1" strike="noStrike">
                <a:solidFill>
                  <a:srgbClr val="000000"/>
                </a:solidFill>
                <a:latin typeface="Perpetua"/>
              </a:rPr>
              <a:t>al mismo tiempo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Con-notar significa decir algo con un significado añadido, que no corresponde a las notas conceptuales de la palabra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TIPOS DE SIGNIFICAD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03280" y="2060640"/>
            <a:ext cx="2376720" cy="459720"/>
          </a:xfrm>
          <a:prstGeom prst="rect">
            <a:avLst/>
          </a:prstGeom>
          <a:noFill/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NO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64000" y="2060640"/>
            <a:ext cx="2592720" cy="459720"/>
          </a:xfrm>
          <a:prstGeom prst="rect">
            <a:avLst/>
          </a:prstGeom>
          <a:noFill/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NO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258920" y="3141720"/>
            <a:ext cx="29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objetos lo denotativo está ligado a lo sensible: forma, color, material, es decir a su carácter obje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ace referencia a su significación direc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5292720" y="314172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lleva una carga emotiva u otro significado por asociación, compartido por miembros de una cultura en particul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5800" y="380880"/>
            <a:ext cx="3581280" cy="459720"/>
          </a:xfrm>
          <a:prstGeom prst="rect">
            <a:avLst/>
          </a:prstGeom>
          <a:solidFill>
            <a:srgbClr val="d34817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gnificado gra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486400" y="457200"/>
            <a:ext cx="3276720" cy="459720"/>
          </a:xfrm>
          <a:prstGeom prst="rect">
            <a:avLst/>
          </a:prstGeom>
          <a:solidFill>
            <a:srgbClr val="d34817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gnificado l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80880" y="1371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significado otorgado por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800600" y="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334120" y="1523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significado concep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457200" y="2819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xpresa mediante los morfemas gramaticales: género, número, tiempo, modo, aspe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105520" y="29718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xpresa mediante la raíz y los afijos de las pala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 flipH="1">
            <a:off x="25909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480060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781680" y="4495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1981080" y="5562720"/>
            <a:ext cx="5791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bos tipos de significad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forma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as palab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fecha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Perpetua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4 Marcador de pie de página"/>
          <p:cNvSpPr/>
          <p:nvPr/>
        </p:nvSpPr>
        <p:spPr>
          <a:xfrm>
            <a:off x="900000" y="5013360"/>
            <a:ext cx="2073240" cy="67932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96464"/>
                </a:solidFill>
                <a:latin typeface="Perpetu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96464"/>
                </a:solidFill>
                <a:latin typeface="Perpetua"/>
              </a:rPr>
              <a:t>LÉX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¿Qué es la semántica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4 Marcador de pie de página"/>
          <p:cNvSpPr/>
          <p:nvPr/>
        </p:nvSpPr>
        <p:spPr>
          <a:xfrm>
            <a:off x="5940360" y="3213000"/>
            <a:ext cx="2073240" cy="50328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696464"/>
                </a:solidFill>
                <a:latin typeface="Perpetua"/>
              </a:rPr>
              <a:t>DISCUR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4 Marcador de pie de página"/>
          <p:cNvSpPr/>
          <p:nvPr/>
        </p:nvSpPr>
        <p:spPr>
          <a:xfrm>
            <a:off x="3419640" y="3213000"/>
            <a:ext cx="2073240" cy="50328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696464"/>
                </a:solidFill>
                <a:latin typeface="Perpetua"/>
              </a:rPr>
              <a:t>OR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Marcador de pie de página"/>
          <p:cNvSpPr/>
          <p:nvPr/>
        </p:nvSpPr>
        <p:spPr>
          <a:xfrm>
            <a:off x="826920" y="3213000"/>
            <a:ext cx="2073600" cy="50328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696464"/>
                </a:solidFill>
                <a:latin typeface="Perpetua"/>
              </a:rPr>
              <a:t>PALAB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Marcador de pie de página"/>
          <p:cNvSpPr/>
          <p:nvPr/>
        </p:nvSpPr>
        <p:spPr>
          <a:xfrm>
            <a:off x="3419640" y="5013360"/>
            <a:ext cx="2073240" cy="67932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96464"/>
                </a:solidFill>
                <a:latin typeface="Perpetu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96464"/>
                </a:solidFill>
                <a:latin typeface="Perpetua"/>
              </a:rPr>
              <a:t>O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 Marcador de pie de página"/>
          <p:cNvSpPr/>
          <p:nvPr/>
        </p:nvSpPr>
        <p:spPr>
          <a:xfrm>
            <a:off x="6012000" y="5013360"/>
            <a:ext cx="2305080" cy="67932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96464"/>
                </a:solidFill>
                <a:latin typeface="Perpetua"/>
              </a:rPr>
              <a:t>PRAG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0 Flecha abajo"/>
          <p:cNvSpPr/>
          <p:nvPr/>
        </p:nvSpPr>
        <p:spPr>
          <a:xfrm>
            <a:off x="6732720" y="4005360"/>
            <a:ext cx="720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1 Flecha abajo"/>
          <p:cNvSpPr/>
          <p:nvPr/>
        </p:nvSpPr>
        <p:spPr>
          <a:xfrm>
            <a:off x="4211640" y="4005360"/>
            <a:ext cx="720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2 Flecha abajo"/>
          <p:cNvSpPr/>
          <p:nvPr/>
        </p:nvSpPr>
        <p:spPr>
          <a:xfrm>
            <a:off x="1476360" y="4005360"/>
            <a:ext cx="72072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3132000" y="1700280"/>
            <a:ext cx="2735280" cy="520560"/>
          </a:xfrm>
          <a:prstGeom prst="rect">
            <a:avLst/>
          </a:prstGeom>
          <a:noFill/>
          <a:ln w="572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4500720" y="2421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2340000" y="2421000"/>
            <a:ext cx="2160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4500720" y="2421000"/>
            <a:ext cx="2232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96464"/>
                </a:solidFill>
                <a:latin typeface="Franklin Gothic Book"/>
              </a:rPr>
              <a:t>FORMA: SIGNIFICADO GRAMATIC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i="1" lang="es-MX" sz="2800" spc="-1" strike="noStrike">
                <a:solidFill>
                  <a:srgbClr val="000000"/>
                </a:solidFill>
                <a:latin typeface="Perpetua"/>
              </a:rPr>
              <a:t>Los niñitos la desprecian</a:t>
            </a: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SIGNIFICADO GRAMATIC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610920" indent="-3391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NIÑIT – </a:t>
            </a:r>
            <a:r>
              <a:rPr b="1" lang="es-MX" sz="2400" spc="-1" strike="noStrike">
                <a:solidFill>
                  <a:srgbClr val="c00000"/>
                </a:solidFill>
                <a:latin typeface="Perpetua"/>
              </a:rPr>
              <a:t>O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 - 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S 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DESPRECI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género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número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tiempo: pres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modo: indica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39480" indent="-33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aspecto: imperfec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843280" y="37162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3276720" y="3716280"/>
            <a:ext cx="57456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6"/>
          <p:cNvSpPr/>
          <p:nvPr/>
        </p:nvSpPr>
        <p:spPr>
          <a:xfrm>
            <a:off x="5940360" y="378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96464"/>
                </a:solidFill>
                <a:latin typeface="Franklin Gothic Book"/>
              </a:rPr>
              <a:t>FORMA: SIGNIFICADO LÉX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i="1" lang="es-MX" sz="2800" spc="-1" strike="noStrike">
                <a:solidFill>
                  <a:srgbClr val="000000"/>
                </a:solidFill>
                <a:latin typeface="Perpetua"/>
              </a:rPr>
              <a:t>Los niñitos la desprecian</a:t>
            </a:r>
            <a:r>
              <a:rPr b="1" lang="es-MX" sz="2800" spc="-1" strike="noStrike">
                <a:solidFill>
                  <a:srgbClr val="000000"/>
                </a:solidFill>
                <a:latin typeface="Perpet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SIGNIFICADO GRAMATIC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617400" indent="-342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NIÑ -  </a:t>
            </a:r>
            <a:r>
              <a:rPr b="1" lang="es-MX" sz="2400" spc="-1" strike="noStrike">
                <a:solidFill>
                  <a:srgbClr val="c00000"/>
                </a:solidFill>
                <a:latin typeface="Perpetua"/>
              </a:rPr>
              <a:t>IT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OS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400" spc="-1" strike="noStrike">
                <a:solidFill>
                  <a:srgbClr val="002060"/>
                </a:solidFill>
                <a:latin typeface="Perpetua"/>
              </a:rPr>
              <a:t>DES -   </a:t>
            </a:r>
            <a:r>
              <a:rPr b="1" lang="es-MX" sz="2400" spc="-1" strike="noStrike">
                <a:solidFill>
                  <a:srgbClr val="000000"/>
                </a:solidFill>
                <a:latin typeface="Perpetua"/>
              </a:rPr>
              <a:t>PRECI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raíz       </a:t>
            </a:r>
            <a:r>
              <a:rPr b="1" lang="es-MX" sz="2600" spc="-1" strike="noStrike">
                <a:solidFill>
                  <a:srgbClr val="c00000"/>
                </a:solidFill>
                <a:latin typeface="Perpetua"/>
              </a:rPr>
              <a:t>sufijo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2060"/>
                </a:solidFill>
                <a:latin typeface="Perpetua"/>
              </a:rPr>
              <a:t>prefijo</a:t>
            </a:r>
            <a:r>
              <a:rPr b="1" lang="es-MX" sz="2600" spc="-1" strike="noStrike">
                <a:solidFill>
                  <a:srgbClr val="0000ff"/>
                </a:solidFill>
                <a:latin typeface="Perpetua"/>
              </a:rPr>
              <a:t>   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raí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Line 16"/>
          <p:cNvSpPr/>
          <p:nvPr/>
        </p:nvSpPr>
        <p:spPr>
          <a:xfrm>
            <a:off x="2050920" y="378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6"/>
          <p:cNvSpPr/>
          <p:nvPr/>
        </p:nvSpPr>
        <p:spPr>
          <a:xfrm>
            <a:off x="2627280" y="3789360"/>
            <a:ext cx="576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7020000" y="378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5940360" y="378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2133720" y="304920"/>
            <a:ext cx="4343400" cy="459720"/>
          </a:xfrm>
          <a:prstGeom prst="rect">
            <a:avLst/>
          </a:prstGeom>
          <a:solidFill>
            <a:srgbClr val="d34817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gnificado Est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533520" y="914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resa la variación social, geográfica y tem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981080" y="4114800"/>
            <a:ext cx="4876920" cy="459720"/>
          </a:xfrm>
          <a:prstGeom prst="rect">
            <a:avLst/>
          </a:prstGeom>
          <a:solidFill>
            <a:srgbClr val="d34817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gnificado A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0948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resa la función emotiva del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33520" y="1523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ográfica: marraqueta/ ba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09480" y="2209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mporal: botica/ farm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8580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cial: falda/ poll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68580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dico/ medicu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380880" y="3809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3962160" cy="990720"/>
          </a:xfrm>
          <a:prstGeom prst="rect">
            <a:avLst/>
          </a:prstGeom>
          <a:solidFill>
            <a:srgbClr val="d34817"/>
          </a:solidFill>
          <a:ln w="0">
            <a:noFill/>
          </a:ln>
          <a:effectLst>
            <a:outerShdw dist="36147" dir="2700000" blurRad="0" rotWithShape="0">
              <a:srgbClr val="e9e5d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Sínte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85800" y="2209680"/>
            <a:ext cx="25146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e9e5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de signifi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 flipV="1">
            <a:off x="3276720" y="1980720"/>
            <a:ext cx="1600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334120" y="1676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otativo/ Conno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"/>
          <p:cNvSpPr/>
          <p:nvPr/>
        </p:nvSpPr>
        <p:spPr>
          <a:xfrm>
            <a:off x="3276720" y="2666880"/>
            <a:ext cx="16002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334120" y="2971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matical/lé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3276720" y="2666880"/>
            <a:ext cx="106668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495288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il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276720" y="2666880"/>
            <a:ext cx="914400" cy="281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87692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SEMÁNTIC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n un sentido general, es el estudio del significado lingüístico a nivel de la palabra, la oración o del discurs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000000"/>
                </a:solidFill>
                <a:latin typeface="Perpetua"/>
              </a:rPr>
              <a:t>Semántica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(del griego </a:t>
            </a:r>
            <a:r>
              <a:rPr b="1" lang="es-MX" sz="3300" spc="-1" strike="noStrike">
                <a:solidFill>
                  <a:srgbClr val="000000"/>
                </a:solidFill>
                <a:latin typeface="Perpetua"/>
              </a:rPr>
              <a:t>semantikos,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“lo que tiene significado”. D</a:t>
            </a:r>
            <a:r>
              <a:rPr b="0" lang="es-ES" sz="3300" spc="-1" strike="noStrike">
                <a:solidFill>
                  <a:srgbClr val="000000"/>
                </a:solidFill>
                <a:latin typeface="Perpetua"/>
              </a:rPr>
              <a:t>erivado de </a:t>
            </a:r>
            <a:r>
              <a:rPr b="1" i="1" lang="es-ES" sz="3300" spc="-1" strike="noStrike">
                <a:solidFill>
                  <a:srgbClr val="9b2d1f"/>
                </a:solidFill>
                <a:latin typeface="Perpetua"/>
              </a:rPr>
              <a:t>sema</a:t>
            </a:r>
            <a:r>
              <a:rPr b="0" lang="es-ES" sz="3300" spc="-1" strike="noStrike">
                <a:solidFill>
                  <a:srgbClr val="000000"/>
                </a:solidFill>
                <a:latin typeface="Perpetua"/>
              </a:rPr>
              <a:t>, “</a:t>
            </a:r>
            <a:r>
              <a:rPr b="1" lang="es-ES" sz="3300" spc="-1" strike="noStrike">
                <a:solidFill>
                  <a:srgbClr val="9b2d1f"/>
                </a:solidFill>
                <a:latin typeface="Perpetua"/>
              </a:rPr>
              <a:t>signo</a:t>
            </a:r>
            <a:r>
              <a:rPr b="0" lang="es-ES" sz="33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es-MX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Estudio del significado de los signos lingüísticos.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SEMÁNTICA LÉXIC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SEMÁNTICA ORAC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SEMÁNTICA DEL DISCURS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3 Flecha abajo"/>
          <p:cNvSpPr/>
          <p:nvPr/>
        </p:nvSpPr>
        <p:spPr>
          <a:xfrm>
            <a:off x="2340000" y="3645000"/>
            <a:ext cx="720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 Flecha abajo"/>
          <p:cNvSpPr/>
          <p:nvPr/>
        </p:nvSpPr>
        <p:spPr>
          <a:xfrm>
            <a:off x="2340000" y="2060640"/>
            <a:ext cx="720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6300720" y="3860640"/>
            <a:ext cx="2519280" cy="12956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AG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5796000" y="436572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268360" y="5589720"/>
            <a:ext cx="648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texto en que se emite una palabra determinará su sign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ranklin Gothic Book"/>
              </a:rPr>
              <a:t>Semántica y Pragmátic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Perpetua"/>
              </a:rPr>
              <a:t>Pragmática: comprensión del lenguaje a partir de cómo es usado en el proceso de comunicación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Por lo tanto, interesa el significado en us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Perpetua"/>
              </a:rPr>
              <a:t>Semántica: comprensión del lenguaje en abstracto, a partir de las formas expresivas de una lengua particular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-2858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Por lo tanto, interesa el significado lingüístic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Perpetua"/>
              </a:rPr>
              <a:t>No existe una clara línea divisoria entre conocimiento del mundo y el lingüístico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La </a:t>
            </a:r>
            <a:r>
              <a:rPr b="1" lang="es-MX" sz="3300" spc="-1" strike="noStrike">
                <a:solidFill>
                  <a:srgbClr val="000000"/>
                </a:solidFill>
                <a:latin typeface="Perpetua"/>
              </a:rPr>
              <a:t>semántica léxica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es el estudio de lo que denotan las </a:t>
            </a:r>
            <a:r>
              <a:rPr b="1" i="1" lang="es-MX" sz="3300" spc="-1" strike="noStrike">
                <a:solidFill>
                  <a:srgbClr val="000000"/>
                </a:solidFill>
                <a:latin typeface="Perpetua"/>
              </a:rPr>
              <a:t>palabras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de una lengua.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2509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La </a:t>
            </a:r>
            <a:r>
              <a:rPr b="1" lang="es-MX" sz="3300" spc="-1" strike="noStrike">
                <a:solidFill>
                  <a:srgbClr val="000000"/>
                </a:solidFill>
                <a:latin typeface="Perpetua"/>
              </a:rPr>
              <a:t>semántica oracional</a:t>
            </a:r>
            <a:r>
              <a:rPr b="0" lang="es-MX" sz="3300" spc="-1" strike="noStrike">
                <a:solidFill>
                  <a:srgbClr val="000000"/>
                </a:solidFill>
                <a:latin typeface="Perpetua"/>
              </a:rPr>
              <a:t> se refiere a cómo las palabras transmiten significados por el hecho de agruparse y de establecer dependencias entre ellas.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Perpetua"/>
              </a:rPr>
              <a:t>Ejemplo “palo blanco”, “vino blanco”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SEMÁNTICA LÉXIC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341360"/>
            <a:ext cx="77724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Perpetua"/>
              </a:rPr>
              <a:t>El léxico abarca a la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es-MX" sz="2600" spc="-1" strike="noStrike">
                <a:solidFill>
                  <a:srgbClr val="ff0000"/>
                </a:solidFill>
                <a:latin typeface="Perpetua"/>
              </a:rPr>
              <a:t>UNIDADES LÉXIC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187280" y="263700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ABRAS CONCR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003640" y="263700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ABRAS ABSTRA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96464"/>
                </a:solidFill>
                <a:latin typeface="Franklin Gothic Book"/>
              </a:rPr>
              <a:t>UNIDADES LÉXICAS: </a:t>
            </a:r>
            <a:r>
              <a:rPr b="0" lang="es-MX" sz="3600" spc="-1" strike="noStrike">
                <a:solidFill>
                  <a:srgbClr val="ff0000"/>
                </a:solidFill>
                <a:latin typeface="Franklin Gothic Book"/>
              </a:rPr>
              <a:t>PALABRAS CONCRETA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Entidades físicas             </a:t>
            </a:r>
            <a:r>
              <a:rPr b="0" i="1" lang="es-MX" sz="2600" spc="-1" strike="noStrike">
                <a:solidFill>
                  <a:srgbClr val="000000"/>
                </a:solidFill>
                <a:latin typeface="Perpetua"/>
              </a:rPr>
              <a:t>también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       Accion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del mundo                                             percepti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SILLA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                 COMER           CAMIÓN                                                HAB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Adquiridas por medio de una experiencia no lingüístic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Presuponen una serie de cualidades que son accesibles perceptualmente.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 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3 Flecha derecha"/>
          <p:cNvSpPr/>
          <p:nvPr/>
        </p:nvSpPr>
        <p:spPr>
          <a:xfrm>
            <a:off x="4284720" y="2421000"/>
            <a:ext cx="863640" cy="647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96464"/>
                </a:solidFill>
                <a:latin typeface="Franklin Gothic Book"/>
              </a:rPr>
              <a:t>UNIDADES LÉXICAS: </a:t>
            </a:r>
            <a:r>
              <a:rPr b="0" lang="es-MX" sz="3600" spc="-1" strike="noStrike">
                <a:solidFill>
                  <a:srgbClr val="ff0000"/>
                </a:solidFill>
                <a:latin typeface="Franklin Gothic Book"/>
              </a:rPr>
              <a:t>PALABRAS ABSTRACTA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CONCEPTOS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                         salu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libert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Sólo pueden ser adquiridas agregando o separando conocimientos aprendidos a partir de </a:t>
            </a:r>
            <a:r>
              <a:rPr b="1" i="1" lang="es-MX" sz="2600" spc="-1" strike="noStrike">
                <a:solidFill>
                  <a:srgbClr val="742217"/>
                </a:solidFill>
                <a:latin typeface="Perpetua"/>
              </a:rPr>
              <a:t>relacionar </a:t>
            </a:r>
            <a:r>
              <a:rPr b="0" lang="es-MX" sz="2600" spc="-1" strike="noStrike">
                <a:solidFill>
                  <a:srgbClr val="000000"/>
                </a:solidFill>
                <a:latin typeface="Perpetua"/>
              </a:rPr>
              <a:t>aspectos de otros referentes, hecho que se facilita por la propia existencia de la palabra en la cultura del niñ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3 Flecha derecha"/>
          <p:cNvSpPr/>
          <p:nvPr/>
        </p:nvSpPr>
        <p:spPr>
          <a:xfrm>
            <a:off x="4356000" y="1773360"/>
            <a:ext cx="863640" cy="647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6:57:55Z</dcterms:created>
  <dc:creator>a</dc:creator>
  <dc:description/>
  <dc:language>en-US</dc:language>
  <cp:lastModifiedBy>a</cp:lastModifiedBy>
  <dcterms:modified xsi:type="dcterms:W3CDTF">2010-08-17T17:22:17Z</dcterms:modified>
  <cp:revision>66</cp:revision>
  <dc:subject/>
  <dc:title>La semántica y las relaciones léxicas</dc:title>
</cp:coreProperties>
</file>