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A961-00DA-4E2C-A345-D60F0DB6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12A0-DA2D-425D-86EA-955D07A0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DAFA-892D-4422-9E63-CFA434D6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FF8E-2B10-46DB-BDAE-3D1E98D4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E72E-C4B8-43A2-9F7D-2692CF3D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7E92-5B7B-4A72-BA20-9E11372E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9847-A44D-4A54-B587-95BD2715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180B-9D52-4445-A58F-2086A403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792F-A797-4B4F-94D5-2BE25F80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27FF-5604-49E4-BE95-D09762BA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1359-E22E-4958-9BEB-17F59D89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386C-4ACA-407A-819B-98392E07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8BEC-2E8A-4D12-B8B8-A1F255F10FF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án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udio del significad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mántica léxica: significado de las palab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Semántica Oracional: significado de las or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Semántica del discurso: significado del discur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orías semánticas representaciona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apacidad de hablar  está determinada por los modelos mentales que se tienen del mu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 importante en estas teorías es explicar la forma en que las expresiones son influenciadas por las estructuras conceptuales convencionalizadas en una leng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significado se deriva de que las lenguas reflejan las estructuras conceptuales de los individu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semántica son las representaciones ment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gnifi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Es el significado una entidad esencialmente invaria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dro tiene un auto ro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dro tiene el pelo ro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gnifi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Las palabras tienen un único significado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abuela tiene una casa gran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abuela tiene un corazón gran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mensión 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mensión psic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dos más concre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dos más abstra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ántica y Pragmá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gmática: comprensión del lenguaje a partir de cómo es usado en el proceso de comunicación. Por lo tanto, interesa el significado en u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ántica: comprensión del lenguaje en abstracto, a partir de las formas expresivas de una lengua particular. Por lo tanto, interesa el significado lingüíst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ántica y Pragmá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xiste una clara línea divisoria entre conocimiento del mundo y el lingüíst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significa la palabra “fuego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contexto en que se emite una palabra determinará su signifi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reas de la Semán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acterizar la naturaleza del significado léxico, oracional y discursivo y dar cuenta de sus rel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ar las relaciones entre los significados: sinonimia, ambigüedad, antonimia, entre ot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egar un conjunto de indicaciones que permitan conformar el significado léxico, oracional y discurs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ar el modelo de competencia semántica en términos de un conjunto de representaciones cognitiv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95480" y="1676520"/>
            <a:ext cx="4267440" cy="335268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1066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ns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5334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í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5181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riángulo Ogden y Richards (19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819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boli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5715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res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2666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fi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95280" y="14479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IGNO LINGÜÍ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40384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GNIFIC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52578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GNIF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952880"/>
            <a:ext cx="297180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3581280"/>
            <a:ext cx="3124080" cy="259092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2514600"/>
            <a:ext cx="609480" cy="990720"/>
          </a:xfrm>
          <a:prstGeom prst="downArrow">
            <a:avLst>
              <a:gd name="adj1" fmla="val 50000"/>
              <a:gd name="adj2" fmla="val 406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1447920"/>
            <a:ext cx="533520" cy="1828800"/>
          </a:xfrm>
          <a:custGeom>
            <a:avLst/>
            <a:gdLst>
              <a:gd name="textAreaLeft" fmla="*/ 0 w 533520"/>
              <a:gd name="textAreaRight" fmla="*/ 19260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10280" y="20574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4572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aussure, 19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62000" y="83808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28680" y="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FER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85680" y="114300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lidad extralingüística designada por el lengu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1120" y="2666880"/>
            <a:ext cx="2361960" cy="1416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8568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FE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28880" y="2819520"/>
            <a:ext cx="1371600" cy="533160"/>
          </a:xfrm>
          <a:prstGeom prst="rightArrow">
            <a:avLst>
              <a:gd name="adj1" fmla="val 50000"/>
              <a:gd name="adj2" fmla="val 643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2600" y="3200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67520" y="3809880"/>
            <a:ext cx="2743200" cy="32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GNIF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P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OVIPA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421000"/>
            <a:ext cx="3886200" cy="342900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09880"/>
            <a:ext cx="37339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895480" y="228600"/>
            <a:ext cx="419112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no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0666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iente del enunciado. Por lo tanto, es e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9051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r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1676520"/>
            <a:ext cx="380880" cy="838080"/>
          </a:xfrm>
          <a:custGeom>
            <a:avLst/>
            <a:gdLst>
              <a:gd name="textAreaLeft" fmla="*/ 0 w 380880"/>
              <a:gd name="textAreaRight" fmla="*/ 137520 w 3808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19051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ota la misma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297180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ón: alude a la totalidad de los elementos de la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29718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nsión: alude a la propiedad de la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4191120"/>
            <a:ext cx="7696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xpresión denota (por extensión) una clase de entidades y cuál es su propiedad ( es decir, la propiedad que comparten todos los miembros de la clase y en virtud de la cual son miembros de la clase en cuestión) definitoria (por comprensión)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Lyon, 1995, 1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438280" y="885960"/>
            <a:ext cx="41911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1905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 de la oración. Se trata como parte del significado de la oración. Por lo tanto, varía dependiendo del contexto or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3581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perro”, “el perr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3124080"/>
            <a:ext cx="457200" cy="1219320"/>
          </a:xfrm>
          <a:custGeom>
            <a:avLst/>
            <a:gdLst>
              <a:gd name="textAreaLeft" fmla="*/ 0 w 457200"/>
              <a:gd name="textAreaRight" fmla="*/ 164880 w 4572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006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fiere a un miembro de la cl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orías Semán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ías Semánticas Referenc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ías Semánticas Representacion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orías Semánticas Referenci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palabras sirven para designar al mundo. En consecuencia, esta teoría relaciona al lenguaje con el mu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 importante es explicar la relación entre los objetos del mundo y las palabras que nombran a dichos obje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significado se deriva de la conexión entre realidad y lengua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semántica es refer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21:33:15Z</dcterms:created>
  <dc:creator>Fac. de Medicina</dc:creator>
  <dc:description/>
  <dc:language>en-US</dc:language>
  <cp:lastModifiedBy>Carmen</cp:lastModifiedBy>
  <dcterms:modified xsi:type="dcterms:W3CDTF">2010-08-04T13:25:26Z</dcterms:modified>
  <cp:revision>40</cp:revision>
  <dc:subject/>
  <dc:title>Presentación de PowerPoint</dc:title>
</cp:coreProperties>
</file>