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986E-5448-4F03-947C-B93BC3C39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3F52-7971-4BFE-BC49-D07E2E85C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143000" y="68580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DECC-4712-4B38-8E82-5661E6EC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D740-1E15-4FAF-A99B-3193FD24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578-0112-4B4A-B6B7-0F1695F2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A3E3-3FFA-4D44-90F1-85E99336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3D8-D4A7-4FEF-81B2-3E3DB824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F270-A757-41C7-B24B-30254299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C10-D338-4565-A6EA-35DC8BA6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DE9D-414B-407E-A182-3DE5751C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28B-F67B-4D0B-86A8-A818DDB0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9CA-6337-4B28-8749-23CC5630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D32C-AFE8-415A-8DFB-5E2A6F6D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8EB5-A035-42ED-A988-190478B6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8794-F506-423C-A2B9-4442757AFB4E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rcera Clase 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mbios epidemiológicos. Indicadores. Análisis de población por sexo y 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, pausa,  taller (evaluación par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ños de Vida Potencial Perdidos (AVPP) (AVISA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imación de la cantidad de años de vida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ue se pierden por efecto de la muerte prematur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iderada como evento evitable. Se obt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finiendo un límite potencial promedi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80 años de edad, en este caso) y calculando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ferencia entre la edad a la que ocurrió 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función y ese lím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nsición epidem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96360" cy="4896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el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rrelato epidemiológico de la teoría demográ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pi: acerca de,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mos: gente,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gía: estudio 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ntiende que desde un estadio inicial (etapa 1-2) dónde hay una preponderancia de población joven, con baja esperanza de vida, hay por tanto, predominio de enfermedades infectocontagiosas sobre las EC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nsición epidem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medida que la población envejece (etapas 3 y 4), modernización mediante (desarrollo, protección social, etc,),aumenta la esperanza de vida y comienzan a manifestarse ECNT. Paralelamente, y debido al aumento del nivel de vida e intervenciones sanitarias, disminuyen las infectocintag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í, en Chile, las principales causas de muerte son las cardiovasculares (HTA, IAM, Obesidad, etc), Cánceres (estudios de Wilkinson muestran co-relación con stress, S. inmune) y accidentes de tránsito (alcoholes e ileg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uesta nacional de salud , 2003. (http://epi.minsal.cl/epi/html/invest/ENS/ENS.h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457200" y="1824120"/>
            <a:ext cx="8229600" cy="4476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fil epidemiológico chileno, actu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39640" y="199872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levancia tiene el grupo de enfermedades cardiovasculares, que muestra que más de la mitad de la población adulta chilena tiene un riesgo cardiovascular alto o muy alto, con altas tasas de hipertensión, sobrepeso y obesidad, dislipidemia y tabaqu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as enfermedades destacables por su frecuencia y gravedad potencial son: depresión, función renal disminuida y la enfermedad respiratoria crónica que afecta a 1 de cada 5 adulto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S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fil epidemiológico chileno, año 200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250920" y="1658880"/>
            <a:ext cx="8708760" cy="4075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885080" cy="5889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poblaciones se estratifican porque hombres y mujeres mueren  y enferman de diferentes causas, de manera que las decisiones políticas (con P) deben ser tomadas con relación a este comport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acen más hombres que mujeres. Mueren más hombres a todas las e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speranza de vida (tiempo promedio de vida por habitante de una población es mayor en hombres que en muje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y enfermedades propias de los hombres, como cáncer de próstata, testículo y otros de mujeres: CaCu, Utero, mama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y enfermedades predominantemente de hombres: cardiovasculares, tabaquismo, alcoholismo y otras de mujeres: Síndrome de Crohn, colitis ulcerosa, jaqueca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187280" y="103320"/>
            <a:ext cx="6913800" cy="6754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6138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ayor implicancia es que da pie a pensar en la inequidad de género y sus consecuencias en la salud de la pobl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raje desde programa de la mujer, a programa de salud sexual y reprodu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ejor manera de expresar sintéticamente estos cambios son las pirámides pobla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000000"/>
                </a:solidFill>
                <a:latin typeface="Arial"/>
              </a:rPr>
              <a:t>Descanso 10 M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 regr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ormar grupos de 2-3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entar los casos que expondrá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cuerdo: actividad eval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07280" cy="3861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lique los cambios epidemiológicos producidos en Chile en los últimos 20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Actuales: Distribución de la población chilena según sexo y edad, proyecció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038480" y="6262560"/>
            <a:ext cx="502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uente: CEPAL/CELADE: Boletín Demográfico. Especial Fecund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62871188"/>
          <p:cNvPicPr/>
          <p:nvPr/>
        </p:nvPicPr>
        <p:blipFill>
          <a:blip r:embed="rId1"/>
          <a:stretch/>
        </p:blipFill>
        <p:spPr>
          <a:xfrm>
            <a:off x="1403280" y="1433520"/>
            <a:ext cx="6397560" cy="4803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Mortalidad se refiere a las muertes producidas en una población, en un período determi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morbilidad se refiere a las personas que enferman, lesionan o discapacitan en una población en un período de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24000" y="1483920"/>
            <a:ext cx="5400720" cy="693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NDICADORES VITALES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(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24000" y="2788920"/>
            <a:ext cx="6553440" cy="2320920"/>
          </a:xfrm>
          <a:prstGeom prst="rect">
            <a:avLst/>
          </a:prstGeom>
          <a:solidFill>
            <a:srgbClr val="ffcc99"/>
          </a:solidFill>
          <a:ln w="19080">
            <a:solidFill>
              <a:srgbClr val="bbe0e3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Natalidad (por 1.000 hab.)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14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ortalidad general (por 1.000 hab.)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5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ortalidad infantil (por 1.000 NV.) 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7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ortalidad materna (por 100.000 NV.)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19.8</a:t>
            </a:r>
            <a:r>
              <a:rPr b="0" lang="en-GB" sz="1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333360"/>
            <a:ext cx="226836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asa de incidenci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el número de personas que contraen una enfermedad durante un determinado período de tiempo por cada 1.000 habitantes expuestos al ries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8360" y="3795840"/>
            <a:ext cx="8207280" cy="2081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asa de prevalenci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es el número de personas que padecen de una enfermedad determinada en un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unto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determinado de tiempo por cada 1.000 habitantes. Esta tasa incluye todos los casos conocidos que no han resultado en la muerte, la cura, o la remisión, así como casos nuevos que se estén desarrollando durante ese período especí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095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 de preval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medición se hace al final de 1997. (un período de tiempo acotado). Equivale a una “fotografí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763040" cy="171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 de casos: N° de casos reportados de una enfermedad por 100,000 personas en un año. (tipo de tasa de incidencia que observa el repor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 de Letalidad: proporción de personas que contraen la enfermedad y mueren debido a ella en u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eriodo determi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539640" y="3884760"/>
            <a:ext cx="7907400" cy="2208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ergio Sánchez</cp:lastModifiedBy>
  <dcterms:modified xsi:type="dcterms:W3CDTF">2010-08-23T23:49:28Z</dcterms:modified>
  <cp:revision>55</cp:revision>
  <dc:subject/>
  <dc:title>Leopoldo María Panero: biografía</dc:title>
</cp:coreProperties>
</file>