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6481-A570-472E-90E4-E262F836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DA1-833A-42D5-AABC-BAA050E7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07F-881B-4930-B12F-0D4DBE8F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7FC-120A-4C5E-9132-7023EF83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C1F-8D95-4D22-8AA8-B71184E2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03E-7563-410A-96B6-C017DFDA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34E-2BAC-461E-8315-66F5D5BC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925-B995-47FA-8374-FF13481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6E5-3504-47B3-90D8-DA479D6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47F-CF36-4B09-9AA5-0F70DF93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B4F-887C-405E-A19C-CF895CE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EA6-E205-47DB-955D-B2153A7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ABF-A207-4220-BF39-3210AF6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263-0E0A-448E-8C14-E1FE642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744-0782-484D-BB7D-C8072A535DD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5080" cy="588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que los cambios epidemiológicos producidos en Chile en los últimos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Actuales: Distribución de la población chilena según sexo y edad, proyecció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038480" y="626256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CEPAL/CELADE: Boletín Demográfico. Especial Fecund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2871188"/>
          <p:cNvPicPr/>
          <p:nvPr/>
        </p:nvPicPr>
        <p:blipFill>
          <a:blip r:embed="rId1"/>
          <a:stretch/>
        </p:blipFill>
        <p:spPr>
          <a:xfrm>
            <a:off x="1403280" y="1433520"/>
            <a:ext cx="639756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4000" y="1483920"/>
            <a:ext cx="5400720" cy="69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DICADORES VITAL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24000" y="2788920"/>
            <a:ext cx="6553440" cy="2320920"/>
          </a:xfrm>
          <a:prstGeom prst="rect">
            <a:avLst/>
          </a:prstGeom>
          <a:solidFill>
            <a:srgbClr val="ffcc99"/>
          </a:solidFill>
          <a:ln w="19080">
            <a:solidFill>
              <a:srgbClr val="bbe0e3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alidad (por 1.000 hab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general (por 1.000 hab.)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infantil (por 1.000 NV.)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materna (por 100.000 NV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.8</a:t>
            </a: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2268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ánchez</cp:lastModifiedBy>
  <dcterms:modified xsi:type="dcterms:W3CDTF">2010-08-23T23:49:28Z</dcterms:modified>
  <cp:revision>55</cp:revision>
  <dc:subject/>
  <dc:title>Leopoldo María Panero: biografía</dc:title>
</cp:coreProperties>
</file>