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D0E-99D7-4CD4-83F5-0774C6D0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D3BC-A4F1-4C21-9927-4AB69B2B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B2D-A84A-4AE9-BEDF-4D38DC3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888-0366-4CF6-ABDF-FF20C748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116-E4D3-4B44-8A78-6B63C366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3CB-D942-4D9F-8798-0A63DD9F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6F2-E7E9-4688-BB51-4E0F0503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7A4-ADCF-4B9C-A982-8492CA8E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2D1-8A15-4FFA-A5E1-E3C8F859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4A5-8C5C-48B0-9A9A-7720CD4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3C3-D0E1-4C31-AD13-DBEE0E9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B39-4998-44D0-B779-B34869F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79F-8DBF-4B4D-8A41-97E2089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427-CCA7-4563-8DD6-0923924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637-F714-401C-9FE6-DEA74A4CAEB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5080" cy="588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que los cambios epidemiológicos producidos en Chile en los últimos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Actuales: Distribución de la población chilena según sexo y edad, proyecció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038480" y="626256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CEPAL/CELADE: Boletín Demográfico. Especial Fecund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2871188"/>
          <p:cNvPicPr/>
          <p:nvPr/>
        </p:nvPicPr>
        <p:blipFill>
          <a:blip r:embed="rId1"/>
          <a:stretch/>
        </p:blipFill>
        <p:spPr>
          <a:xfrm>
            <a:off x="1403280" y="1433520"/>
            <a:ext cx="639756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5400720" cy="69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DICADORES VITAL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0" y="2788920"/>
            <a:ext cx="6553440" cy="2320920"/>
          </a:xfrm>
          <a:prstGeom prst="rect">
            <a:avLst/>
          </a:prstGeom>
          <a:solidFill>
            <a:srgbClr val="ffcc99"/>
          </a:solidFill>
          <a:ln w="19080">
            <a:solidFill>
              <a:srgbClr val="bbe0e3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alidad (por 1.000 hab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general (por 1.000 hab.)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infantil (por 1.000 NV.)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materna (por 100.000 NV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.8</a:t>
            </a: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2268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ánchez</cp:lastModifiedBy>
  <dcterms:modified xsi:type="dcterms:W3CDTF">2010-08-23T23:49:28Z</dcterms:modified>
  <cp:revision>55</cp:revision>
  <dc:subject/>
  <dc:title>Leopoldo María Panero: biografía</dc:title>
</cp:coreProperties>
</file>