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E01B-470A-4BC3-945A-C9973FD8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04CE-0439-432E-9715-974AD9003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143000" y="68580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A1C-4F2D-4AEA-8228-4826F618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159-4A8B-471C-B82F-89F6D065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F26-64A9-4E58-9ACB-5FCD1B06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AAD-7123-4CE3-ACEA-20197AEA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0CB-3860-453F-977B-9BAAC669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C5C-81EB-4BB5-B24E-722918BC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D94-352A-4707-BA4C-F523D4CC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A22-CBE9-4572-9992-7952A049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643-7109-41A5-A618-8D94E6DA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DFE-63A2-4EF4-B739-1A29E66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15B-9478-4CAE-9C44-B1E8A55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7DB-5B1A-4E9D-B704-2A8C4AA5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028D-9D57-400D-A835-F75E470CFF9B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s epidemiológicos. Indicadores. Análisis de población por sexo y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ños de Vida Potencial Perdidos (AVPP) (AVIS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imación de la cantidad de años de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se pierden por efecto de la muerte prem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da como evento evitable. Se obt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iniendo un límite potencial promedi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80 años de edad, en este caso) y calculando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la edad a la que ocurrió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unción y ese lí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rrelato epidemiológico de la teoría demo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: acerca de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os: gente,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ía: estudio 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ntiende que desde un estadio inicial (etapa 1-2) dónde hay una preponderancia de población joven, con baja esperanza de vida, hay por tanto, predominio de enfermedades infectocontagiosas sobre las EC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edida que la población envejece (etapas 3 y 4), modernización mediante (desarrollo, protección social, etc,),aumenta la esperanza de vida y comienzan a manifestarse ECNT. Paralelamente, y debido al aumento del nivel de vida e intervenciones sanitarias, disminuyen las infectocintag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í, en Chile, las principales causas de muerte son las cardiovasculares (HTA, IAM, Obesidad, etc), Cánceres (estudios de Wilkinson muestran co-relación con stress, S. inmune) y accidentes de tránsito (alcoholes e ileg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 nacional de salud , 2003. (http://epi.minsal.cl/epi/html/invest/ENS/ENS.h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il epidemiológico chileno,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19987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levancia tiene el grupo de enfermedades cardiovasculares, que muestra que más de la mitad de la población adulta chilena tiene un riesgo cardiovascular alto o muy alto, con altas tasas de hipertensión, sobrepeso y obesidad, dislipidemia y tabaqu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enfermedades destacables por su frecuencia y gravedad potencial son: depresión, función renal disminuida y la enfermedad respiratoria crónica que afecta a 1 de cada 5 adult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il epidemiológico chileno, año 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250920" y="1658880"/>
            <a:ext cx="8708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85080" cy="5889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poblaciones se estratifican porque hombres y mujeres mueren  y enferman de diferentes causas, de manera que las decisiones políticas (con P) deben ser tomadas con relación a este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cen más hombres que mujeres. Mueren más hombres a todas las 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speranza de vida (tiempo promedio de vida por habitante de una población es mayor en hombres que en muj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opias de los hombres, como cáncer de próstata, testículo y otros de mujeres: CaCu, Utero, mam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edominantemente de hombres: cardiovasculares, tabaquismo, alcoholismo y otras de mujeres: Síndrome de Crohn, colitis ulcerosa, jaqueca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187280" y="103320"/>
            <a:ext cx="6913800" cy="6754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138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ayor implicancia es que da pie a pensar en la inequidad de género y sus consecuencias en la salud de la pob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raje desde programa de la mujer, a programa d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ejor manera de expresar sintéticamente estos cambios son las pirámides pobl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07280" cy="3861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que los cambios epidemiológicos producidos en Chile en los últimos 2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Actuales: Distribución de la población chilena según sexo y edad, proyecció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038480" y="626256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nte: CEPAL/CELADE: Boletín Demográfico. Especial Fecund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62871188"/>
          <p:cNvPicPr/>
          <p:nvPr/>
        </p:nvPicPr>
        <p:blipFill>
          <a:blip r:embed="rId1"/>
          <a:stretch/>
        </p:blipFill>
        <p:spPr>
          <a:xfrm>
            <a:off x="1403280" y="1433520"/>
            <a:ext cx="6397560" cy="4803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talidad se refiere a las muertes producidas en una población, en un períod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bilidad se refiere a las personas que enferman, lesionan o discapacitan en una población en un perí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4000" y="1483920"/>
            <a:ext cx="5400720" cy="693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DICADORES VITALE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24000" y="2788920"/>
            <a:ext cx="6553440" cy="2320920"/>
          </a:xfrm>
          <a:prstGeom prst="rect">
            <a:avLst/>
          </a:prstGeom>
          <a:solidFill>
            <a:srgbClr val="ffcc99"/>
          </a:solidFill>
          <a:ln w="19080">
            <a:solidFill>
              <a:srgbClr val="bbe0e3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atalidad (por 1.000 hab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4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general (por 1.000 hab.)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infantil (por 1.000 NV.)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7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materna (por 100.000 NV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9.8</a:t>
            </a:r>
            <a:r>
              <a:rPr b="0" lang="en-GB" sz="1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333360"/>
            <a:ext cx="226836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asa de incide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el número de personas que contraen una enfermedad durante un determinado período de tiempo por cada 1.000 habitantes expuestos a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82072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el número de personas que padecen de una enfermedad determinada en un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u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terminado de tiempo por cada 1.000 habitantes. Esta tasa incluye todos los casos conocidos que no han resultado en la muerte, la cura, o la remisión, así como casos nuevos que se estén desarrollando durante ese período especí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medición se hace al final de 1997. (un período de tiempo acotado). Equivale a una “fotograf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630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casos: N° de casos reportados de una enfermedad por 100,000 personas en un año. (tipo de tasa de incidencia que observa el re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Letalidad: proporción de personas que contraen la enfermedad y mueren debido a ella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iodo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39640" y="3884760"/>
            <a:ext cx="79074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ergio Sánchez</cp:lastModifiedBy>
  <dcterms:modified xsi:type="dcterms:W3CDTF">2010-08-23T23:49:28Z</dcterms:modified>
  <cp:revision>55</cp:revision>
  <dc:subject/>
  <dc:title>Leopoldo María Panero: biografía</dc:title>
</cp:coreProperties>
</file>