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AE6-D776-4A4E-8923-9D7EB06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007-DDE6-4DA3-AEDF-C68AF0E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11D-B4F7-42D4-814D-33856170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D23-9AF7-4C78-9652-AD66218B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B14-F949-4596-932C-4805F565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89-49AC-47C0-9DD5-EC3C10D1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9C9-DB6E-4C41-9998-83C51D1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32E-369E-4957-A124-D2C7E1C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46E-6AC9-41E4-A62E-67E389D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F77-FDE5-4F74-ADF6-8E0EEC5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769-8567-4CBB-8874-47EE619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0A5-04CC-4434-B075-51E942C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A82-AFC5-4EB1-9BCC-DFB1CBD2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anchez</cp:lastModifiedBy>
  <dcterms:modified xsi:type="dcterms:W3CDTF">2009-08-09T20:08:13Z</dcterms:modified>
  <cp:revision>42</cp:revision>
  <dc:subject/>
  <dc:title>Leopoldo María Panero: biografía</dc:title>
</cp:coreProperties>
</file>