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31DF-8BB2-4A21-9284-2EB9443A0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D8AA-FDE3-47EA-B449-BE76814E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AEAA-AFED-4D34-B811-E241A21C9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CA2F-C3BA-4734-9487-1BCDAE784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6268-8196-4854-8718-41025035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1850-0C8F-4BD8-8A10-AAA89361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56B9-F527-429B-979D-9B8AB8C5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8403-A7B0-4ED0-AB1A-B073FCCB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00BF-076D-4E7E-BDD2-46639326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389B-46C5-457D-AD23-C4F833C3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B0FA-54B8-4A27-9BDA-4EB519E2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12A8-A582-4AFA-A1EB-B4E4CF4C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3106-E772-4DB9-8338-7E043C4A6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64360" cy="1152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gunda Clas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Sergio Sánchez Bu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Contenidos: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nsición demográf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ase expositiva, pausa,  taller (evaluación parcial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200" spc="-1" strike="noStrike">
                <a:solidFill>
                  <a:srgbClr val="000000"/>
                </a:solidFill>
                <a:latin typeface="Arial"/>
              </a:rPr>
              <a:t>Descanso 10 Mi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 regre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r grupos de 2-3 perso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entar los casos que expondrá el profe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uerdo: actividad evalu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216000"/>
            <a:ext cx="8207280" cy="83664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Describe y comenta los componentes demográficos de las tres posibles trayectorias futuras del tamaño poblacion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7488360" cy="56422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216000"/>
            <a:ext cx="8207280" cy="83664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Describe y comenta los componentes demográficos de las tres posibles trayectorias futuras del tamaño poblacion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oría Demográ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tro etapas (sucesivas en el tiempo)  explican los cambios del tamaño de una pobl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a Natalidad, Alta mort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a Natalidad, Mortalidad a la b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alidad a la baja , baja Mort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ja Natalidad, Baja Mort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ción Demográ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explica mediante el análisis de las tasas de Natalidad, Morta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 consecuencias se entienden mediante el resultado o Crecimiento Natural de la población (CN=N-M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apa 1: Crecimiento nulo o esc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apa 2: Crecimiento Al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apa 3: Menor cr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apa 4: Escaso cr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ción Demográfica-Cálculo Numé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79200" indent="0">
              <a:spcBef>
                <a:spcPts val="799"/>
              </a:spcBef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ecuación compensado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0120" y="2852640"/>
            <a:ext cx="793260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095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a de crecimiento Na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centaje neto de cambio en el tamaño poblacional, en un añ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20640" y="2492280"/>
            <a:ext cx="8272440" cy="30974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a de Creci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centaje de cambio en una población resultante de los flujos migratorios y los cambios en los patrones de natalidad y mortalidad ( en un año, respecto a la población base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4960" y="3429000"/>
            <a:ext cx="8072640" cy="19749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os a conside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80360" cy="4896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ctualmente la población mundial crece en aproximadamente 90 millones de personas al añ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blación mundial total por países agrupados según el ingreso, 1980, 1998, 2015 (www.worldbank.or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79640" y="2708280"/>
            <a:ext cx="5113440" cy="27464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os a Conside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tiempo de duplicación , es el parámetro que permite conocer el tiempo en que una determinada población se duplicaría a la tasa de crecimiento act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población con una tasa de crecimiento del 1% se demoraría aproximadamente 70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%, 35; 3% 23,3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puede aproximar a su calculo, dividiendo 70 por la tasa de natalida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9760" y="4797360"/>
            <a:ext cx="8123040" cy="8254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os a Conside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a teoría es una mirada moderna sobre la realidad sociopolítica del mun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éase: Notestein, Frank. 1953. "Economic Problems of Population Change". En Proceedings of the Eighth International Conference of Agricultural Economists, págs. 13 a 31. Londres: Oxford University 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estructura sobre el concepto de revolución indus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tiene por ejemplar la evolución de las poblaciones del mundo desarrollado (Caso de Finland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gunos dicen que hay una quinta etapa, caracterizada por baja natalidad y mortalidad con crecimiento que podría llegar a ser nega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transforma en un problema político, hay que desarrollar polítcias pro-crecimiento pobl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4:54:28Z</dcterms:created>
  <dc:creator>Sergio Sanchez</dc:creator>
  <dc:description/>
  <dc:language>en-US</dc:language>
  <cp:lastModifiedBy>Sergio Sanchez</cp:lastModifiedBy>
  <dcterms:modified xsi:type="dcterms:W3CDTF">2009-08-09T20:08:13Z</dcterms:modified>
  <cp:revision>42</cp:revision>
  <dc:subject/>
  <dc:title>Leopoldo María Panero: biografía</dc:title>
</cp:coreProperties>
</file>