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A23-E2D5-488A-850A-988525D3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E1A-8709-49F7-A0EE-8539EDEC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C03-9B16-4A77-AC12-3EBBE00A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C92-6F16-439F-BC8B-AA93FF88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483-3ECC-4D8F-BAEE-C06F6DB8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0D0-9FD3-45A6-A777-56DAA014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D76-1E0C-4DE4-9083-5817949C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64A-D023-4989-B32F-C7A445EF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9D2-6C45-47E4-91F3-423F255B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03B-AE75-4CCD-8F37-855E7686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ABB-F137-49A8-B120-20F08D9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C09-493B-4E91-975D-81630FC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1FD4-1812-4699-8F91-561B18DED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ición demográ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488360" cy="564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ía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tro etapas (sucesivas en el tiempo)  explican los cambios del tamaño de una pobl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Alt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Mortalidad a l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dad a la baja 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 Natalidad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xplica mediante el análisis de las tasas de Natalidad, Mor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 consecuencias se entienden mediante el resultado o Crecimiento Natural de la población (CN=N-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1: Crecimiento nulo o es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: Crecimiento A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3: Menor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4: Escaso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-Cálculo Numé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cuación compensad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0120" y="2852640"/>
            <a:ext cx="7932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a de crecimient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neto de cambio en el tamaño poblacional, en un añ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0640" y="2492280"/>
            <a:ext cx="827244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a de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centaje de cambio en una población resultante de los flujos migratorios y los cambios en los patrones de natalidad y mortalidad ( en un año, respecto a la población bas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4960" y="3429000"/>
            <a:ext cx="807264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mente la población mundial crece en aproximadamente 90 millones de personas al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lación mundial total por países agrupados según el ingreso, 1980, 1998, 2015 (www.worldbank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1344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iempo de duplicación , es el parámetro que permite conocer el tiempo en que una determinada población se duplicaría a la tasa de crecimiento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oblación con una tasa de crecimiento del 1% se demoraría aproximadamente 7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, 35; 3% 23,3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proximar a su calculo, dividiendo 70 por la tasa de natal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9760" y="4797360"/>
            <a:ext cx="812304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teoría es una mirada moderna sobre la realidad sociopolítica d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ase: Notestein, Frank. 1953. "Economic Problems of Population Change". En Proceedings of the Eighth International Conference of Agricultural Economists, págs. 13 a 31. Londres: Oxford University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structura sobre el concepto de revolución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iene por ejemplar la evolución de las poblaciones del mundo desarrollado (Caso de Finlan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os dicen que hay una quinta etapa, caracterizada por baja natalidad y mortalidad con crecimiento que podría llegar a ser neg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ransforma en un problema político, hay que desarrollar polítcias pro-crecimiento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ergio Sanchez</cp:lastModifiedBy>
  <dcterms:modified xsi:type="dcterms:W3CDTF">2009-08-09T20:08:13Z</dcterms:modified>
  <cp:revision>42</cp:revision>
  <dc:subject/>
  <dc:title>Leopoldo María Panero: biografía</dc:title>
</cp:coreProperties>
</file>