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31532-26EB-449C-8B8C-675276060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A9F2F-32A2-4380-B9F1-2A34B774B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94AF7-7FA3-4FEE-BF32-37AC2E97B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9A94B-C2CB-4DFF-B5A7-B935708EF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53D8A-0DF3-487E-9207-A4AF46B86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2E08C-49F7-43BF-865B-C22E13C81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73C20-13CE-452E-AE55-2438E0405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91078-F91C-4CCC-A441-F7A353BA0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744A1-0FE9-4273-8673-3CB227A82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BA6AC-4C65-4656-8B44-A8C88A439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F8E64-9C09-461C-8399-47ABA5235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485D8-23C1-43EF-9B1E-E5681F072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B647-FCFC-4783-A25C-920D7E2A7E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60280"/>
            <a:ext cx="8064360" cy="1152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unda Clase </a:t>
            </a:r>
            <a:br>
              <a:rPr sz="3200"/>
            </a:br>
            <a:r>
              <a:rPr b="0" lang="en-US" sz="3200" spc="-1" strike="noStrike">
                <a:solidFill>
                  <a:srgbClr val="000000"/>
                </a:solidFill>
                <a:latin typeface="Arial"/>
              </a:rPr>
              <a:t>Dr. Sergio Sánchez Bustos</a:t>
            </a:r>
            <a:endParaRPr b="0" lang="en-US" sz="3200" spc="-1" strike="noStrike">
              <a:solidFill>
                <a:srgbClr val="000000"/>
              </a:solidFill>
              <a:latin typeface="Arial"/>
            </a:endParaRPr>
          </a:p>
        </p:txBody>
      </p:sp>
      <p:sp>
        <p:nvSpPr>
          <p:cNvPr id="42"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Contenidos: </a:t>
            </a:r>
            <a:r>
              <a:rPr b="0" lang="es-ES" sz="3200" spc="-1" strike="noStrike">
                <a:solidFill>
                  <a:srgbClr val="000000"/>
                </a:solidFill>
                <a:latin typeface="Arial"/>
              </a:rPr>
              <a:t>Elementos del análisis poblacional, tasas, razones, proporciones, tablas, pirám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expositiva, pausa,  taller (evaluación parcial).</a:t>
            </a:r>
            <a:endParaRPr b="0" lang="en-US" sz="3200" spc="-1" strike="noStrike">
              <a:solidFill>
                <a:srgbClr val="000000"/>
              </a:solidFill>
              <a:latin typeface="Arial"/>
            </a:endParaRPr>
          </a:p>
        </p:txBody>
      </p:sp>
    </p:spTree>
  </p:cSld>
  <p:transition spd="slow">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599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200" spc="-1" strike="noStrike">
                <a:solidFill>
                  <a:srgbClr val="000000"/>
                </a:solidFill>
                <a:latin typeface="Arial"/>
              </a:rPr>
              <a:t>Descanso 10 Min</a:t>
            </a:r>
            <a:endParaRPr b="0" lang="en-US" sz="7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fontScale="97000"/>
          </a:bodyPr>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 regreso:</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r grupos de 2-3 persona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ntar los casos que expondrá el profesor.</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erdo: actividad evaluada</a:t>
            </a:r>
            <a:endParaRPr b="0" lang="en-US" sz="3200" spc="-1" strike="noStrike">
              <a:solidFill>
                <a:srgbClr val="000000"/>
              </a:solidFill>
              <a:latin typeface="Arial"/>
            </a:endParaRPr>
          </a:p>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endParaRPr b="0" lang="en-US" sz="6000" spc="-1" strike="noStrike">
              <a:solidFill>
                <a:srgbClr val="000000"/>
              </a:solidFill>
              <a:latin typeface="Arial"/>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216000"/>
            <a:ext cx="8207280" cy="83664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Explique la pirámide siguiente:</a:t>
            </a:r>
            <a:br>
              <a:rPr sz="2800"/>
            </a:br>
            <a:endParaRPr b="0" lang="en-US" sz="2800" spc="-1" strike="noStrike">
              <a:solidFill>
                <a:srgbClr val="000000"/>
              </a:solidFill>
              <a:latin typeface="Arial"/>
            </a:endParaRPr>
          </a:p>
        </p:txBody>
      </p:sp>
      <p:sp>
        <p:nvSpPr>
          <p:cNvPr id="61" name="PlaceHolder 2"/>
          <p:cNvSpPr>
            <a:spLocks noGrp="1"/>
          </p:cNvSpPr>
          <p:nvPr>
            <p:ph/>
          </p:nvPr>
        </p:nvSpPr>
        <p:spPr>
          <a:xfrm>
            <a:off x="323640" y="1267920"/>
            <a:ext cx="8373960" cy="5185080"/>
          </a:xfrm>
          <a:prstGeom prst="rect">
            <a:avLst/>
          </a:prstGeom>
          <a:noFill/>
          <a:ln w="19080">
            <a:solidFill>
              <a:srgbClr val="ffff00"/>
            </a:solidFill>
            <a:miter/>
          </a:ln>
        </p:spPr>
        <p:txBody>
          <a:bodyPr lIns="99360" rIns="99360" tIns="56160" bIns="56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 descr=""/>
          <p:cNvPicPr/>
          <p:nvPr/>
        </p:nvPicPr>
        <p:blipFill>
          <a:blip r:embed="rId1"/>
          <a:stretch/>
        </p:blipFill>
        <p:spPr>
          <a:xfrm>
            <a:off x="539640" y="2060640"/>
            <a:ext cx="7993080" cy="3882960"/>
          </a:xfrm>
          <a:prstGeom prst="rect">
            <a:avLst/>
          </a:prstGeom>
          <a:ln w="0">
            <a:noFill/>
          </a:ln>
        </p:spPr>
      </p:pic>
    </p:spTree>
  </p:cSld>
  <p:transition spd="slow">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xplique la siguiente pirámide, contraste su interpretación con ( 1 )</a:t>
            </a:r>
            <a:endParaRPr b="0" lang="en-US" sz="2400" spc="-1" strike="noStrike">
              <a:solidFill>
                <a:srgbClr val="000000"/>
              </a:solidFill>
              <a:latin typeface="Arial"/>
            </a:endParaRPr>
          </a:p>
        </p:txBody>
      </p:sp>
      <p:pic>
        <p:nvPicPr>
          <p:cNvPr id="64" name="" descr=""/>
          <p:cNvPicPr/>
          <p:nvPr/>
        </p:nvPicPr>
        <p:blipFill>
          <a:blip r:embed="rId1"/>
          <a:stretch/>
        </p:blipFill>
        <p:spPr>
          <a:xfrm>
            <a:off x="673200" y="2092320"/>
            <a:ext cx="7859520" cy="3929040"/>
          </a:xfrm>
          <a:prstGeom prst="rect">
            <a:avLst/>
          </a:prstGeom>
          <a:ln w="0">
            <a:noFill/>
          </a:ln>
        </p:spPr>
      </p:pic>
    </p:spTree>
  </p:cSld>
  <p:transition spd="slow">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Explique las implicancias que este tipo de pirámide poblacional genera en la estructura etárea futura.</a:t>
            </a:r>
            <a:endParaRPr b="0" lang="en-US" sz="2400" spc="-1" strike="noStrike">
              <a:solidFill>
                <a:srgbClr val="000000"/>
              </a:solidFill>
              <a:latin typeface="Arial"/>
            </a:endParaRPr>
          </a:p>
        </p:txBody>
      </p:sp>
      <p:pic>
        <p:nvPicPr>
          <p:cNvPr id="66" name="" descr=""/>
          <p:cNvPicPr/>
          <p:nvPr/>
        </p:nvPicPr>
        <p:blipFill>
          <a:blip r:embed="rId1"/>
          <a:stretch/>
        </p:blipFill>
        <p:spPr>
          <a:xfrm>
            <a:off x="457200" y="1706400"/>
            <a:ext cx="8229600" cy="4311720"/>
          </a:xfrm>
          <a:prstGeom prst="rect">
            <a:avLst/>
          </a:prstGeom>
          <a:ln w="0">
            <a:noFill/>
          </a:ln>
        </p:spPr>
      </p:pic>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fía: Instrumentos de medición</a:t>
            </a:r>
            <a:endParaRPr b="0" lang="en-US" sz="2400" spc="-1" strike="noStrike">
              <a:solidFill>
                <a:srgbClr val="000000"/>
              </a:solidFill>
              <a:latin typeface="Arial"/>
            </a:endParaRPr>
          </a:p>
        </p:txBody>
      </p:sp>
      <p:sp>
        <p:nvSpPr>
          <p:cNvPr id="44"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umeración: </a:t>
            </a:r>
            <a:r>
              <a:rPr b="0" lang="en-US" sz="2000" spc="-1" strike="noStrike">
                <a:solidFill>
                  <a:srgbClr val="000000"/>
                </a:solidFill>
                <a:latin typeface="Arial"/>
              </a:rPr>
              <a:t>El número absoluto de una población o de cualquier evento demográfico que ocurre en una zona específica en un determinado período de tiempo. (Por ejemplo, hubo 1.200.500 nacidos vivos en Japón en 1997.) Las cifras brutas de los eventos demográficos forman la base para todo los demás análisis y estudios estadístico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a: </a:t>
            </a:r>
            <a:r>
              <a:rPr b="0" lang="en-US" sz="2000" spc="-1" strike="noStrike">
                <a:solidFill>
                  <a:srgbClr val="000000"/>
                </a:solidFill>
                <a:latin typeface="Arial"/>
              </a:rPr>
              <a:t>Es la frecuencia de los eventos demográficos acaecidos en una población durante un determinado período de tiempo (un año) dividida entre la población “a riesgo” de sufrir el evento durante ese período de tiempo. Las tasas indican cuán común es que suceda algún evento. (Por ejemplo, en Papua Nueva Guinea hubo 34 nacidos vivos por cada 1.000 habitantes durante 1997.) Las tasas brutas son tasas calculadas para una población completa. Las tasas específicas son tasas computadas para un subgrupo específico, normalmente la población que más se aproxima a la población “a riesgo” de que sufra el evento. (Por ejemplo, la tasa global de fecundidad es el número de nacimientos por cada 1.000 mujeres entre las edades de 15 a 49 años de edad.) Por lo tanto, pueden haber tasas por edad, sexo, raza, ocupación y así sucesivamente.</a:t>
            </a:r>
            <a:endParaRPr b="0" lang="en-US" sz="2000" spc="-1" strike="noStrike">
              <a:solidFill>
                <a:srgbClr val="000000"/>
              </a:solidFill>
              <a:latin typeface="Arial"/>
            </a:endParaRPr>
          </a:p>
        </p:txBody>
      </p:sp>
    </p:spTree>
  </p:cSld>
  <p:transition spd="slow">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fía: Instrumentos de medición</a:t>
            </a:r>
            <a:endParaRPr b="0" lang="en-US" sz="2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zón: </a:t>
            </a:r>
            <a:r>
              <a:rPr b="0" lang="en-US" sz="1800" spc="-1" strike="noStrike">
                <a:solidFill>
                  <a:srgbClr val="000000"/>
                </a:solidFill>
                <a:latin typeface="Arial"/>
              </a:rPr>
              <a:t>Es la relación entre un subgrupo de población y la población total u</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ro subgrupo; es decir, un subgrupo dividido por otro. (Por ejemplo,</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razón de sexo en Irán en 1996 era de 103 hombres por cada 100</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jeres.)</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rción: </a:t>
            </a:r>
            <a:r>
              <a:rPr b="0" lang="en-US" sz="1800" spc="-1" strike="noStrike">
                <a:solidFill>
                  <a:srgbClr val="000000"/>
                </a:solidFill>
                <a:latin typeface="Arial"/>
              </a:rPr>
              <a:t>Es la relación entre un subgrupo de población y toda la población; es decir, un subgrupo de población dividido por toda la población. (Por ejemplo, la proporción de la población de Malasia que se clasifica como urbana era .57 o el 57 por ciento.)</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ante:</a:t>
            </a:r>
            <a:r>
              <a:rPr b="0" lang="en-US" sz="1800" spc="-1" strike="noStrike">
                <a:solidFill>
                  <a:srgbClr val="000000"/>
                </a:solidFill>
                <a:latin typeface="Arial"/>
              </a:rPr>
              <a:t> Es un número arbitrario que no cambia (por ejemplo, 100, 1.000 ó 100.000) por el que pueden multiplicarse una tasa, razón, o proporción para expresar estas medidas en forma más comprensible. Por ejemplo, en Cuba hubo 0,0134 nacidos vivos por persona en 1996. Si se multiplica esta tasa por una constante (1.000) se obtiene el mismo resultado estadístico por cada 1.000 personas. Ésta es una forma más clara de expresar el mismo principio: hubo 13,4 nacidos vivos por cada 1.000 habitantes.</a:t>
            </a:r>
            <a:endParaRPr b="0" lang="en-US" sz="1800" spc="-1" strike="noStrike">
              <a:solidFill>
                <a:srgbClr val="000000"/>
              </a:solidFill>
              <a:latin typeface="Arial"/>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fía: Instrumentos de medición</a:t>
            </a:r>
            <a:endParaRPr b="0" lang="en-US" sz="2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79200" indent="0">
              <a:spcBef>
                <a:spcPts val="499"/>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horte: </a:t>
            </a:r>
            <a:r>
              <a:rPr b="0" lang="es-CL" sz="2000" spc="-1" strike="noStrike">
                <a:solidFill>
                  <a:srgbClr val="000000"/>
                </a:solidFill>
                <a:latin typeface="Arial"/>
              </a:rPr>
              <a:t>Una estadística que mide los eventos acaecidos a una cohorte (es decir, un grupo de personas que comparten una experiencia demográfica común) que se observa a través del tiempo. La cohorte utilizada más comunmente es la de nacimientos –las personas nacidas durante el mismo año o período. Otros tipos de  cohorte son la nupcialidad y la cohorte escolar.</a:t>
            </a:r>
            <a:endParaRPr b="0" lang="en-US" sz="2000" spc="-1" strike="noStrike">
              <a:solidFill>
                <a:srgbClr val="000000"/>
              </a:solidFill>
              <a:latin typeface="Arial"/>
            </a:endParaRPr>
          </a:p>
          <a:p>
            <a:pPr marL="79200" indent="0">
              <a:spcBef>
                <a:spcPts val="499"/>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9200" indent="0">
              <a:spcBef>
                <a:spcPts val="499"/>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edidas durante un Período:</a:t>
            </a:r>
            <a:r>
              <a:rPr b="0" lang="es-CL" sz="2000" spc="-1" strike="noStrike">
                <a:solidFill>
                  <a:srgbClr val="000000"/>
                </a:solidFill>
                <a:latin typeface="Arial"/>
              </a:rPr>
              <a:t>Una estadística que mide los eventos acaecidos a la totalidad o parte de una población durante un determinado período de tiempo. En efecto, esta medida “toma una instantánea” de la población. (Por ejemplo, la tasa de mortalidad para toda la población canadiense durante 1997 fue de 7 por cada 1.000.)</a:t>
            </a:r>
            <a:endParaRPr b="0" lang="en-US" sz="2000" spc="-1" strike="noStrike">
              <a:solidFill>
                <a:srgbClr val="000000"/>
              </a:solidFill>
              <a:latin typeface="Arial"/>
            </a:endParaRPr>
          </a:p>
        </p:txBody>
      </p:sp>
    </p:spTree>
  </p:cSld>
  <p:transition spd="slow">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s</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azón por sexo: </a:t>
            </a:r>
            <a:r>
              <a:rPr b="0" lang="en-US" sz="2000" spc="-1" strike="noStrike">
                <a:solidFill>
                  <a:srgbClr val="000000"/>
                </a:solidFill>
                <a:latin typeface="Arial"/>
              </a:rPr>
              <a:t>La razón por sexo es la relación entre el número de hombres y el de mujeres en una población dada, expresada normalmente como el número de hombres por cada 100 mujer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zón por dependencia de edad: </a:t>
            </a:r>
            <a:r>
              <a:rPr b="0" lang="en-US" sz="2000" spc="-1" strike="noStrike">
                <a:solidFill>
                  <a:srgbClr val="000000"/>
                </a:solidFill>
                <a:latin typeface="Arial"/>
              </a:rPr>
              <a:t>La razón de dependencia por edad es la razón de personas en edades en las que “dependen” (generalmente personas menores de 15 y mayores de 64 años de edad) de personas en edades “económicamente productivas” (entre 15 y 64 años de edad) en una población.</a:t>
            </a:r>
            <a:endParaRPr b="0" lang="en-US" sz="2000" spc="-1" strike="noStrike">
              <a:solidFill>
                <a:srgbClr val="000000"/>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rámide de</a:t>
            </a:r>
            <a:br>
              <a:rPr sz="2400"/>
            </a:br>
            <a:r>
              <a:rPr b="0" lang="en-US" sz="2400" spc="-1" strike="noStrike">
                <a:solidFill>
                  <a:srgbClr val="000000"/>
                </a:solidFill>
                <a:latin typeface="Arial"/>
              </a:rPr>
              <a:t>población</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 pirámide de población muestra gráficamente la composi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una población según la edad y el sexo. Las barras horizon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an los números o las proporciones de hombres a muje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cada grupo. La suma de todos los grupos clasificados según l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ad y el sexo dentro de la pirámide de población representa el 1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cien de la población. Es posible que las pirámides muestren l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upos por edades individuales o que muestren los datos en edades agrupadas</a:t>
            </a:r>
            <a:endParaRPr b="0" lang="en-US" sz="2000" spc="-1" strike="noStrike">
              <a:solidFill>
                <a:srgbClr val="000000"/>
              </a:solidFill>
              <a:latin typeface="Arial"/>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24000" y="168120"/>
            <a:ext cx="8248680" cy="6689880"/>
          </a:xfrm>
          <a:prstGeom prst="rect">
            <a:avLst/>
          </a:prstGeom>
          <a:ln w="0">
            <a:noFill/>
          </a:ln>
        </p:spPr>
      </p:pic>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os a considerar</a:t>
            </a:r>
            <a:endParaRPr b="0" lang="en-US" sz="2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by Boom: gran cantidad de nacimientos despu{es de la gu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inoeuma: año del caballo de fuego, perjudicial para el nacimiento de las mujeres. Según la superstición, las niñas nacidas durante un año de Hinoeuma, que se repite cada 60 años, tendrán mala suer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idente sino-japonés: guerra chino japonesa (1937-1945)</a:t>
            </a:r>
            <a:endParaRPr b="0" lang="en-US" sz="2400" spc="-1" strike="noStrike">
              <a:solidFill>
                <a:srgbClr val="000000"/>
              </a:solidFill>
              <a:latin typeface="Arial"/>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iramides Poblacionales</a:t>
            </a:r>
            <a:endParaRPr b="0" lang="en-US" sz="2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tanto las piramides se desarrollan segú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ectos soci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uerr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ectos culturales, creenci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ectos financieros</a:t>
            </a:r>
            <a:endParaRPr b="0" lang="en-US" sz="2400" spc="-1" strike="noStrike">
              <a:solidFill>
                <a:srgbClr val="000000"/>
              </a:solidFill>
              <a:latin typeface="Arial"/>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4:54:28Z</dcterms:created>
  <dc:creator>Sergio Sanchez</dc:creator>
  <dc:description/>
  <dc:language>en-US</dc:language>
  <cp:lastModifiedBy>Sergio Sanchez</cp:lastModifiedBy>
  <dcterms:modified xsi:type="dcterms:W3CDTF">2009-08-02T23:19:46Z</dcterms:modified>
  <cp:revision>34</cp:revision>
  <dc:subject/>
  <dc:title>Leopoldo María Panero: biografía</dc:title>
</cp:coreProperties>
</file>