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FD4-AE0B-457F-A643-508FDC59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5DB-D0F5-425C-B0F5-273FC4BF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FC6-5EEE-4ACC-9E19-3DD4AC60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6F4-5CF4-43C5-9F6D-57893C8D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D44-B2FC-4B37-A2CF-714512D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7F7-CC66-40C1-8469-BC0927B4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410-8C59-44B6-9F98-7D8BE30E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E94-B502-4ECE-B70D-B82DDFCB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FA2-2E15-4638-9B2A-70E0CAFE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91C-A07A-4A25-A378-C9A4D13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478-E4DB-4479-8D18-1BE045C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FC4-67EA-4FF8-9900-514E162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B310-D865-4509-BC9B-40A18022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04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9999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9999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9999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9999"/>
                </a:solidFill>
                <a:latin typeface="Arial"/>
              </a:rPr>
              <a:t>Escuela de Terapia Ocup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47760"/>
            <a:ext cx="85690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-23760"/>
            <a:ext cx="75614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50000"/>
            <a:alphaModFix amt="45000"/>
          </a:blip>
          <a:stretch/>
        </p:blipFill>
        <p:spPr>
          <a:xfrm>
            <a:off x="1187280" y="71280"/>
            <a:ext cx="6769440" cy="671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ice la Discapacidad en Chile a partir de los siguientes asp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e una descripción general usando la mayor cantidad de datos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te a una situación de recursos que son escasos, priorice acciones de política pública. Esto supone no ejecutar acciones que, si bien necesarias, poseen bajo impa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ga el resultado de su trabajo a las 15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8964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31680"/>
            <a:ext cx="82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225360"/>
            <a:ext cx="79930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334800"/>
            <a:ext cx="756144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3976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</cp:lastModifiedBy>
  <dcterms:modified xsi:type="dcterms:W3CDTF">2009-10-29T16:27:59Z</dcterms:modified>
  <cp:revision>19</cp:revision>
  <dc:subject/>
  <dc:title>Diapositiva 1</dc:title>
</cp:coreProperties>
</file>