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E2E2-477D-46DF-AD97-8B5ABCB84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63FDA-EE54-4F98-AA3B-3070F173F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FCC4-7C1F-4331-A359-E8B3F4509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1000-C3DF-4B97-A4EB-E8B1AC28C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6E00-1468-4D29-85D8-013AB637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045E-0438-4E11-B4BA-C99998CCF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DF50-ECF3-4BF2-83B8-F982C8CE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D3D41-F681-4FC0-BBF6-15F440853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3203-636B-4C87-B665-65C7B815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16E5-62DA-43A3-8F07-D5C1C40C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9CBC-7D1F-452A-AD79-8F74763D5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8C36-501A-462D-9FE4-4B5361CDB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0753-F677-4BD7-87FF-2DEF8106B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781000"/>
            <a:ext cx="770400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9999"/>
                </a:solidFill>
                <a:latin typeface="Arial"/>
              </a:rPr>
              <a:t>Situación de la Discapacidad en Chile</a:t>
            </a:r>
            <a:br>
              <a:rPr sz="4000"/>
            </a:br>
            <a:r>
              <a:rPr b="1" lang="es-CL" sz="4000" spc="-1" strike="noStrike">
                <a:solidFill>
                  <a:srgbClr val="009999"/>
                </a:solidFill>
                <a:latin typeface="Arial"/>
              </a:rPr>
              <a:t>Encuesta CASEN 2006</a:t>
            </a:r>
            <a:br>
              <a:rPr sz="4000"/>
            </a:br>
            <a:br>
              <a:rPr sz="4000"/>
            </a:br>
            <a:r>
              <a:rPr b="1" lang="es-CL" sz="2000" spc="-1" strike="noStrike">
                <a:solidFill>
                  <a:srgbClr val="009999"/>
                </a:solidFill>
                <a:latin typeface="Arial"/>
              </a:rPr>
              <a:t>Curso de Sociología</a:t>
            </a:r>
            <a:br>
              <a:rPr sz="2000"/>
            </a:br>
            <a:br>
              <a:rPr sz="2000"/>
            </a:br>
            <a:r>
              <a:rPr b="1" lang="es-CL" sz="2000" spc="-1" strike="noStrike">
                <a:solidFill>
                  <a:srgbClr val="009999"/>
                </a:solidFill>
                <a:latin typeface="Arial"/>
              </a:rPr>
              <a:t>Escuela de Terapia Ocup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logou" descr="Universidad de Chile"/>
          <p:cNvPicPr/>
          <p:nvPr/>
        </p:nvPicPr>
        <p:blipFill>
          <a:blip r:embed="rId1"/>
          <a:stretch/>
        </p:blipFill>
        <p:spPr>
          <a:xfrm>
            <a:off x="7164360" y="836640"/>
            <a:ext cx="111780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4000" y="347760"/>
            <a:ext cx="8569080" cy="61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26920" y="-23760"/>
            <a:ext cx="756144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6920" y="765000"/>
            <a:ext cx="749016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>
            <a:lum bright="50000"/>
            <a:alphaModFix amt="45000"/>
          </a:blip>
          <a:stretch/>
        </p:blipFill>
        <p:spPr>
          <a:xfrm>
            <a:off x="1187280" y="71280"/>
            <a:ext cx="6769440" cy="6715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acterice la Discapacidad en Chile a partir de los siguientes aspec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abore una descripción general usando la mayor cantidad de datos pos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nte a una situación de recursos que son escasos, priorice acciones de política pública. Esto supone no ejecutar acciones que, si bien necesarias, poseen bajo impa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onga el resultado de su trabajo a las 15: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260280"/>
            <a:ext cx="7775280" cy="61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-58680"/>
            <a:ext cx="896472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31680"/>
            <a:ext cx="828036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39640" y="225360"/>
            <a:ext cx="7993080" cy="646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26920" y="334800"/>
            <a:ext cx="7561440" cy="613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84240"/>
            <a:ext cx="9144000" cy="66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239760"/>
            <a:ext cx="9144000" cy="63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20:54:05Z</dcterms:created>
  <dc:creator>Patricio Escobar</dc:creator>
  <dc:description/>
  <dc:language>en-US</dc:language>
  <cp:lastModifiedBy>Patricio Escobar</cp:lastModifiedBy>
  <dcterms:modified xsi:type="dcterms:W3CDTF">2009-10-29T16:27:59Z</dcterms:modified>
  <cp:revision>19</cp:revision>
  <dc:subject/>
  <dc:title>Diapositiva 1</dc:title>
</cp:coreProperties>
</file>