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png" ContentType="image/png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F00D9-2899-4017-8722-A26CD39AE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38D9A-0318-4D86-9745-D83546CE3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ABF82-9F34-432C-A7AC-53AD210D0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2E2EA-84EB-4490-93ED-FB99FB212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DEB42-BD1F-46A8-97E8-3E8919C65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E9C55-5A27-4F57-B71C-71E1FD321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C5EFD-DEC3-4334-BD32-560730B9A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CC0CF-B32F-42A8-928A-AB839C6DB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827A0-1D5E-497E-820B-8C31E13C3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FDE2C-D259-4142-9356-35DA5F27F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AC491-87CA-4346-AAE6-044275102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20DF1-A832-4207-B7A9-99C8F21AA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C122D-E3D6-4BEF-AF0A-BA530F8D90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2781000"/>
            <a:ext cx="770400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009999"/>
                </a:solidFill>
                <a:latin typeface="Arial"/>
              </a:rPr>
              <a:t>Situación de la Discapacidad en Chile</a:t>
            </a:r>
            <a:br>
              <a:rPr sz="4000"/>
            </a:br>
            <a:r>
              <a:rPr b="1" lang="es-CL" sz="4000" spc="-1" strike="noStrike">
                <a:solidFill>
                  <a:srgbClr val="009999"/>
                </a:solidFill>
                <a:latin typeface="Arial"/>
              </a:rPr>
              <a:t>Encuesta CASEN 2006</a:t>
            </a:r>
            <a:br>
              <a:rPr sz="4000"/>
            </a:br>
            <a:br>
              <a:rPr sz="4000"/>
            </a:br>
            <a:r>
              <a:rPr b="1" lang="es-CL" sz="2000" spc="-1" strike="noStrike">
                <a:solidFill>
                  <a:srgbClr val="009999"/>
                </a:solidFill>
                <a:latin typeface="Arial"/>
              </a:rPr>
              <a:t>Curso de Sociología</a:t>
            </a:r>
            <a:br>
              <a:rPr sz="2000"/>
            </a:br>
            <a:br>
              <a:rPr sz="2000"/>
            </a:br>
            <a:r>
              <a:rPr b="1" lang="es-CL" sz="2000" spc="-1" strike="noStrike">
                <a:solidFill>
                  <a:srgbClr val="009999"/>
                </a:solidFill>
                <a:latin typeface="Arial"/>
              </a:rPr>
              <a:t>Escuela de Terapia Ocupaci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logou" descr="Universidad de Chile"/>
          <p:cNvPicPr/>
          <p:nvPr/>
        </p:nvPicPr>
        <p:blipFill>
          <a:blip r:embed="rId1"/>
          <a:stretch/>
        </p:blipFill>
        <p:spPr>
          <a:xfrm>
            <a:off x="7164360" y="836640"/>
            <a:ext cx="1117800" cy="111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4000" y="347760"/>
            <a:ext cx="8569080" cy="611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826920" y="-23760"/>
            <a:ext cx="7561440" cy="68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826920" y="765000"/>
            <a:ext cx="7490160" cy="539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>
            <a:lum bright="50000"/>
            <a:alphaModFix amt="45000"/>
          </a:blip>
          <a:stretch/>
        </p:blipFill>
        <p:spPr>
          <a:xfrm>
            <a:off x="1187280" y="71280"/>
            <a:ext cx="6769440" cy="6715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60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acterice la Discapacidad en Chile a partir de los siguientes aspect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e una descripción general usando la mayor cantidad de datos posi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nte a una situación de recursos que son escasos, priorice acciones de política pública. Esto supone no ejecutar acciones que, si bien necesarias, poseen bajo impac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onga el resultado de su trabajo a las 15: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ctivida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84360" y="260280"/>
            <a:ext cx="7775280" cy="619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-58680"/>
            <a:ext cx="8964720" cy="683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68360" y="31680"/>
            <a:ext cx="8280360" cy="685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539640" y="225360"/>
            <a:ext cx="7993080" cy="646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826920" y="334800"/>
            <a:ext cx="7561440" cy="613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84240"/>
            <a:ext cx="9144000" cy="668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239760"/>
            <a:ext cx="9144000" cy="637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3T20:54:05Z</dcterms:created>
  <dc:creator>Patricio Escobar</dc:creator>
  <dc:description/>
  <dc:language>en-US</dc:language>
  <cp:lastModifiedBy>Patricio Escobar</cp:lastModifiedBy>
  <dcterms:modified xsi:type="dcterms:W3CDTF">2009-10-29T16:27:59Z</dcterms:modified>
  <cp:revision>19</cp:revision>
  <dc:subject/>
  <dc:title>Diapositiva 1</dc:title>
</cp:coreProperties>
</file>