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B5E-0949-4830-B7B4-9EB91B6E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0F4-5C73-48A5-AEA7-9E78434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B3A-DA52-49E1-A175-57A72F89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E42-5FE4-4CC4-8398-DC250502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349-2A7E-46D9-ADD8-B4DE21B4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804-DD1B-4FB8-878A-4A42349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897-6271-4CAA-A115-F18BE427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749-9B0B-4B46-80AB-C5BFD50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A3C-5EB7-4898-A4B0-79E53339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063-4757-4AF2-B28B-1896712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C34-7E5E-48F2-9798-B0286B2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189-CE72-4AC5-8602-20DF606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083-EC9B-4F63-BED6-1FA163478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04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Escuela de Terapia Ocup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47760"/>
            <a:ext cx="85690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-23760"/>
            <a:ext cx="7561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50000"/>
            <a:alphaModFix amt="45000"/>
          </a:blip>
          <a:stretch/>
        </p:blipFill>
        <p:spPr>
          <a:xfrm>
            <a:off x="1187280" y="71280"/>
            <a:ext cx="6769440" cy="671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ice la Discapacidad en Chile a partir de los siguientes asp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e una descripción general usando la mayor cantidad de datos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una situación de recursos que son escasos, priorice acciones de política pública. Esto supone no ejecutar acciones que, si bien necesarias, poseen bajo impa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ga el resultado de su trabajo a las 15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8964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1680"/>
            <a:ext cx="82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225360"/>
            <a:ext cx="7993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334800"/>
            <a:ext cx="756144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</cp:lastModifiedBy>
  <dcterms:modified xsi:type="dcterms:W3CDTF">2009-10-29T16:27:59Z</dcterms:modified>
  <cp:revision>19</cp:revision>
  <dc:subject/>
  <dc:title>Diapositiva 1</dc:title>
</cp:coreProperties>
</file>