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F6D-6102-4D7B-AE2B-4A46563C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AF4-2C4C-4132-8653-ABE0EC93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35D-AB4A-4441-A632-21F83534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BDB-3B73-46DB-AAF6-63A06074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75B1-360F-4485-A8B5-F7D8ACB7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2A20-128D-42E6-BDF1-17697BCE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D09E-6C38-4C26-BA41-25389FB8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EAB2-149A-4944-A6B9-E07C2BDE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7BA7-157C-476A-AF3F-D07D8D97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4404-2A25-4820-96BC-F3FDB892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F426-93ED-4F4A-A351-180BC4F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14C-E422-4DD7-A8E3-5D0092AA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0841-547D-4C10-9F5C-665316DE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3DA7-A23C-4D03-8493-F05149D2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6B68-B3BD-407A-8B2B-DD77D482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B909-6275-4152-8867-93BAB34A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4D2E-B0DD-464F-A276-F2929025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CA7-2B87-4598-96A9-241BE22F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698-0A58-407B-82B8-21BFAA45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423-13BD-406E-83DB-102E9D9C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B24-47D9-4620-87A5-9B350140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FC8-6E88-4743-A9A6-F16C5EE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36B-5956-40CE-BDA0-57DE21B3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33A-15E9-4152-8EA3-1042B23E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9540-CE73-4A57-B4AA-CA2CB353A1F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AB46-4716-427E-BC1B-31B4677604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l/imgres?imgurl=http://educablog.murke.net/files/2009/01/12-universidad_de_chile.gif&amp;imgrefurl=http://www.educablog.cl/tag/u-de-chile/&amp;h=884&amp;w=468&amp;sz=122&amp;tbnid=A4_nR41I5j2OvM:&amp;tbnh=146&amp;tbnw=77&amp;prev=/images%3Fq%3DLogo%2B%2BU%2Bde%2BChile&amp;hl=es&amp;usg=__VqEkChKTylYXID7HNw6QTVu3esU=&amp;ei=718tSvOxN42Ntgf93cSxCA&amp;sa=X&amp;oi=image_result&amp;resnum=2&amp;ct=imag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9/93/Human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Sociología 2009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Escuela de Terapia Ocupacion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" descr="http://www.educablog.cl/tag/u-de-chile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836640"/>
            <a:ext cx="879480" cy="1668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6000" y="4653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l conflict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9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Un acercamiento al Chile de ho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9080" y="2924280"/>
            <a:ext cx="66056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¿Qué nos define como sociedad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5903640" cy="6193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08720" y="476280"/>
            <a:ext cx="316872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rupos de 3 perso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o los grupos de trabaj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ñalar semejanzas y diferencias de los chilenos con los latinoamericanos, en los diferentes ítems prese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lacionar l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6453360"/>
            <a:ext cx="3240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Fuente: Encuesta CEPAL ; 20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La Sociología y su Camp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84464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as problemáticas sociales: </a:t>
            </a:r>
            <a:r>
              <a:rPr b="0" i="1" lang="es-ES" sz="2000" spc="-1" strike="noStrike">
                <a:solidFill>
                  <a:srgbClr val="000000"/>
                </a:solidFill>
                <a:latin typeface="Century Gothic"/>
              </a:rPr>
              <a:t>Situación o condición compleja, que posee un vasto alcance y puede ser fuente de conflictos.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(p.ej. La pobreza, la injusticia, la dominación, la discrimin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284640"/>
            <a:ext cx="6192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El cambio social: Transformaciones </a:t>
            </a:r>
            <a:r>
              <a:rPr b="0" i="1" lang="es-ES" sz="2000" spc="-1" strike="noStrike">
                <a:solidFill>
                  <a:srgbClr val="000000"/>
                </a:solidFill>
                <a:latin typeface="Century Gothic"/>
              </a:rPr>
              <a:t>sociales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Century Gothic"/>
              </a:rPr>
              <a:t>societales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, que responden a las tendencias e intereses dominantes. (sociodemografía, sociología política, sociología económic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a fisonomía física e ideológica de los agregados humanos y su proyección. (integración y desinteg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157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El oficio del</a:t>
            </a:r>
            <a:r>
              <a:rPr b="0" lang="es-E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sociólog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5977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os intereses: reales y adquiridos. </a:t>
            </a:r>
            <a:r>
              <a:rPr b="0" i="1" lang="es-ES" sz="1600" spc="-1" strike="noStrike">
                <a:solidFill>
                  <a:srgbClr val="000000"/>
                </a:solidFill>
                <a:latin typeface="Century Gothic"/>
              </a:rPr>
              <a:t>(“La ideología dominante es la ideología de la clase dominante”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C. Marx La Ideología Alemana 1932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os arquetipos y estereotipos: la formación y transmisión de las estructuras de valoración. (¿Cómo valoramos?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formación y transmisión de los intereses: Como el conocimiento, la cosmovisión no parte de cero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El carácter contradictorio de los intereses individuales. (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… 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n 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≠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)  (¿?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modernización social supone relaciones sociales de complejidad creciente. 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norma y el conflicto. (Sigmund Freud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" descr="Archivo:Human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1800" y="476280"/>
            <a:ext cx="2284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La vida en sociedad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844280"/>
            <a:ext cx="55976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a complejidad del “estar”. (la reproducción material y espiritual de la colectividad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a “ritualidad” de la acción colectiva. (festividades, conmemoraciones, reivindicaciones, y catarsi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8:52:11Z</dcterms:created>
  <dc:creator>Patricio Escobar</dc:creator>
  <dc:description/>
  <cp:keywords/>
  <dc:language>en-US</dc:language>
  <cp:lastModifiedBy>Patricio Escobar</cp:lastModifiedBy>
  <dcterms:modified xsi:type="dcterms:W3CDTF">2009-09-24T20:53:07Z</dcterms:modified>
  <cp:revision>1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3082</vt:lpwstr>
  </property>
</Properties>
</file>