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5.wmf" ContentType="image/x-wmf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822-B946-4DD6-B14D-B65B9405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E9F-A06D-4DE9-B26C-B9118106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86F-EA67-4107-8CA4-BA2F36C5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5697-8C62-4421-BF17-B2DF04E3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F743-6BC1-4C6E-88A4-44B9CA3F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9648-E8E9-4266-AF26-9DD51593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A431-F251-47A6-887F-D2FB853F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2455-01F3-4053-8427-31CE1D9C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C4FF-A97F-41BC-9024-CDEF2E9B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EB98-8407-486C-9D97-88E85EF1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8B7A-1425-4C07-BE6E-EF59FEB4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301-05F6-468C-AC02-F2FE3AA2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35D4-FBA1-4685-8D39-A26BC6D5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8C08-619D-43FB-B3B7-B03A65F9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E7CA-1759-4BD8-AFFD-F217661B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8FED-079B-4E90-8AF4-8A2D22FA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5AF0-AFBA-4D38-9505-5FA6BEF4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1A7-2285-4B3E-B403-23DA6D19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444-7A34-4B04-9E6E-C2C86FF2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C54-C396-437B-98C4-4DF87392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37A-1BDA-4A73-BF6B-2D144FD8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9ED-C643-4B94-A279-268FEADF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0DC-4DED-4220-AFEE-11DE8DDF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6CF-ABF8-4F74-AAFD-605A39C3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F12A-CB10-4506-B44A-0CE8AFB46D8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66C2-F5FC-425C-BE98-2DB8FBCEFFE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l/imgres?imgurl=http://educablog.murke.net/files/2009/01/12-universidad_de_chile.gif&amp;imgrefurl=http://www.educablog.cl/tag/u-de-chile/&amp;h=884&amp;w=468&amp;sz=122&amp;tbnid=A4_nR41I5j2OvM:&amp;tbnh=146&amp;tbnw=77&amp;prev=/images%3Fq%3DLogo%2B%2BU%2Bde%2BChile&amp;hl=es&amp;usg=__VqEkChKTylYXID7HNw6QTVu3esU=&amp;ei=718tSvOxN42Ntgf93cSxCA&amp;sa=X&amp;oi=image_result&amp;resnum=2&amp;ct=image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9/93/Human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Sociología 2009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Escuela de Terapia Ocupaciona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" descr="http://www.educablog.cl/tag/u-de-chile/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836640"/>
            <a:ext cx="879480" cy="1668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16000" y="4653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El conflicto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9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Un acercamiento al Chile de ho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9080" y="2924280"/>
            <a:ext cx="66056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¿Qué nos define como sociedad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5903640" cy="6193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08720" y="476280"/>
            <a:ext cx="316872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rupos de 3 perso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o los grupos de trabaj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ñalar semejanzas y diferencias de los chilenos con los latinoamericanos, en los diferentes ítems presen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lacionar l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6453360"/>
            <a:ext cx="3240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Fuente: Encuesta CEPAL ; 20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La Sociología y su Camp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184464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Las problemáticas sociales: </a:t>
            </a:r>
            <a:r>
              <a:rPr b="0" i="1" lang="es-ES" sz="2000" spc="-1" strike="noStrike">
                <a:solidFill>
                  <a:srgbClr val="000000"/>
                </a:solidFill>
                <a:latin typeface="Century Gothic"/>
              </a:rPr>
              <a:t>Situación o condición compleja, que posee un vasto alcance y puede ser fuente de conflictos.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(p.ej. La pobreza, la injusticia, la dominación, la discrimin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3284640"/>
            <a:ext cx="6192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El cambio social: Transformaciones </a:t>
            </a:r>
            <a:r>
              <a:rPr b="0" i="1" lang="es-ES" sz="2000" spc="-1" strike="noStrike">
                <a:solidFill>
                  <a:srgbClr val="000000"/>
                </a:solidFill>
                <a:latin typeface="Century Gothic"/>
              </a:rPr>
              <a:t>sociales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y </a:t>
            </a:r>
            <a:r>
              <a:rPr b="0" i="1" lang="es-ES" sz="2000" spc="-1" strike="noStrike">
                <a:solidFill>
                  <a:srgbClr val="000000"/>
                </a:solidFill>
                <a:latin typeface="Century Gothic"/>
              </a:rPr>
              <a:t>societales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, que responden a las tendencias e intereses dominantes. (sociodemografía, sociología política, sociología económic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La fisonomía física e ideológica de los agregados humanos y su proyección. (integración y desintegr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5157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El oficio del</a:t>
            </a:r>
            <a:r>
              <a:rPr b="0" lang="es-E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sociólog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5977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os intereses: reales y adquiridos. </a:t>
            </a:r>
            <a:r>
              <a:rPr b="0" i="1" lang="es-ES" sz="1600" spc="-1" strike="noStrike">
                <a:solidFill>
                  <a:srgbClr val="000000"/>
                </a:solidFill>
                <a:latin typeface="Century Gothic"/>
              </a:rPr>
              <a:t>(“La ideología dominante es la ideología de la clase dominante”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 C. Marx La Ideología Alemana 1932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os arquetipos y estereotipos: la formación y transmisión de las estructuras de valoración. (¿Cómo valoramos?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a formación y transmisión de los intereses: Como el conocimiento, la cosmovisión no parte de cero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El carácter contradictorio de los intereses individuales. (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+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+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+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… +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n 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≠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)  (¿?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a modernización social supone relaciones sociales de complejidad creciente.  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a norma y el conflicto. (Sigmund Freud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" descr="Archivo:Human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81800" y="476280"/>
            <a:ext cx="22842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La vida en sociedad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844280"/>
            <a:ext cx="55976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La complejidad del “estar”. (la reproducción material y espiritual de la colectividad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La “ritualidad” de la acción colectiva. (festividades, conmemoraciones, reivindicaciones, y catarsi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8:52:11Z</dcterms:created>
  <dc:creator>Patricio Escobar</dc:creator>
  <dc:description/>
  <cp:keywords/>
  <dc:language>en-US</dc:language>
  <cp:lastModifiedBy>Patricio Escobar</cp:lastModifiedBy>
  <dcterms:modified xsi:type="dcterms:W3CDTF">2009-09-24T20:53:07Z</dcterms:modified>
  <cp:revision>1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3082</vt:lpwstr>
  </property>
</Properties>
</file>