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157-24E9-4069-AF7A-7BBB0D97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3D0-BBA0-48E1-9351-EFC991BB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3F0-EB34-4361-B0F9-5ACBEA5B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5CC-94D1-46A7-A40C-0B60D018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F648-8CB8-4FCC-A97D-D86495D3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7509-DC05-40C5-AB43-1D363B7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857E-9833-49E9-963C-F35013AB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7B4A-9D4A-4EF7-A7B8-E8BFC705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0209-9144-46B4-8B6A-C8FF6D2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3A90-3282-451D-8633-1C29F91B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AA11-B7EF-4AE2-8660-14419AD4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CB1-3601-4755-91FA-114EA938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5EDF-13A1-43CE-B419-B987E959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A90F-A8FC-4258-B171-38E4530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B52C-A551-489C-8DD3-93C999F0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C7D9-AD25-46A9-90FE-4872E562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547A-7D7E-402E-9C0C-8F6D7861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C9F-A26E-4C78-B487-BA539B48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A30-6729-4CA2-AAC2-00E947D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FBB-A6AF-4E03-A1F5-5F1AD4E6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B4C-9AD6-4AA4-B4E2-54CA224B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55A-DAF5-4CD3-A1E6-F5DB0CF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B4D-54E8-451A-823D-05F900AC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0A2-2A65-4CFF-9506-6533C9A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C11F-BDAA-4296-A82A-CF2F82D4FB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87D8-F108-42E4-BED9-ED3D2E8259B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l/imgres?imgurl=http://educablog.murke.net/files/2009/01/12-universidad_de_chile.gif&amp;imgrefurl=http://www.educablog.cl/tag/u-de-chile/&amp;h=884&amp;w=468&amp;sz=122&amp;tbnid=A4_nR41I5j2OvM:&amp;tbnh=146&amp;tbnw=77&amp;prev=/images%3Fq%3DLogo%2B%2BU%2Bde%2BChile&amp;hl=es&amp;usg=__VqEkChKTylYXID7HNw6QTVu3esU=&amp;ei=718tSvOxN42Ntgf93cSxCA&amp;sa=X&amp;oi=image_result&amp;resnum=2&amp;ct=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9/93/Human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Sociología 2009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Escuela de Terapia Ocupacion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" descr="http://www.educablog.cl/tag/u-de-chile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836640"/>
            <a:ext cx="879480" cy="1668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6000" y="4653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l conflict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9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Un acercamiento al Chile de ho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9080" y="2924280"/>
            <a:ext cx="66056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¿Qué nos define como sociedad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5903640" cy="6193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08720" y="476280"/>
            <a:ext cx="316872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rupos de 3 perso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o los grupos de trabaj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ñalar semejanzas y diferencias de los chilenos con los latinoamericanos, en los diferentes ítems pres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lacionar l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6453360"/>
            <a:ext cx="3240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Fuente: Encuesta CEPAL ; 20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La Sociología y su Camp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84464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as problemáticas sociales: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ituación o condición compleja, que posee un vasto alcance y puede ser fuente de conflictos.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(p.ej. La pobreza, la injusticia, la dominación, la discrimin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284640"/>
            <a:ext cx="6192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l cambio social: Transformaciones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ociales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Century Gothic"/>
              </a:rPr>
              <a:t>societales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, que responden a las tendencias e intereses dominantes. (sociodemografía, sociología política, sociología económic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a fisonomía física e ideológica de los agregados humanos y su proyección. (integración y desinteg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157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El oficio del</a:t>
            </a:r>
            <a:r>
              <a:rPr b="0" lang="es-E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sociólog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5977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os intereses: reales y adquiridos. </a:t>
            </a:r>
            <a:r>
              <a:rPr b="0" i="1" lang="es-ES" sz="1600" spc="-1" strike="noStrike">
                <a:solidFill>
                  <a:srgbClr val="000000"/>
                </a:solidFill>
                <a:latin typeface="Century Gothic"/>
              </a:rPr>
              <a:t>(“La ideología dominante es la ideología de la clase dominante”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C. Marx La Ideología Alemana 1932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os arquetipos y estereotipos: la formación y transmisión de las estructuras de valoración. (¿Cómo valoramos?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formación y transmisión de los intereses: Como el conocimiento, la cosmovisión no parte de cero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l carácter contradictorio de los intereses individuales. (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… +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n 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≠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)  (¿?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modernización social supone relaciones sociales de complejidad creciente. 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norma y el conflicto. (Sigmund Freud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" descr="Archivo:Human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1800" y="476280"/>
            <a:ext cx="2284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La vida en sociedad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844280"/>
            <a:ext cx="55976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a complejidad del “estar”. (la reproducción material y espiritual de la colectividad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a “ritualidad” de la acción colectiva. (festividades, conmemoraciones, reivindicaciones, y catarsi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8:52:11Z</dcterms:created>
  <dc:creator>Patricio Escobar</dc:creator>
  <dc:description/>
  <cp:keywords/>
  <dc:language>en-US</dc:language>
  <cp:lastModifiedBy>Patricio Escobar</cp:lastModifiedBy>
  <dcterms:modified xsi:type="dcterms:W3CDTF">2009-09-24T20:53:07Z</dcterms:modified>
  <cp:revision>1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3082</vt:lpwstr>
  </property>
</Properties>
</file>