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99D8-ED45-425F-8EC3-8C303C39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4432-3400-45BB-BBCB-B6C47B8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7393-98A6-4D59-9950-6CD14835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0EC2-D9C8-4081-9CD3-3894607D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28A2-A424-41AA-B1A0-7ABC55D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91C4-7602-4E98-A913-B5DEC91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85D-D4C6-49C3-BC7B-4CC2099E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7F3F-64A4-46E3-9D77-3463050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C60E-2252-4CAB-9F45-4C3D487B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A30-0E94-4AE6-9DA3-A7B9284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47EA-3BD4-415F-BAE9-C799168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5F28-F1DF-4E5D-83BA-B8A04250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8EC5-5340-495D-8770-9457A25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917-4365-4829-A90D-164D35A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849-C842-47B1-8147-A8AF53D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642D-E3C2-4356-A966-6A6BA5DC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E6B-D918-4045-BE74-8DF8578A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443D-436D-4EB8-A610-EE3377AE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606C-3808-4A3A-93AD-4C12CC7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A52A-FC3D-4422-87C2-DEA32829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85FA-013B-452E-917B-1EDE5D07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D3EB-3001-4846-B3FE-D756D77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CB0A-B72C-4182-A1EE-2484A45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9E5A-B080-422F-A2B5-465086D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654-4A13-43B8-B89C-2018DB05F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68E9-1581-44D2-AD81-9FBE4D943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2266920" cy="1505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cupacional Complex: 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¿Hecho o artefacto?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iencia en Ac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944720" cy="17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de difusión v/s modelo de 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difusión (TO) nadie da forma a la ciencia y tecnología sino al principio, la única explicación reside en los/las fundadoras (CO/TO). Separación de la ciencia-técnica de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traducción (sociodrama /tecnograma) relaciones heterogé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lemas de la ciencia como una construcción de hech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seguir la ciencia en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abandonar la subjetividad u objetividad que nos pueda generar una afirmación y debemos rastrear su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-abandonar la suficiencia de la naturaleza y contabilizar los recursos y colaboraciones que los científicos reunieron para imposibilitar cualquier dis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cupacional complex como ciencia en 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icultades y 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1944720" cy="178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22669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our, 1992.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kc y Lawlor, 2009. The making and mattering of occupational science. En Blesedell, Chon, Boyte &amp; Shell, 2009. Willard &amp; Spackman’s Occupational Ther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laración de historia de la ciencia a un análisis de la CO/TO como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Hecho o artefa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tefacto: algo que se creía verdadero y deviene falso, por si mismo un enunciado no es hecho ni ficción, son enunciados posteriores lo que lo convierten como 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cajas negras…Ocupacional Complex (TO/CO): una caja abierta en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encia de la ocupación: ciencia emergente y disciplina envolvente” (Clark y Lawlor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entras una máquina esta siendo construida no puede convencerse a nadie se su buen funcionamiento” (Latour, 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6360" y="1989000"/>
            <a:ext cx="2746440" cy="2643480"/>
            <a:chOff x="6156360" y="1989000"/>
            <a:chExt cx="2746440" cy="2643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156360" y="1989000"/>
              <a:ext cx="2746440" cy="26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6156360" y="1989000"/>
              <a:ext cx="2746440" cy="264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 una retórica débil a una más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overs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“el proceso de elaboración de ciencia lleva una mezcla turbulenta, muy diferentes del método y la actividad científ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haciéndola suficientemente sólida para inducir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nega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explicando en detalle el porque su solidez o debilidad sin apuntar a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órica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ir a los amigos (aliados numerosos y de a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erirse a textos anteriores, volviéndola favorable a lo que se a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itado por textos posteriores (Science citation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strucción de hechos es un proceso co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modalidad positiva continúa actuando, se hará tan conocido que no será necesario hablar de eso “El SH es un ser ocupacional”, el H2O 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300720" y="2060640"/>
            <a:ext cx="2386080" cy="3806640"/>
            <a:chOff x="6300720" y="2060640"/>
            <a:chExt cx="2386080" cy="38066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300720" y="2060640"/>
              <a:ext cx="2386080" cy="38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6300720" y="2060640"/>
              <a:ext cx="2386080" cy="38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55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ículos que se refuerzan a sí mismos por medio de referentes que aparecen en el texto (gráficos, tablas, imáge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mular sin que genere de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scar imagen del lector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texto que acumula cajas negras y argumentos difícilmente discu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59640" y="2205000"/>
            <a:ext cx="1738080" cy="1808280"/>
            <a:chOff x="6659640" y="2205000"/>
            <a:chExt cx="1738080" cy="1808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659640" y="2205000"/>
              <a:ext cx="1738080" cy="18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6659640" y="2205000"/>
              <a:ext cx="1738080" cy="18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9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cri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estructura que proporciones una exposición visual de cualquier tipo en un texto científi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tav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os o personas que hablan y afirman lo que los autores quieren dec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umular más cajas ne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r nuevos al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129040" cy="22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cluye una controversia cuando se recurre a la natural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467160" cy="3336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ién tenga la naturaleza de su parte gana, sin importar a quién se enfr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turaleza causa/con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pretación que los constructores de hechos hacen de sus intereses y de los intereses que la gente reclu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promoción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C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51:09Z</dcterms:created>
  <dc:creator>Fac. de Medicina</dc:creator>
  <dc:description/>
  <dc:language>en-US</dc:language>
  <cp:lastModifiedBy>Fac. de Medicina</cp:lastModifiedBy>
  <dcterms:modified xsi:type="dcterms:W3CDTF">2009-10-19T14:10:43Z</dcterms:modified>
  <cp:revision>3</cp:revision>
  <dc:subject/>
  <dc:title>Ocupacional Complex:  ¿Hecho o artefacto? Ciencia en Acción</dc:title>
</cp:coreProperties>
</file>