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2D22-F6C2-4227-BAB4-EDCA1887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3056-A488-4F95-8A09-3ACFC128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8BA1-B519-4662-BDE6-6C515329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7389-2422-4D96-A59B-3DF9800F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961-73FD-412E-9E53-3B7E7504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4D6C-A59B-4C13-B6D7-A5ABF7CC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53A-91BE-4AF2-ACF7-FD2953A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B786-6878-4BB5-B280-6DC7E21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15D1-4DB2-4C77-9A1C-FB93350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8CD0-5209-4794-B3D6-62ECBBD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83EC-3D01-48A0-830C-59E8724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BC11-EBF7-4403-B03E-37EE9036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D74A-0FC7-497D-9C45-CE01899D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85A2-F9DF-471F-A8F4-28FC547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AFF-AC3B-4A55-B225-B52E8F95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F875-7294-471F-B487-69228873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32F2-B44E-4CC3-BC61-824F9FE6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1954-834B-41C1-9AFC-179AF42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6FBE-CCD5-4007-B509-0F4879A3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922B-49F0-4507-A54C-163321B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2367-BA49-4D7D-A709-5742B57D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FD82-9E1A-47C7-B4D0-53F344D1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1968-5EB7-4BB7-84E9-D757F66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0476-A368-40F7-AB0A-02A7F0B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CCE-DF32-4769-A725-6B7CF8B8C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D10-F962-40C7-A871-F6DD2D2E3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4797360"/>
            <a:ext cx="2266920" cy="1505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cupacional Complex: 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¿Hecho o artefacto?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iencia en Ac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1944720" cy="17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de difusión v/s modelo de 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difusión (TO) nadie da forma a la ciencia y tecnología sino al principio, la única explicación reside en los/las fundadoras (CO/TO). Separación de la ciencia-técnica de 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traducción (sociodrama /tecnograma) relaciones heterogé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lemas de la ciencia como una construcción de hech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seguir la ciencia en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abandonar la subjetividad u objetividad que nos pueda generar una afirmación y debemos rastrear su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-abandonar la suficiencia de la naturaleza y contabilizar los recursos y colaboraciones que los científicos reunieron para imposibilitar cualquier dis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cupacional complex como ciencia en 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icultades y 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1944720" cy="178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22669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our, 1992. Ciencia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kc y Lawlor, 2009. The making and mattering of occupational science. En Blesedell, Chon, Boyte &amp; Shell, 2009. Willard &amp; Spackman’s Occupational Ther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laración de historia de la ciencia a un análisis de la CO/TO como ciencia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Hecho o artefa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tefacto: algo que se creía verdadero y deviene falso, por si mismo un enunciado no es hecho ni ficción, son enunciados posteriores lo que lo convierten como 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cajas negras…Ocupacional Complex (TO/CO): una caja abierta en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encia de la ocupación: ciencia emergente y disciplina envolvente” (Clark y Lawlor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entras una máquina esta siendo construida no puede convencerse a nadie se su buen funcionamiento” (Latour, 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6360" y="1989000"/>
            <a:ext cx="2746440" cy="2643480"/>
            <a:chOff x="6156360" y="1989000"/>
            <a:chExt cx="2746440" cy="2643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156360" y="1989000"/>
              <a:ext cx="2746440" cy="26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6156360" y="1989000"/>
              <a:ext cx="2746440" cy="264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 una retórica débil a una más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overs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“el proceso de elaboración de ciencia lleva una mezcla turbulenta, muy diferentes del método y la actividad científ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dalidades 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unciados que aportan una afirmación de sus condiciones de producción, haciéndola suficientemente sólida para inducir consecuencia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dalidades nega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unciados que aportan una afirmación de sus condiciones de producción, explicando en detalle el porque su solidez o debilidad sin apuntar a consecuencia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órica cientí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ir a los amigos (aliados numerosos y de a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erirse a textos anteriores, volviéndola favorable a lo que se a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itado por textos posteriores (Science citation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nstrucción de hechos es un proceso co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modalidad positiva continúa actuando, se hará tan conocido que no será necesario hablar de eso “El SH es un ser ocupacional”, el H2O 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300720" y="2060640"/>
            <a:ext cx="2386080" cy="3806640"/>
            <a:chOff x="6300720" y="2060640"/>
            <a:chExt cx="2386080" cy="38066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300720" y="2060640"/>
              <a:ext cx="2386080" cy="38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6300720" y="2060640"/>
              <a:ext cx="2386080" cy="38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xtos resist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55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ículos que se refuerzan a sí mismos por medio de referentes que aparecen en el texto (gráficos, tablas, imáge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umular sin que genere de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scar imagen del lector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texto que acumula cajas negras y argumentos difícilmente discu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59640" y="2205000"/>
            <a:ext cx="1738080" cy="1808280"/>
            <a:chOff x="6659640" y="2205000"/>
            <a:chExt cx="1738080" cy="18082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659640" y="2205000"/>
              <a:ext cx="1738080" cy="18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6659640" y="2205000"/>
              <a:ext cx="1738080" cy="18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xtos resist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9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crip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estructura que proporciones una exposición visual de cualquier tipo en un texto científi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tav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os o personas que hablan y afirman lo que los autores quieren dec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umular más cajas ne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r nuevos al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129040" cy="22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cluye una controversia cuando se recurre a la natural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467160" cy="3336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ién tenga la naturaleza de su parte gana, sin importar a quién se enfr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turaleza causa/con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pretación que los constructores de hechos hacen de sus intereses y de los intereses que la gente reclu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/CO y promoción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/CO y C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51:09Z</dcterms:created>
  <dc:creator>Fac. de Medicina</dc:creator>
  <dc:description/>
  <dc:language>en-US</dc:language>
  <cp:lastModifiedBy>Fac. de Medicina</cp:lastModifiedBy>
  <dcterms:modified xsi:type="dcterms:W3CDTF">2009-10-19T14:10:43Z</dcterms:modified>
  <cp:revision>3</cp:revision>
  <dc:subject/>
  <dc:title>Ocupacional Complex:  ¿Hecho o artefacto? Ciencia en Acción</dc:title>
</cp:coreProperties>
</file>