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1.png" ContentType="image/png"/>
  <Override PartName="/ppt/media/image4.jpeg" ContentType="image/jpeg"/>
  <Override PartName="/ppt/media/image31.jpeg" ContentType="image/jpeg"/>
  <Override PartName="/ppt/media/image2.png" ContentType="image/png"/>
  <Override PartName="/ppt/media/image32.png" ContentType="image/png"/>
  <Override PartName="/ppt/media/image22.jpeg" ContentType="image/jpeg"/>
  <Override PartName="/ppt/media/image7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25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AB63-C331-40A0-81C1-F00E33BE025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86C5-DCC0-4502-9DED-FE4FE5285075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A70394F-7500-4AC4-B397-73C10F95FB9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943C-7B72-438E-8B86-6FF24D7774DF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19C3D99-4A9C-449B-9B47-FA238A99A86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FF9A-2279-4C31-B520-0C6259EBFA9E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E647ED8-C15E-441C-B8B4-164962752D9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5218-E79B-49AC-8B10-563BB7823C27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5F8CA3A-C797-4998-AD94-3897BA93BBD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7AE3-EF21-4752-A637-34D17E13E7E7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E760263-F203-4315-9519-B8CFBC519BB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45F-F16F-42FA-8EAA-DF3626BF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984-0FB3-4421-ABD2-12CE72A7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E87-6585-47E8-B777-B082CE2A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DCEE-2F7B-496B-807C-342EAEAF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2CE-D8AF-44E3-B5EF-52A37181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AED-ADF9-4FAB-8EE0-0C7637B2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4C7-17EB-48D4-BC31-3531E113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B72-E879-42F0-AF49-986C8E0A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F15-D12A-44DF-8B1C-C99D5B7E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C2B4-7B95-477B-9E78-0A4ADB53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738-589E-4356-99F0-C664972D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41F-DB5B-4C0B-9C90-18CC5B70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D939-48B1-475C-AFE8-AE020C62293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48320" y="56386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quipo de Histolog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4 CuadroTexto"/>
          <p:cNvGrpSpPr/>
          <p:nvPr/>
        </p:nvGrpSpPr>
        <p:grpSpPr>
          <a:xfrm>
            <a:off x="2305080" y="2309760"/>
            <a:ext cx="4838760" cy="847800"/>
            <a:chOff x="2305080" y="2309760"/>
            <a:chExt cx="4838760" cy="847800"/>
          </a:xfrm>
        </p:grpSpPr>
        <p:pic>
          <p:nvPicPr>
            <p:cNvPr id="50" name="4 CuadroTexto" descr=""/>
            <p:cNvPicPr/>
            <p:nvPr/>
          </p:nvPicPr>
          <p:blipFill>
            <a:blip r:embed="rId1"/>
            <a:stretch/>
          </p:blipFill>
          <p:spPr>
            <a:xfrm>
              <a:off x="2305080" y="2309760"/>
              <a:ext cx="48387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362320" y="2438280"/>
              <a:ext cx="472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ffff"/>
                  </a:solidFill>
                  <a:latin typeface="Times New Roman"/>
                </a:rPr>
                <a:t>BULBO OCULA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Libros\HISTOLOGIA\cd geneser\cd geneser\pics\18_8_50.jpg"/>
          <p:cNvPicPr/>
          <p:nvPr/>
        </p:nvPicPr>
        <p:blipFill>
          <a:blip r:embed="rId1"/>
          <a:stretch/>
        </p:blipFill>
        <p:spPr>
          <a:xfrm>
            <a:off x="4114800" y="762120"/>
            <a:ext cx="4678200" cy="52959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74" name="Picture 3" descr="D:\Libros\HISTOLOGIA\cd geneser\cd geneser\pics\18_7_80.jpg"/>
          <p:cNvPicPr/>
          <p:nvPr/>
        </p:nvPicPr>
        <p:blipFill>
          <a:blip r:embed="rId2"/>
          <a:stretch/>
        </p:blipFill>
        <p:spPr>
          <a:xfrm>
            <a:off x="228600" y="2362320"/>
            <a:ext cx="3782880" cy="25146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grpSp>
        <p:nvGrpSpPr>
          <p:cNvPr id="75" name="Text Box 3"/>
          <p:cNvGrpSpPr/>
          <p:nvPr/>
        </p:nvGrpSpPr>
        <p:grpSpPr>
          <a:xfrm>
            <a:off x="487440" y="396720"/>
            <a:ext cx="3151080" cy="536760"/>
            <a:chOff x="487440" y="396720"/>
            <a:chExt cx="3151080" cy="536760"/>
          </a:xfrm>
        </p:grpSpPr>
        <p:pic>
          <p:nvPicPr>
            <p:cNvPr id="76" name="Text Box 3" descr=""/>
            <p:cNvPicPr/>
            <p:nvPr/>
          </p:nvPicPr>
          <p:blipFill>
            <a:blip r:embed="rId3"/>
            <a:stretch/>
          </p:blipFill>
          <p:spPr>
            <a:xfrm>
              <a:off x="487440" y="396720"/>
              <a:ext cx="31510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09480" y="45720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Círculos arteriales del Ir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4 Rectángulo"/>
          <p:cNvSpPr/>
          <p:nvPr/>
        </p:nvSpPr>
        <p:spPr>
          <a:xfrm>
            <a:off x="914400" y="3048120"/>
            <a:ext cx="106668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http://ocularis.es/blog/pics/fg233_1.gif"/>
          <p:cNvPicPr/>
          <p:nvPr/>
        </p:nvPicPr>
        <p:blipFill>
          <a:blip r:embed="rId1"/>
          <a:srcRect l="0" t="40258" r="0" b="0"/>
          <a:stretch/>
        </p:blipFill>
        <p:spPr>
          <a:xfrm>
            <a:off x="1752480" y="1295280"/>
            <a:ext cx="5486400" cy="5213520"/>
          </a:xfrm>
          <a:prstGeom prst="rect">
            <a:avLst/>
          </a:prstGeom>
          <a:ln w="0">
            <a:noFill/>
          </a:ln>
        </p:spPr>
      </p:pic>
      <p:grpSp>
        <p:nvGrpSpPr>
          <p:cNvPr id="80" name="Text Box 4"/>
          <p:cNvGrpSpPr/>
          <p:nvPr/>
        </p:nvGrpSpPr>
        <p:grpSpPr>
          <a:xfrm>
            <a:off x="1616040" y="530280"/>
            <a:ext cx="5907240" cy="609480"/>
            <a:chOff x="1616040" y="530280"/>
            <a:chExt cx="5907240" cy="609480"/>
          </a:xfrm>
        </p:grpSpPr>
        <p:pic>
          <p:nvPicPr>
            <p:cNvPr id="81" name="Text Box 4" descr=""/>
            <p:cNvPicPr/>
            <p:nvPr/>
          </p:nvPicPr>
          <p:blipFill>
            <a:blip r:embed="rId2"/>
            <a:stretch/>
          </p:blipFill>
          <p:spPr>
            <a:xfrm>
              <a:off x="1616040" y="530280"/>
              <a:ext cx="5907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676520" y="60948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u="sng">
                  <a:solidFill>
                    <a:srgbClr val="ffffff"/>
                  </a:solidFill>
                  <a:uFillTx/>
                  <a:latin typeface="Verdana"/>
                </a:rPr>
                <a:t>ANGULO IRIDO-CORNE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E:\data\images\jpg\c23\23_015.jpg"/>
          <p:cNvPicPr/>
          <p:nvPr/>
        </p:nvPicPr>
        <p:blipFill>
          <a:blip r:embed="rId1"/>
          <a:srcRect l="0" t="6811" r="2500" b="6788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grpSp>
        <p:nvGrpSpPr>
          <p:cNvPr id="84" name="Text Box 4"/>
          <p:cNvGrpSpPr/>
          <p:nvPr/>
        </p:nvGrpSpPr>
        <p:grpSpPr>
          <a:xfrm>
            <a:off x="2719440" y="146160"/>
            <a:ext cx="3700440" cy="615960"/>
            <a:chOff x="2719440" y="146160"/>
            <a:chExt cx="3700440" cy="615960"/>
          </a:xfrm>
        </p:grpSpPr>
        <p:pic>
          <p:nvPicPr>
            <p:cNvPr id="85" name="Text Box 4" descr=""/>
            <p:cNvPicPr/>
            <p:nvPr/>
          </p:nvPicPr>
          <p:blipFill>
            <a:blip r:embed="rId2"/>
            <a:stretch/>
          </p:blipFill>
          <p:spPr>
            <a:xfrm>
              <a:off x="2719440" y="146160"/>
              <a:ext cx="37004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81360" y="2286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Verdana"/>
                </a:rPr>
                <a:t>Cristali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E:\data\images\jpg\c23\23_009.jpg"/>
          <p:cNvPicPr/>
          <p:nvPr/>
        </p:nvPicPr>
        <p:blipFill>
          <a:blip r:embed="rId1"/>
          <a:srcRect l="0" t="5748" r="5087" b="11495"/>
          <a:stretch/>
        </p:blipFill>
        <p:spPr>
          <a:xfrm>
            <a:off x="0" y="609480"/>
            <a:ext cx="4419720" cy="5639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E:\data\images\jpg\c23\23_010.jpg"/>
          <p:cNvPicPr/>
          <p:nvPr/>
        </p:nvPicPr>
        <p:blipFill>
          <a:blip r:embed="rId2"/>
          <a:srcRect l="0" t="0" r="0" b="22326"/>
          <a:stretch/>
        </p:blipFill>
        <p:spPr>
          <a:xfrm>
            <a:off x="4495680" y="1143000"/>
            <a:ext cx="4648320" cy="5486400"/>
          </a:xfrm>
          <a:prstGeom prst="rect">
            <a:avLst/>
          </a:prstGeom>
          <a:ln w="0">
            <a:noFill/>
          </a:ln>
        </p:spPr>
      </p:pic>
      <p:grpSp>
        <p:nvGrpSpPr>
          <p:cNvPr id="89" name="Text Box 6"/>
          <p:cNvGrpSpPr/>
          <p:nvPr/>
        </p:nvGrpSpPr>
        <p:grpSpPr>
          <a:xfrm>
            <a:off x="2457360" y="73080"/>
            <a:ext cx="4303800" cy="609480"/>
            <a:chOff x="2457360" y="73080"/>
            <a:chExt cx="4303800" cy="609480"/>
          </a:xfrm>
        </p:grpSpPr>
        <p:pic>
          <p:nvPicPr>
            <p:cNvPr id="90" name="Text Box 6" descr=""/>
            <p:cNvPicPr/>
            <p:nvPr/>
          </p:nvPicPr>
          <p:blipFill>
            <a:blip r:embed="rId3"/>
            <a:stretch/>
          </p:blipFill>
          <p:spPr>
            <a:xfrm>
              <a:off x="2457360" y="73080"/>
              <a:ext cx="43038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514600" y="1522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u="sng">
                  <a:solidFill>
                    <a:srgbClr val="ffffff"/>
                  </a:solidFill>
                  <a:uFillTx/>
                  <a:latin typeface="Verdana"/>
                </a:rPr>
                <a:t>RET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retina"/>
          <p:cNvPicPr/>
          <p:nvPr/>
        </p:nvPicPr>
        <p:blipFill>
          <a:blip r:embed="rId1"/>
          <a:stretch/>
        </p:blipFill>
        <p:spPr>
          <a:xfrm>
            <a:off x="638280" y="214200"/>
            <a:ext cx="78627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Picture 10" descr="G4Diag-fotorreceptores"/>
          <p:cNvPicPr/>
          <p:nvPr/>
        </p:nvPicPr>
        <p:blipFill>
          <a:blip r:embed="rId2"/>
          <a:srcRect l="0" t="3662" r="0" b="0"/>
          <a:stretch/>
        </p:blipFill>
        <p:spPr>
          <a:xfrm>
            <a:off x="6700680" y="3562200"/>
            <a:ext cx="2443320" cy="329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ret40he"/>
          <p:cNvPicPr/>
          <p:nvPr/>
        </p:nvPicPr>
        <p:blipFill>
          <a:blip r:embed="rId1"/>
          <a:srcRect l="0" t="0" r="0" b="5556"/>
          <a:stretch/>
        </p:blipFill>
        <p:spPr>
          <a:xfrm>
            <a:off x="0" y="142920"/>
            <a:ext cx="5145120" cy="6477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5213520" y="0"/>
            <a:ext cx="3701880" cy="680220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imes New Roman"/>
              </a:rPr>
              <a:t>Estructura compuesta por 10 c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Epitelio pigmen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apa de Conos y Ba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Membr. Limitante 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apa nuclear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apa plexiforme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apa nuclear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apa plexiforme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élulas ganglion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Fibras del nervio óp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Membr. Limitante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3 Conector recto de flecha"/>
          <p:cNvCxnSpPr/>
          <p:nvPr/>
        </p:nvCxnSpPr>
        <p:spPr>
          <a:xfrm flipH="1">
            <a:off x="4214520" y="1143360"/>
            <a:ext cx="1072080" cy="2134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7" name="4 Conector recto de flecha"/>
          <p:cNvCxnSpPr/>
          <p:nvPr/>
        </p:nvCxnSpPr>
        <p:spPr>
          <a:xfrm flipH="1" flipV="1">
            <a:off x="4071240" y="1714320"/>
            <a:ext cx="1215000" cy="21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8" name="5 Conector recto de flecha"/>
          <p:cNvCxnSpPr/>
          <p:nvPr/>
        </p:nvCxnSpPr>
        <p:spPr>
          <a:xfrm flipH="1">
            <a:off x="4142520" y="2000160"/>
            <a:ext cx="1072440" cy="2152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9" name="6 Conector recto de flecha"/>
          <p:cNvCxnSpPr/>
          <p:nvPr/>
        </p:nvCxnSpPr>
        <p:spPr>
          <a:xfrm flipH="1" flipV="1">
            <a:off x="3999960" y="2927160"/>
            <a:ext cx="1215000" cy="21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0" name="7 Conector recto de flecha"/>
          <p:cNvCxnSpPr/>
          <p:nvPr/>
        </p:nvCxnSpPr>
        <p:spPr>
          <a:xfrm flipH="1" flipV="1">
            <a:off x="4142520" y="3714480"/>
            <a:ext cx="1143720" cy="7200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1" name="8 Conector recto de flecha"/>
          <p:cNvCxnSpPr/>
          <p:nvPr/>
        </p:nvCxnSpPr>
        <p:spPr>
          <a:xfrm flipH="1" flipV="1">
            <a:off x="4142520" y="4071600"/>
            <a:ext cx="1143720" cy="7200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2" name="9 Conector recto de flecha"/>
          <p:cNvCxnSpPr/>
          <p:nvPr/>
        </p:nvCxnSpPr>
        <p:spPr>
          <a:xfrm flipH="1" flipV="1">
            <a:off x="4142520" y="5285520"/>
            <a:ext cx="1143720" cy="723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3" name="10 Conector recto de flecha"/>
          <p:cNvCxnSpPr/>
          <p:nvPr/>
        </p:nvCxnSpPr>
        <p:spPr>
          <a:xfrm flipH="1">
            <a:off x="4419000" y="6000840"/>
            <a:ext cx="795960" cy="957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4" name="11 Conector recto de flecha"/>
          <p:cNvCxnSpPr/>
          <p:nvPr/>
        </p:nvCxnSpPr>
        <p:spPr>
          <a:xfrm flipH="1">
            <a:off x="4142520" y="6286680"/>
            <a:ext cx="1143720" cy="7200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5" name="12 Conector recto de flecha"/>
          <p:cNvCxnSpPr/>
          <p:nvPr/>
        </p:nvCxnSpPr>
        <p:spPr>
          <a:xfrm flipH="1" flipV="1">
            <a:off x="4071240" y="6500520"/>
            <a:ext cx="1215000" cy="7200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06" name="13 Flecha arriba"/>
          <p:cNvSpPr/>
          <p:nvPr/>
        </p:nvSpPr>
        <p:spPr>
          <a:xfrm>
            <a:off x="428760" y="1500120"/>
            <a:ext cx="357120" cy="450072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14 CuadroTexto"/>
          <p:cNvGrpSpPr/>
          <p:nvPr/>
        </p:nvGrpSpPr>
        <p:grpSpPr>
          <a:xfrm>
            <a:off x="-60480" y="6072120"/>
            <a:ext cx="1328760" cy="560520"/>
            <a:chOff x="-60480" y="6072120"/>
            <a:chExt cx="1328760" cy="560520"/>
          </a:xfrm>
        </p:grpSpPr>
        <p:pic>
          <p:nvPicPr>
            <p:cNvPr id="108" name="14 CuadroTexto" descr=""/>
            <p:cNvPicPr/>
            <p:nvPr/>
          </p:nvPicPr>
          <p:blipFill>
            <a:blip r:embed="rId2"/>
            <a:stretch/>
          </p:blipFill>
          <p:spPr>
            <a:xfrm>
              <a:off x="-60480" y="6072120"/>
              <a:ext cx="13287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0" y="6143760"/>
              <a:ext cx="12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Franklin Gothic Book"/>
                </a:rPr>
                <a:t>LU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4535640" y="260280"/>
            <a:ext cx="4608360" cy="2574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La fóvea carece de vasos sanguí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Irrigada solamente por finos capilares, los cuales están ausentes en su parte central, lo que incrementa enormemente la transparenci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Debido a la predominancia de conos y a su relación 1:1 con las células ganglionares, la fóvea constituye la región de visión aguda de la ret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fovea2"/>
          <p:cNvPicPr/>
          <p:nvPr/>
        </p:nvPicPr>
        <p:blipFill>
          <a:blip r:embed="rId1"/>
          <a:stretch/>
        </p:blipFill>
        <p:spPr>
          <a:xfrm>
            <a:off x="0" y="3143160"/>
            <a:ext cx="4465800" cy="32893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12" name="Picture 10" descr="laytb01"/>
          <p:cNvPicPr/>
          <p:nvPr/>
        </p:nvPicPr>
        <p:blipFill>
          <a:blip r:embed="rId2"/>
          <a:stretch/>
        </p:blipFill>
        <p:spPr>
          <a:xfrm>
            <a:off x="2338560" y="-2160720"/>
            <a:ext cx="47520" cy="28800"/>
          </a:xfrm>
          <a:prstGeom prst="rect">
            <a:avLst/>
          </a:prstGeom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13" name="Picture 45" descr="foveahisto"/>
          <p:cNvPicPr/>
          <p:nvPr/>
        </p:nvPicPr>
        <p:blipFill>
          <a:blip r:embed="rId3"/>
          <a:stretch/>
        </p:blipFill>
        <p:spPr>
          <a:xfrm>
            <a:off x="4643280" y="3786120"/>
            <a:ext cx="4284720" cy="27781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14" name="Picture 46" descr="fovearetina"/>
          <p:cNvPicPr/>
          <p:nvPr/>
        </p:nvPicPr>
        <p:blipFill>
          <a:blip r:embed="rId4"/>
          <a:stretch/>
        </p:blipFill>
        <p:spPr>
          <a:xfrm>
            <a:off x="0" y="846000"/>
            <a:ext cx="4500720" cy="17020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grpSp>
        <p:nvGrpSpPr>
          <p:cNvPr id="115" name="Text Box 6"/>
          <p:cNvGrpSpPr/>
          <p:nvPr/>
        </p:nvGrpSpPr>
        <p:grpSpPr>
          <a:xfrm>
            <a:off x="92160" y="165240"/>
            <a:ext cx="4308480" cy="504720"/>
            <a:chOff x="92160" y="165240"/>
            <a:chExt cx="4308480" cy="504720"/>
          </a:xfrm>
        </p:grpSpPr>
        <p:pic>
          <p:nvPicPr>
            <p:cNvPr id="116" name="Text Box 6" descr=""/>
            <p:cNvPicPr/>
            <p:nvPr/>
          </p:nvPicPr>
          <p:blipFill>
            <a:blip r:embed="rId5"/>
            <a:stretch/>
          </p:blipFill>
          <p:spPr>
            <a:xfrm>
              <a:off x="92160" y="165240"/>
              <a:ext cx="43084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52280" y="228600"/>
              <a:ext cx="41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ffffff"/>
                  </a:solidFill>
                  <a:uFillTx/>
                  <a:latin typeface="Verdana"/>
                </a:rPr>
                <a:t>FÓV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Libros\HISTOLOGIA\cd geneser\cd geneser\pics\18_12_50.jpg"/>
          <p:cNvPicPr/>
          <p:nvPr/>
        </p:nvPicPr>
        <p:blipFill>
          <a:blip r:embed="rId1"/>
          <a:stretch/>
        </p:blipFill>
        <p:spPr>
          <a:xfrm>
            <a:off x="1143000" y="1066680"/>
            <a:ext cx="6964200" cy="52786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grpSp>
        <p:nvGrpSpPr>
          <p:cNvPr id="119" name="Text Box 6"/>
          <p:cNvGrpSpPr/>
          <p:nvPr/>
        </p:nvGrpSpPr>
        <p:grpSpPr>
          <a:xfrm>
            <a:off x="2457360" y="244440"/>
            <a:ext cx="4303800" cy="504720"/>
            <a:chOff x="2457360" y="244440"/>
            <a:chExt cx="4303800" cy="504720"/>
          </a:xfrm>
        </p:grpSpPr>
        <p:pic>
          <p:nvPicPr>
            <p:cNvPr id="120" name="Text Box 6" descr=""/>
            <p:cNvPicPr/>
            <p:nvPr/>
          </p:nvPicPr>
          <p:blipFill>
            <a:blip r:embed="rId2"/>
            <a:stretch/>
          </p:blipFill>
          <p:spPr>
            <a:xfrm>
              <a:off x="2457360" y="244440"/>
              <a:ext cx="43038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514600" y="304920"/>
              <a:ext cx="41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ffffff"/>
                  </a:solidFill>
                  <a:uFillTx/>
                  <a:latin typeface="Verdana"/>
                </a:rPr>
                <a:t>PUNTO CI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7524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10 CAPAS DE LA RE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04920" y="665280"/>
            <a:ext cx="84582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ternamente el cuerpo vít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membrana limitante interna                                                  - fibras –axones de                                                                      - células ganglionares                                                              - plexiforme interna                                                                 - granular ó nuclear interna, núcleos de células bipolares      - plexiforme externa                                                                - granular ó nuclear externa, núcleos de conos y bastones        - membrana limitante externa                                                  - conos y bastones                                                                   - epitelio pigmen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ternamente la coroides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www.monografias.com/trabajos34/ojo-humano/oj1.gif"/>
          <p:cNvPicPr/>
          <p:nvPr/>
        </p:nvPicPr>
        <p:blipFill>
          <a:blip r:embed="rId1"/>
          <a:stretch/>
        </p:blipFill>
        <p:spPr>
          <a:xfrm>
            <a:off x="0" y="473040"/>
            <a:ext cx="914400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E:\data\images\jpg\c23\23_016.jpg"/>
          <p:cNvPicPr/>
          <p:nvPr/>
        </p:nvPicPr>
        <p:blipFill>
          <a:blip r:embed="rId1"/>
          <a:srcRect l="8331" t="4475" r="7500" b="7952"/>
          <a:stretch/>
        </p:blipFill>
        <p:spPr>
          <a:xfrm>
            <a:off x="7632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76240" y="1346040"/>
            <a:ext cx="7391520" cy="10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ESCLEROTICA: córnea y escleró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jido conectivo comp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876240" y="2870280"/>
            <a:ext cx="7391520" cy="10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VEA: coroides,  cuerpo ciliar  e i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jido conectivo laxo muy vascularizado y especi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14400" y="4470480"/>
            <a:ext cx="7315200" cy="10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TINA: epitelio pigmentado y retina fotosens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ácula con fóvea, nervio óptico (2º par cran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E:\data\images\jpg\c23\23_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CHOROID"/>
          <p:cNvPicPr/>
          <p:nvPr/>
        </p:nvPicPr>
        <p:blipFill>
          <a:blip r:embed="rId1"/>
          <a:stretch/>
        </p:blipFill>
        <p:spPr>
          <a:xfrm>
            <a:off x="1357200" y="2286000"/>
            <a:ext cx="6072480" cy="4302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grpSp>
        <p:nvGrpSpPr>
          <p:cNvPr id="59" name="2 CuadroTexto"/>
          <p:cNvGrpSpPr/>
          <p:nvPr/>
        </p:nvGrpSpPr>
        <p:grpSpPr>
          <a:xfrm>
            <a:off x="2084400" y="212760"/>
            <a:ext cx="5114880" cy="609480"/>
            <a:chOff x="2084400" y="212760"/>
            <a:chExt cx="5114880" cy="609480"/>
          </a:xfrm>
        </p:grpSpPr>
        <p:pic>
          <p:nvPicPr>
            <p:cNvPr id="60" name="2 CuadroTexto" descr=""/>
            <p:cNvPicPr/>
            <p:nvPr/>
          </p:nvPicPr>
          <p:blipFill>
            <a:blip r:embed="rId2"/>
            <a:stretch/>
          </p:blipFill>
          <p:spPr>
            <a:xfrm>
              <a:off x="2084400" y="212760"/>
              <a:ext cx="5114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143080" y="285840"/>
              <a:ext cx="50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Franklin Gothic Book"/>
                </a:rPr>
                <a:t>Capa Media, Vascular o Úv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Rectangle 7"/>
          <p:cNvSpPr/>
          <p:nvPr/>
        </p:nvSpPr>
        <p:spPr>
          <a:xfrm>
            <a:off x="285840" y="1071720"/>
            <a:ext cx="8501040" cy="143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a túnica vascular o úvea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Su estructura básica consiste en un estroma de tejido conjuntivo laxo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pigmentado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(melanocitos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, ricamente vascularizado e inerv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tá compuesta por tres zonas concéntricas con respecto a la pupila: el iris, el cuerpo ciliar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, continúa con la retina ora serrata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y la coro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1 CuadroTexto"/>
          <p:cNvGrpSpPr/>
          <p:nvPr/>
        </p:nvGrpSpPr>
        <p:grpSpPr>
          <a:xfrm>
            <a:off x="2000160" y="426960"/>
            <a:ext cx="5278680" cy="898560"/>
            <a:chOff x="2000160" y="426960"/>
            <a:chExt cx="5278680" cy="898560"/>
          </a:xfrm>
        </p:grpSpPr>
        <p:pic>
          <p:nvPicPr>
            <p:cNvPr id="64" name="1 CuadroTexto" descr=""/>
            <p:cNvPicPr/>
            <p:nvPr/>
          </p:nvPicPr>
          <p:blipFill>
            <a:blip r:embed="rId1"/>
            <a:stretch/>
          </p:blipFill>
          <p:spPr>
            <a:xfrm>
              <a:off x="2000160" y="426960"/>
              <a:ext cx="52786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143080" y="500040"/>
              <a:ext cx="500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Franklin Gothic Book"/>
                </a:rPr>
                <a:t>Cuerpo Ciliar y Procesos Cilia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Text Box 3"/>
          <p:cNvSpPr/>
          <p:nvPr/>
        </p:nvSpPr>
        <p:spPr>
          <a:xfrm>
            <a:off x="428760" y="1285920"/>
            <a:ext cx="4429080" cy="437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El cuerpo ciliar corresponde a la porción engrosada de la úve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Forma un anillo alrededor del iris, de unos 6 mm de anch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Se encuentra delimitado hacia anterior por el borde ciliar y hacia posterior por la ora serrata, la que marca el límite entre el cuerpo ciliar y la parte fotosensible de la ret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Times New Roman"/>
              </a:rPr>
              <a:t>Presenta epite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Times New Roman"/>
              </a:rPr>
              <a:t>Se atribuye función de formar humor acuoso, capa externa pigmentada, interna no pigment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Times New Roman"/>
              </a:rPr>
              <a:t>Músculo ciliar cristalino, y la cor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cil04vg2"/>
          <p:cNvPicPr/>
          <p:nvPr/>
        </p:nvPicPr>
        <p:blipFill>
          <a:blip r:embed="rId2"/>
          <a:stretch/>
        </p:blipFill>
        <p:spPr>
          <a:xfrm>
            <a:off x="5000760" y="1285920"/>
            <a:ext cx="35366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E:\data\images\jpg\c23\23_007.jpg"/>
          <p:cNvPicPr/>
          <p:nvPr/>
        </p:nvPicPr>
        <p:blipFill>
          <a:blip r:embed="rId1"/>
          <a:srcRect l="6668" t="4672" r="6668" b="10114"/>
          <a:stretch/>
        </p:blipFill>
        <p:spPr>
          <a:xfrm>
            <a:off x="0" y="0"/>
            <a:ext cx="9144000" cy="64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E:\data\images\jpg\c23\23_008.jpg"/>
          <p:cNvPicPr/>
          <p:nvPr/>
        </p:nvPicPr>
        <p:blipFill>
          <a:blip r:embed="rId1"/>
          <a:srcRect l="0" t="15935" r="2500" b="16350"/>
          <a:stretch/>
        </p:blipFill>
        <p:spPr>
          <a:xfrm>
            <a:off x="0" y="609480"/>
            <a:ext cx="9144000" cy="5548320"/>
          </a:xfrm>
          <a:prstGeom prst="rect">
            <a:avLst/>
          </a:prstGeom>
          <a:ln w="0">
            <a:noFill/>
          </a:ln>
        </p:spPr>
      </p:pic>
      <p:grpSp>
        <p:nvGrpSpPr>
          <p:cNvPr id="70" name="Text Box 4"/>
          <p:cNvGrpSpPr/>
          <p:nvPr/>
        </p:nvGrpSpPr>
        <p:grpSpPr>
          <a:xfrm>
            <a:off x="1920960" y="225360"/>
            <a:ext cx="2784240" cy="609840"/>
            <a:chOff x="1920960" y="225360"/>
            <a:chExt cx="2784240" cy="609840"/>
          </a:xfrm>
        </p:grpSpPr>
        <p:pic>
          <p:nvPicPr>
            <p:cNvPr id="71" name="Text Box 4" descr=""/>
            <p:cNvPicPr/>
            <p:nvPr/>
          </p:nvPicPr>
          <p:blipFill>
            <a:blip r:embed="rId2"/>
            <a:stretch/>
          </p:blipFill>
          <p:spPr>
            <a:xfrm>
              <a:off x="1920960" y="225360"/>
              <a:ext cx="27842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981080" y="30492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IR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20:39:40Z</dcterms:created>
  <dc:creator>Dra. Inge Maurer</dc:creator>
  <dc:description/>
  <dc:language>en-US</dc:language>
  <cp:lastModifiedBy>WinuE</cp:lastModifiedBy>
  <dcterms:modified xsi:type="dcterms:W3CDTF">2009-09-01T19:39:39Z</dcterms:modified>
  <cp:revision>65</cp:revision>
  <dc:subject/>
  <dc:title>Presentación de PowerPoint</dc:title>
</cp:coreProperties>
</file>