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7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3AB-E52A-4C1D-8E5E-7DA37FDDFC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B54-ED76-48A0-A96A-8587986FE24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6D3B98-EE4B-49F8-B932-D3EAE99D884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693-687B-4394-8D36-454E61FEF9BB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8BA153-5540-4609-BF30-468D81E0E2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18C-1C96-4933-BD4F-293DC012FE6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E635F0-A5BB-44EB-A74A-ECC5E66BF8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1EC-07E4-4D7C-BA49-3BE00D55649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7CBEF8-B257-4C3D-9045-7829BABF6B2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FB3-0B9C-4854-9214-14F83BC0D69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644FF6-E73D-42EB-AF50-C041716743F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D01-BA35-493D-B1D4-2A84421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108-9B41-471F-95C8-97F9754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D57-C8FB-4D81-A94B-47CD2E8F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12A-5A3C-4467-A65C-5953CED1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960-D7B5-4AB4-95FB-DD751F2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4DC-7F76-4317-9FA7-8C513C6A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E33-DA94-4B90-8BF5-33567ABA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C07-BDFF-44E8-BC8F-819D47E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7EE-4502-47F8-AE53-CA9E1B07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4D9-1C9F-4BDA-9F8D-575B812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931-260F-4594-8A57-2D19D29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6B3-355D-4269-80C3-1E38E11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30E-8EDF-43E7-9897-BE3C31D12D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48320" y="5638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quipo de Histolog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4 CuadroTexto"/>
          <p:cNvGrpSpPr/>
          <p:nvPr/>
        </p:nvGrpSpPr>
        <p:grpSpPr>
          <a:xfrm>
            <a:off x="2305080" y="2309760"/>
            <a:ext cx="4838760" cy="847800"/>
            <a:chOff x="2305080" y="2309760"/>
            <a:chExt cx="4838760" cy="847800"/>
          </a:xfrm>
        </p:grpSpPr>
        <p:pic>
          <p:nvPicPr>
            <p:cNvPr id="50" name="4 CuadroTexto" descr=""/>
            <p:cNvPicPr/>
            <p:nvPr/>
          </p:nvPicPr>
          <p:blipFill>
            <a:blip r:embed="rId1"/>
            <a:stretch/>
          </p:blipFill>
          <p:spPr>
            <a:xfrm>
              <a:off x="2305080" y="2309760"/>
              <a:ext cx="483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62320" y="2438280"/>
              <a:ext cx="472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Times New Roman"/>
                </a:rPr>
                <a:t>BULBO OCUL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Libros\HISTOLOGIA\cd geneser\cd geneser\pics\18_8_50.jpg"/>
          <p:cNvPicPr/>
          <p:nvPr/>
        </p:nvPicPr>
        <p:blipFill>
          <a:blip r:embed="rId1"/>
          <a:stretch/>
        </p:blipFill>
        <p:spPr>
          <a:xfrm>
            <a:off x="4114800" y="762120"/>
            <a:ext cx="4678200" cy="5295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4" name="Picture 3" descr="D:\Libros\HISTOLOGIA\cd geneser\cd geneser\pics\18_7_80.jpg"/>
          <p:cNvPicPr/>
          <p:nvPr/>
        </p:nvPicPr>
        <p:blipFill>
          <a:blip r:embed="rId2"/>
          <a:stretch/>
        </p:blipFill>
        <p:spPr>
          <a:xfrm>
            <a:off x="228600" y="2362320"/>
            <a:ext cx="3782880" cy="2514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75" name="Text Box 3"/>
          <p:cNvGrpSpPr/>
          <p:nvPr/>
        </p:nvGrpSpPr>
        <p:grpSpPr>
          <a:xfrm>
            <a:off x="487440" y="396720"/>
            <a:ext cx="3151080" cy="536760"/>
            <a:chOff x="487440" y="396720"/>
            <a:chExt cx="3151080" cy="536760"/>
          </a:xfrm>
        </p:grpSpPr>
        <p:pic>
          <p:nvPicPr>
            <p:cNvPr id="76" name="Text Box 3" descr=""/>
            <p:cNvPicPr/>
            <p:nvPr/>
          </p:nvPicPr>
          <p:blipFill>
            <a:blip r:embed="rId3"/>
            <a:stretch/>
          </p:blipFill>
          <p:spPr>
            <a:xfrm>
              <a:off x="487440" y="396720"/>
              <a:ext cx="31510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9480" y="4572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Círculos arteriales del I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4 Rectángulo"/>
          <p:cNvSpPr/>
          <p:nvPr/>
        </p:nvSpPr>
        <p:spPr>
          <a:xfrm>
            <a:off x="914400" y="3048120"/>
            <a:ext cx="106668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ocularis.es/blog/pics/fg233_1.gif"/>
          <p:cNvPicPr/>
          <p:nvPr/>
        </p:nvPicPr>
        <p:blipFill>
          <a:blip r:embed="rId1"/>
          <a:srcRect l="0" t="40258" r="0" b="0"/>
          <a:stretch/>
        </p:blipFill>
        <p:spPr>
          <a:xfrm>
            <a:off x="1752480" y="1295280"/>
            <a:ext cx="54864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80" name="Text Box 4"/>
          <p:cNvGrpSpPr/>
          <p:nvPr/>
        </p:nvGrpSpPr>
        <p:grpSpPr>
          <a:xfrm>
            <a:off x="1616040" y="530280"/>
            <a:ext cx="5907240" cy="609480"/>
            <a:chOff x="1616040" y="530280"/>
            <a:chExt cx="5907240" cy="609480"/>
          </a:xfrm>
        </p:grpSpPr>
        <p:pic>
          <p:nvPicPr>
            <p:cNvPr id="81" name="Text Box 4" descr=""/>
            <p:cNvPicPr/>
            <p:nvPr/>
          </p:nvPicPr>
          <p:blipFill>
            <a:blip r:embed="rId2"/>
            <a:stretch/>
          </p:blipFill>
          <p:spPr>
            <a:xfrm>
              <a:off x="1616040" y="530280"/>
              <a:ext cx="5907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76520" y="609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ANGULO IRIDO-CORN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:\data\images\jpg\c23\23_015.jpg"/>
          <p:cNvPicPr/>
          <p:nvPr/>
        </p:nvPicPr>
        <p:blipFill>
          <a:blip r:embed="rId1"/>
          <a:srcRect l="0" t="6811" r="2500" b="6788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 Box 4"/>
          <p:cNvGrpSpPr/>
          <p:nvPr/>
        </p:nvGrpSpPr>
        <p:grpSpPr>
          <a:xfrm>
            <a:off x="2719440" y="146160"/>
            <a:ext cx="3700440" cy="615960"/>
            <a:chOff x="2719440" y="146160"/>
            <a:chExt cx="3700440" cy="615960"/>
          </a:xfrm>
        </p:grpSpPr>
        <p:pic>
          <p:nvPicPr>
            <p:cNvPr id="85" name="Text Box 4" descr=""/>
            <p:cNvPicPr/>
            <p:nvPr/>
          </p:nvPicPr>
          <p:blipFill>
            <a:blip r:embed="rId2"/>
            <a:stretch/>
          </p:blipFill>
          <p:spPr>
            <a:xfrm>
              <a:off x="2719440" y="146160"/>
              <a:ext cx="3700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8136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Verdana"/>
                </a:rPr>
                <a:t>Cristal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:\data\images\jpg\c23\23_009.jpg"/>
          <p:cNvPicPr/>
          <p:nvPr/>
        </p:nvPicPr>
        <p:blipFill>
          <a:blip r:embed="rId1"/>
          <a:srcRect l="0" t="5748" r="5087" b="11495"/>
          <a:stretch/>
        </p:blipFill>
        <p:spPr>
          <a:xfrm>
            <a:off x="0" y="609480"/>
            <a:ext cx="4419720" cy="563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:\data\images\jpg\c23\23_010.jpg"/>
          <p:cNvPicPr/>
          <p:nvPr/>
        </p:nvPicPr>
        <p:blipFill>
          <a:blip r:embed="rId2"/>
          <a:srcRect l="0" t="0" r="0" b="22326"/>
          <a:stretch/>
        </p:blipFill>
        <p:spPr>
          <a:xfrm>
            <a:off x="4495680" y="1143000"/>
            <a:ext cx="4648320" cy="5486400"/>
          </a:xfrm>
          <a:prstGeom prst="rect">
            <a:avLst/>
          </a:prstGeom>
          <a:ln w="0">
            <a:noFill/>
          </a:ln>
        </p:spPr>
      </p:pic>
      <p:grpSp>
        <p:nvGrpSpPr>
          <p:cNvPr id="89" name="Text Box 6"/>
          <p:cNvGrpSpPr/>
          <p:nvPr/>
        </p:nvGrpSpPr>
        <p:grpSpPr>
          <a:xfrm>
            <a:off x="2457360" y="73080"/>
            <a:ext cx="4303800" cy="609480"/>
            <a:chOff x="2457360" y="73080"/>
            <a:chExt cx="4303800" cy="609480"/>
          </a:xfrm>
        </p:grpSpPr>
        <p:pic>
          <p:nvPicPr>
            <p:cNvPr id="90" name="Text Box 6" descr=""/>
            <p:cNvPicPr/>
            <p:nvPr/>
          </p:nvPicPr>
          <p:blipFill>
            <a:blip r:embed="rId3"/>
            <a:stretch/>
          </p:blipFill>
          <p:spPr>
            <a:xfrm>
              <a:off x="2457360" y="73080"/>
              <a:ext cx="4303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514600" y="152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RE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retina"/>
          <p:cNvPicPr/>
          <p:nvPr/>
        </p:nvPicPr>
        <p:blipFill>
          <a:blip r:embed="rId1"/>
          <a:stretch/>
        </p:blipFill>
        <p:spPr>
          <a:xfrm>
            <a:off x="638280" y="214200"/>
            <a:ext cx="7862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0" descr="G4Diag-fotorreceptores"/>
          <p:cNvPicPr/>
          <p:nvPr/>
        </p:nvPicPr>
        <p:blipFill>
          <a:blip r:embed="rId2"/>
          <a:srcRect l="0" t="3662" r="0" b="0"/>
          <a:stretch/>
        </p:blipFill>
        <p:spPr>
          <a:xfrm>
            <a:off x="6700680" y="3562200"/>
            <a:ext cx="2443320" cy="32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et40he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142920"/>
            <a:ext cx="514512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5213520" y="0"/>
            <a:ext cx="3701880" cy="68022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imes New Roman"/>
              </a:rPr>
              <a:t>Estructura compuesta por 10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Epitelio pig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de Conos y Ba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élulas ganglio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Fibras del nervi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3 Conector recto de flecha"/>
          <p:cNvCxnSpPr/>
          <p:nvPr/>
        </p:nvCxnSpPr>
        <p:spPr>
          <a:xfrm flipH="1">
            <a:off x="4214520" y="1143360"/>
            <a:ext cx="1072080" cy="213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4 Conector recto de flecha"/>
          <p:cNvCxnSpPr/>
          <p:nvPr/>
        </p:nvCxnSpPr>
        <p:spPr>
          <a:xfrm flipH="1" flipV="1">
            <a:off x="4071240" y="171432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8" name="5 Conector recto de flecha"/>
          <p:cNvCxnSpPr/>
          <p:nvPr/>
        </p:nvCxnSpPr>
        <p:spPr>
          <a:xfrm flipH="1">
            <a:off x="4142520" y="2000160"/>
            <a:ext cx="1072440" cy="2152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9" name="6 Conector recto de flecha"/>
          <p:cNvCxnSpPr/>
          <p:nvPr/>
        </p:nvCxnSpPr>
        <p:spPr>
          <a:xfrm flipH="1" flipV="1">
            <a:off x="3999960" y="292716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7 Conector recto de flecha"/>
          <p:cNvCxnSpPr/>
          <p:nvPr/>
        </p:nvCxnSpPr>
        <p:spPr>
          <a:xfrm flipH="1" flipV="1">
            <a:off x="4142520" y="37144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1" name="8 Conector recto de flecha"/>
          <p:cNvCxnSpPr/>
          <p:nvPr/>
        </p:nvCxnSpPr>
        <p:spPr>
          <a:xfrm flipH="1" flipV="1">
            <a:off x="4142520" y="407160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2" name="9 Conector recto de flecha"/>
          <p:cNvCxnSpPr/>
          <p:nvPr/>
        </p:nvCxnSpPr>
        <p:spPr>
          <a:xfrm flipH="1" flipV="1">
            <a:off x="4142520" y="5285520"/>
            <a:ext cx="1143720" cy="723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3" name="10 Conector recto de flecha"/>
          <p:cNvCxnSpPr/>
          <p:nvPr/>
        </p:nvCxnSpPr>
        <p:spPr>
          <a:xfrm flipH="1">
            <a:off x="4419000" y="6000840"/>
            <a:ext cx="795960" cy="95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4" name="11 Conector recto de flecha"/>
          <p:cNvCxnSpPr/>
          <p:nvPr/>
        </p:nvCxnSpPr>
        <p:spPr>
          <a:xfrm flipH="1">
            <a:off x="4142520" y="62866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5" name="12 Conector recto de flecha"/>
          <p:cNvCxnSpPr/>
          <p:nvPr/>
        </p:nvCxnSpPr>
        <p:spPr>
          <a:xfrm flipH="1" flipV="1">
            <a:off x="4071240" y="6500520"/>
            <a:ext cx="121500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6" name="13 Flecha arriba"/>
          <p:cNvSpPr/>
          <p:nvPr/>
        </p:nvSpPr>
        <p:spPr>
          <a:xfrm>
            <a:off x="428760" y="1500120"/>
            <a:ext cx="357120" cy="450072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14 CuadroTexto"/>
          <p:cNvGrpSpPr/>
          <p:nvPr/>
        </p:nvGrpSpPr>
        <p:grpSpPr>
          <a:xfrm>
            <a:off x="-60480" y="6072120"/>
            <a:ext cx="1328760" cy="560520"/>
            <a:chOff x="-60480" y="6072120"/>
            <a:chExt cx="1328760" cy="560520"/>
          </a:xfrm>
        </p:grpSpPr>
        <p:pic>
          <p:nvPicPr>
            <p:cNvPr id="108" name="14 CuadroTexto" descr=""/>
            <p:cNvPicPr/>
            <p:nvPr/>
          </p:nvPicPr>
          <p:blipFill>
            <a:blip r:embed="rId2"/>
            <a:stretch/>
          </p:blipFill>
          <p:spPr>
            <a:xfrm>
              <a:off x="-60480" y="6072120"/>
              <a:ext cx="13287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61437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LU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35640" y="260280"/>
            <a:ext cx="4608360" cy="2574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La fóvea carece de vasos sanguí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Irrigada solamente por finos capilares, los cuales están ausentes en su parte central, lo que incrementa enormemente la transparenci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Debido a la predominancia de conos y a su relación 1:1 con las células ganglionares, la fóvea constituye la región de visión aguda de la ret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fovea2"/>
          <p:cNvPicPr/>
          <p:nvPr/>
        </p:nvPicPr>
        <p:blipFill>
          <a:blip r:embed="rId1"/>
          <a:stretch/>
        </p:blipFill>
        <p:spPr>
          <a:xfrm>
            <a:off x="0" y="3143160"/>
            <a:ext cx="4465800" cy="3289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2" name="Picture 10" descr="laytb01"/>
          <p:cNvPicPr/>
          <p:nvPr/>
        </p:nvPicPr>
        <p:blipFill>
          <a:blip r:embed="rId2"/>
          <a:stretch/>
        </p:blipFill>
        <p:spPr>
          <a:xfrm>
            <a:off x="2338560" y="-2160720"/>
            <a:ext cx="47520" cy="28800"/>
          </a:xfrm>
          <a:prstGeom prst="rect">
            <a:avLst/>
          </a:prstGeom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3" name="Picture 45" descr="foveahisto"/>
          <p:cNvPicPr/>
          <p:nvPr/>
        </p:nvPicPr>
        <p:blipFill>
          <a:blip r:embed="rId3"/>
          <a:stretch/>
        </p:blipFill>
        <p:spPr>
          <a:xfrm>
            <a:off x="4643280" y="3786120"/>
            <a:ext cx="4284720" cy="27781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4" name="Picture 46" descr="fovearetina"/>
          <p:cNvPicPr/>
          <p:nvPr/>
        </p:nvPicPr>
        <p:blipFill>
          <a:blip r:embed="rId4"/>
          <a:stretch/>
        </p:blipFill>
        <p:spPr>
          <a:xfrm>
            <a:off x="0" y="846000"/>
            <a:ext cx="4500720" cy="1702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15" name="Text Box 6"/>
          <p:cNvGrpSpPr/>
          <p:nvPr/>
        </p:nvGrpSpPr>
        <p:grpSpPr>
          <a:xfrm>
            <a:off x="92160" y="165240"/>
            <a:ext cx="4308480" cy="504720"/>
            <a:chOff x="92160" y="165240"/>
            <a:chExt cx="4308480" cy="504720"/>
          </a:xfrm>
        </p:grpSpPr>
        <p:pic>
          <p:nvPicPr>
            <p:cNvPr id="116" name="Text Box 6" descr=""/>
            <p:cNvPicPr/>
            <p:nvPr/>
          </p:nvPicPr>
          <p:blipFill>
            <a:blip r:embed="rId5"/>
            <a:stretch/>
          </p:blipFill>
          <p:spPr>
            <a:xfrm>
              <a:off x="92160" y="165240"/>
              <a:ext cx="43084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2280" y="2286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FÓV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Libros\HISTOLOGIA\cd geneser\cd geneser\pics\18_12_50.jpg"/>
          <p:cNvPicPr/>
          <p:nvPr/>
        </p:nvPicPr>
        <p:blipFill>
          <a:blip r:embed="rId1"/>
          <a:stretch/>
        </p:blipFill>
        <p:spPr>
          <a:xfrm>
            <a:off x="1143000" y="1066680"/>
            <a:ext cx="6964200" cy="5278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119" name="Text Box 6"/>
          <p:cNvGrpSpPr/>
          <p:nvPr/>
        </p:nvGrpSpPr>
        <p:grpSpPr>
          <a:xfrm>
            <a:off x="2457360" y="244440"/>
            <a:ext cx="4303800" cy="504720"/>
            <a:chOff x="2457360" y="244440"/>
            <a:chExt cx="4303800" cy="504720"/>
          </a:xfrm>
        </p:grpSpPr>
        <p:pic>
          <p:nvPicPr>
            <p:cNvPr id="120" name="Text Box 6" descr=""/>
            <p:cNvPicPr/>
            <p:nvPr/>
          </p:nvPicPr>
          <p:blipFill>
            <a:blip r:embed="rId2"/>
            <a:stretch/>
          </p:blipFill>
          <p:spPr>
            <a:xfrm>
              <a:off x="2457360" y="244440"/>
              <a:ext cx="43038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14600" y="30492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PUNTO CI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524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10 CAPAS DE LA 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66528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namente el cuerpo ví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membrana limitante interna                                                  - fibras –axones de                                                                      - células ganglionares                                                              - plexiforme interna                                                                 - granular ó nuclear interna, núcleos de células bipolares      - plexiforme externa                                                                - granular ó nuclear externa, núcleos de conos y bastones        - membrana limitante externa                                                  - conos y bastones                                                                   - epitelio pigme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mente la coroides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monografias.com/trabajos34/ojo-humano/oj1.gif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E:\data\images\jpg\c23\23_016.jpg"/>
          <p:cNvPicPr/>
          <p:nvPr/>
        </p:nvPicPr>
        <p:blipFill>
          <a:blip r:embed="rId1"/>
          <a:srcRect l="8331" t="4475" r="7500" b="7952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6240" y="134604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ESCLEROTICA: córnea y escler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co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76240" y="287028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VEA: coroides,  cuerpo ciliar  e i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laxo muy vascularizado y especi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4470480"/>
            <a:ext cx="731520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TINA: epitelio pigmentado y retina fotosen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cula con fóvea, nervio óptico (2º par cran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E:\data\images\jpg\c23\23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CHOROID"/>
          <p:cNvPicPr/>
          <p:nvPr/>
        </p:nvPicPr>
        <p:blipFill>
          <a:blip r:embed="rId1"/>
          <a:stretch/>
        </p:blipFill>
        <p:spPr>
          <a:xfrm>
            <a:off x="1357200" y="2286000"/>
            <a:ext cx="6072480" cy="430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59" name="2 CuadroTexto"/>
          <p:cNvGrpSpPr/>
          <p:nvPr/>
        </p:nvGrpSpPr>
        <p:grpSpPr>
          <a:xfrm>
            <a:off x="2084400" y="212760"/>
            <a:ext cx="5114880" cy="609480"/>
            <a:chOff x="2084400" y="212760"/>
            <a:chExt cx="5114880" cy="609480"/>
          </a:xfrm>
        </p:grpSpPr>
        <p:pic>
          <p:nvPicPr>
            <p:cNvPr id="60" name="2 CuadroTexto" descr=""/>
            <p:cNvPicPr/>
            <p:nvPr/>
          </p:nvPicPr>
          <p:blipFill>
            <a:blip r:embed="rId2"/>
            <a:stretch/>
          </p:blipFill>
          <p:spPr>
            <a:xfrm>
              <a:off x="2084400" y="212760"/>
              <a:ext cx="5114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143080" y="28584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apa Media, Vascular o Úv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285840" y="1071720"/>
            <a:ext cx="8501040" cy="143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túnica vascular o úve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u estructura básica consiste en un estroma de tejido conjuntivo lax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igmentad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(melanocitos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ricamente vascularizado e iner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á compuesta por tres zonas concéntricas con respecto a la pupila: el iris, el cuerpo cilia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continúa con la retina ora serrat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 la co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1 CuadroTexto"/>
          <p:cNvGrpSpPr/>
          <p:nvPr/>
        </p:nvGrpSpPr>
        <p:grpSpPr>
          <a:xfrm>
            <a:off x="2000160" y="426960"/>
            <a:ext cx="5278680" cy="898560"/>
            <a:chOff x="2000160" y="426960"/>
            <a:chExt cx="5278680" cy="898560"/>
          </a:xfrm>
        </p:grpSpPr>
        <p:pic>
          <p:nvPicPr>
            <p:cNvPr id="64" name="1 CuadroTexto" descr=""/>
            <p:cNvPicPr/>
            <p:nvPr/>
          </p:nvPicPr>
          <p:blipFill>
            <a:blip r:embed="rId1"/>
            <a:stretch/>
          </p:blipFill>
          <p:spPr>
            <a:xfrm>
              <a:off x="2000160" y="426960"/>
              <a:ext cx="52786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143080" y="500040"/>
              <a:ext cx="500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uerpo Ciliar y Procesos Cili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3"/>
          <p:cNvSpPr/>
          <p:nvPr/>
        </p:nvSpPr>
        <p:spPr>
          <a:xfrm>
            <a:off x="428760" y="1285920"/>
            <a:ext cx="4429080" cy="437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El cuerpo ciliar corresponde a la porción engrosada de la úve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Forma un anillo alrededor del iris, de unos 6 mm de anch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Se encuentra delimitado hacia anterior por el borde ciliar y hacia posterior por la ora serrata, la que marca el límite entre el cuerpo ciliar y la parte fotosensible de la ret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Presenta epi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Se atribuye función de formar humor acuoso, capa externa pigmentada, interna no pigm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Músculo ciliar cristalino, y la co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il04vg2"/>
          <p:cNvPicPr/>
          <p:nvPr/>
        </p:nvPicPr>
        <p:blipFill>
          <a:blip r:embed="rId2"/>
          <a:stretch/>
        </p:blipFill>
        <p:spPr>
          <a:xfrm>
            <a:off x="5000760" y="1285920"/>
            <a:ext cx="3536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:\data\images\jpg\c23\23_007.jpg"/>
          <p:cNvPicPr/>
          <p:nvPr/>
        </p:nvPicPr>
        <p:blipFill>
          <a:blip r:embed="rId1"/>
          <a:srcRect l="6668" t="4672" r="6668" b="10114"/>
          <a:stretch/>
        </p:blipFill>
        <p:spPr>
          <a:xfrm>
            <a:off x="0" y="0"/>
            <a:ext cx="91440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E:\data\images\jpg\c23\23_008.jpg"/>
          <p:cNvPicPr/>
          <p:nvPr/>
        </p:nvPicPr>
        <p:blipFill>
          <a:blip r:embed="rId1"/>
          <a:srcRect l="0" t="15935" r="2500" b="16350"/>
          <a:stretch/>
        </p:blipFill>
        <p:spPr>
          <a:xfrm>
            <a:off x="0" y="609480"/>
            <a:ext cx="9144000" cy="5548320"/>
          </a:xfrm>
          <a:prstGeom prst="rect">
            <a:avLst/>
          </a:prstGeom>
          <a:ln w="0">
            <a:noFill/>
          </a:ln>
        </p:spPr>
      </p:pic>
      <p:grpSp>
        <p:nvGrpSpPr>
          <p:cNvPr id="70" name="Text Box 4"/>
          <p:cNvGrpSpPr/>
          <p:nvPr/>
        </p:nvGrpSpPr>
        <p:grpSpPr>
          <a:xfrm>
            <a:off x="1920960" y="225360"/>
            <a:ext cx="2784240" cy="609840"/>
            <a:chOff x="1920960" y="225360"/>
            <a:chExt cx="2784240" cy="609840"/>
          </a:xfrm>
        </p:grpSpPr>
        <p:pic>
          <p:nvPicPr>
            <p:cNvPr id="71" name="Text Box 4" descr=""/>
            <p:cNvPicPr/>
            <p:nvPr/>
          </p:nvPicPr>
          <p:blipFill>
            <a:blip r:embed="rId2"/>
            <a:stretch/>
          </p:blipFill>
          <p:spPr>
            <a:xfrm>
              <a:off x="1920960" y="225360"/>
              <a:ext cx="2784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981080" y="3049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I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0:39:40Z</dcterms:created>
  <dc:creator>Dra. Inge Maurer</dc:creator>
  <dc:description/>
  <dc:language>en-US</dc:language>
  <cp:lastModifiedBy>WinuE</cp:lastModifiedBy>
  <dcterms:modified xsi:type="dcterms:W3CDTF">2009-09-01T19:39:39Z</dcterms:modified>
  <cp:revision>65</cp:revision>
  <dc:subject/>
  <dc:title>Presentación de PowerPoint</dc:title>
</cp:coreProperties>
</file>