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9.png" ContentType="image/png"/>
  <Override PartName="/ppt/media/image18.wmf" ContentType="image/x-wmf"/>
  <Override PartName="/ppt/media/image15.png" ContentType="image/png"/>
  <Override PartName="/ppt/media/image3.wmf" ContentType="image/x-wmf"/>
  <Override PartName="/ppt/media/image26.wmf" ContentType="image/x-wmf"/>
  <Override PartName="/ppt/media/image1.png" ContentType="image/png"/>
  <Override PartName="/ppt/media/image24.png" ContentType="image/png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1D5-C7EE-4777-B57C-30B0FFBF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198-6AC9-4021-869D-A676C2E3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505-ED2A-4A80-8E7B-1C00D449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BFD-3827-4598-9B7D-E8AD88BC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A6B-3921-4031-B83B-E145B7B9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22B-2D8B-4C50-BF55-DCD3EE25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1C4-8CE8-4571-8F2C-364D7D17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E0E-513F-4ACC-9AC5-5B8DC291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C85-C518-4CF3-BA15-0D9A956F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C08-97DF-45DA-9E25-648FD223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659-9786-4931-AE97-BCD6DE74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AEE-8E58-4D55-BCB7-F33CDBAE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1F18-62DE-4004-A4CF-2E2C10A653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Edouard_Van_Beneden" TargetMode="External"/><Relationship Id="rId2" Type="http://schemas.openxmlformats.org/officeDocument/2006/relationships/hyperlink" Target="http://es.wikipedia.org/wiki/Edouard_Van_Beneden" TargetMode="External"/><Relationship Id="rId3" Type="http://schemas.openxmlformats.org/officeDocument/2006/relationships/hyperlink" Target="http://es.wikipedia.org/wiki/B&#233;lgica" TargetMode="External"/><Relationship Id="rId4" Type="http://schemas.openxmlformats.org/officeDocument/2006/relationships/hyperlink" Target="http://es.wikipedia.org/wiki/Ascaris" TargetMode="External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IOSIS Y TEORIA CROMOSOMICA DE LA H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URSO DE GENETICA CARRERA DE TECNOLOGIA MEDICA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r. Raúl Godoy-Herrera, Programa de Genética Humana, ICBM, Facultad de Medicina, 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cc"/>
                </a:solidFill>
                <a:latin typeface="Arial"/>
              </a:rPr>
              <a:t>Complejo Sinaptoné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2241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ombinación entre Cromosomas Homólo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555300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Quiasmas durante Prof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87640" y="1484280"/>
            <a:ext cx="27129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paración de Cromosomas Homólo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5054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"/>
              </a:rPr>
              <a:t>Proteina Promotora de la Division Celular en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43624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ff00"/>
                </a:solidFill>
                <a:latin typeface="Arial"/>
              </a:rPr>
              <a:t>Primera División Mei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18572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Permutación  de Cromosomas en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4248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TOSIS Y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87280" y="123840"/>
            <a:ext cx="43038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51280" y="2743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IOTIPO 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257976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¿QUIEN DESCUBRIO LA MEI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n Griego, Meiosis signific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MINUCION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. Se describió por primera vez en huevos del erizo de mar por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Oscar Hertwig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de Alemania, en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976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. Posteriormente, confirmó la descripción de Hertwig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douard Van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eneden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(1846-1910) de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élgica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, en los huevos de los gusanos parásitos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scari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omosomas Sex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52640" y="1628640"/>
            <a:ext cx="34624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MOSO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NCIA LIGADA AL CROMOSO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0482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encia Ligada al Sex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36576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uzamientos Recípro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1019160"/>
            <a:ext cx="85057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08720" y="27432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ones Recíprocas en la Especie Hu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8000" y="552600"/>
            <a:ext cx="549576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331920"/>
            <a:ext cx="729468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43080" y="392040"/>
            <a:ext cx="66578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70080" y="490680"/>
            <a:ext cx="660384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4280" y="376200"/>
            <a:ext cx="671364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MITOSIS Y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8052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APAS DE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606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92480" y="2599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iosis Varones Muj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100080"/>
            <a:ext cx="379728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úmero de Cromosomas y DNA en Células en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03320" y="1773360"/>
            <a:ext cx="7097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OS PROF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3559320" cy="64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cc33"/>
                </a:solidFill>
                <a:latin typeface="Arial"/>
              </a:rPr>
              <a:t>Complejo Sinaptone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95520" y="2657520"/>
            <a:ext cx="4152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omplejo Sinaptoné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71520" y="2438280"/>
            <a:ext cx="73026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1:07:24Z</dcterms:created>
  <dc:creator>Fac. de Medicina</dc:creator>
  <dc:description/>
  <dc:language>en-US</dc:language>
  <cp:lastModifiedBy>Fac. de Medicina</cp:lastModifiedBy>
  <dcterms:modified xsi:type="dcterms:W3CDTF">2009-08-12T14:50:01Z</dcterms:modified>
  <cp:revision>39</cp:revision>
  <dc:subject/>
  <dc:title>Diapositiva 1</dc:title>
</cp:coreProperties>
</file>