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7ED-2CB9-44B9-A12D-FC31D21A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E82-3B22-4DE3-893F-9B1C19AA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FE5-61D4-4B46-B149-1B263F27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8D0-3F7A-4D46-B3FD-8DD2F317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236-D88F-4238-A852-08033D1D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174-C28C-46A6-9DFD-E914D56C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5BF-9125-4E52-B085-832718EE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353-C97C-4E4C-B46E-3C70C84A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585-F349-4C2B-AC85-66761326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399-939C-40EA-B64F-4959DDA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391-B3FA-4AE2-967D-E9F1CA8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203-2D9A-4FF2-ADC4-793342E2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616B-2E0E-4785-94AE-42B3EC0764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ouard_Van_Beneden" TargetMode="External"/><Relationship Id="rId2" Type="http://schemas.openxmlformats.org/officeDocument/2006/relationships/hyperlink" Target="http://es.wikipedia.org/wiki/Edouard_Van_Beneden" TargetMode="External"/><Relationship Id="rId3" Type="http://schemas.openxmlformats.org/officeDocument/2006/relationships/hyperlink" Target="http://es.wikipedia.org/wiki/B&#233;lgica" TargetMode="External"/><Relationship Id="rId4" Type="http://schemas.openxmlformats.org/officeDocument/2006/relationships/hyperlink" Target="http://es.wikipedia.org/wiki/Ascaris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IOSIS Y TEORIA CROMOSOMICA DE LA H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URSO DE GENETICA CARRERA DE TECNOLOGIA MEDIC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r. Raúl Godoy-Herrera, Programa de Genética Humana, ICBM, Facultad de Medicina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cc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224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binación entr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553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Quiasmas durante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2712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ción d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505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"/>
              </a:rPr>
              <a:t>Proteina Promotora de la Division Celular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36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Primera División Mei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1857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ermutación  de Cromosomas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4248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123840"/>
            <a:ext cx="4303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IOTIPO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25797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¿QUIEN DESCUBRIO LA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n Griego, Meiosis signific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MINUCIO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Se describió por primera vez en huevos del erizo de mar por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Oscar Hertwig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de Alemania, e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Posteriormente, confirmó la descripción de Hertwig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ouard Van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nede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(1846-1910) de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élgica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, en los huevos de los gusanos parásitos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scari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omosomas Sex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52640" y="1628640"/>
            <a:ext cx="34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LIGADA AL 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048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ncia Ligada al Sex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36576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uzamientos Recí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019160"/>
            <a:ext cx="85057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ones Recíprocas en la Especi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8000" y="552600"/>
            <a:ext cx="54957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331920"/>
            <a:ext cx="729468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43080" y="392040"/>
            <a:ext cx="665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70080" y="490680"/>
            <a:ext cx="66038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4280" y="376200"/>
            <a:ext cx="67136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0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APAS DE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06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92480" y="259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iosis Varones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100080"/>
            <a:ext cx="379728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úmero de Cromosomas y DNA en Células e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03320" y="1773360"/>
            <a:ext cx="7097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OS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355932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cc33"/>
                </a:solidFill>
                <a:latin typeface="Arial"/>
              </a:rPr>
              <a:t>Complejo Sinaptone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95520" y="2657520"/>
            <a:ext cx="415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1520" y="2438280"/>
            <a:ext cx="73026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7:24Z</dcterms:created>
  <dc:creator>Fac. de Medicina</dc:creator>
  <dc:description/>
  <dc:language>en-US</dc:language>
  <cp:lastModifiedBy>Fac. de Medicina</cp:lastModifiedBy>
  <dcterms:modified xsi:type="dcterms:W3CDTF">2009-08-12T14:50:01Z</dcterms:modified>
  <cp:revision>39</cp:revision>
  <dc:subject/>
  <dc:title>Diapositiva 1</dc:title>
</cp:coreProperties>
</file>