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9.png" ContentType="image/png"/>
  <Override PartName="/ppt/media/image18.wmf" ContentType="image/x-wmf"/>
  <Override PartName="/ppt/media/image1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24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99C-6B94-4167-84BE-BD24D0CC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E08-8157-454E-9597-96FD9C52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7A5-5939-4A8A-9A0D-6647D8D2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191-7B62-40E6-9126-9ED29E33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455-B490-442A-81C8-11A61816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1BA-42B7-46CD-B315-0A4A32AC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DD5-7C48-48B5-9B89-C3B6D853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B06-1B86-4066-B56E-C9844A57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55D-6E57-48A5-88B5-0679B02A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FC2-C8E1-429A-B88F-BC08D12B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F10-562F-4365-A308-DAD8A0BD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D2E-18AB-449B-B8C4-6489C41B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63BA-BAA5-4BF3-9BBE-0F380C0E2A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douard_Van_Beneden" TargetMode="External"/><Relationship Id="rId2" Type="http://schemas.openxmlformats.org/officeDocument/2006/relationships/hyperlink" Target="http://es.wikipedia.org/wiki/Edouard_Van_Beneden" TargetMode="External"/><Relationship Id="rId3" Type="http://schemas.openxmlformats.org/officeDocument/2006/relationships/hyperlink" Target="http://es.wikipedia.org/wiki/B&#233;lgica" TargetMode="External"/><Relationship Id="rId4" Type="http://schemas.openxmlformats.org/officeDocument/2006/relationships/hyperlink" Target="http://es.wikipedia.org/wiki/Ascaris" TargetMode="Externa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IOSIS Y TEORIA CROMOSOMICA DE LA H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URSO DE GENETICA CARRERA DE TECNOLOGIA MEDIC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r. Raúl Godoy-Herrera, Programa de Genética Humana, ICBM, Facultad de Medicina,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cc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224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binación entr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5530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Quiasmas durante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2712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aración d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505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"/>
              </a:rPr>
              <a:t>Proteina Promotora de la Division Celular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4362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Primera División Mei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18572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Permutación  de Cromosomas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4248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123840"/>
            <a:ext cx="4303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IOTIPO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25797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¿QUIEN DESCUBRIO LA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n Griego, Meiosis signific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MINUCIO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Se describió por primera vez en huevos del erizo de mar por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Oscar Hertwig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de Alemania, en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976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Posteriormente, confirmó la descripción de Hertwig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ouard Van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enede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(1846-1910) de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élgica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, en los huevos de los gusanos parásitos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scari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omosomas Sex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52640" y="1628640"/>
            <a:ext cx="34624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NCIA LIGADA AL 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048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ncia Ligada al Sex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36576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uzamientos Recípro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019160"/>
            <a:ext cx="85057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08720" y="27432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ones Recíprocas en la Especie H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8000" y="552600"/>
            <a:ext cx="54957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331920"/>
            <a:ext cx="729468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43080" y="392040"/>
            <a:ext cx="6657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70080" y="490680"/>
            <a:ext cx="66038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4280" y="376200"/>
            <a:ext cx="671364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805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APAS DE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06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92480" y="259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iosis Varones Muj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100080"/>
            <a:ext cx="379728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úmero de Cromosomas y DNA en Células en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03320" y="1773360"/>
            <a:ext cx="7097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OS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355932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cc33"/>
                </a:solidFill>
                <a:latin typeface="Arial"/>
              </a:rPr>
              <a:t>Complejo Sinaptone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95520" y="2657520"/>
            <a:ext cx="4152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1520" y="2438280"/>
            <a:ext cx="73026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7:24Z</dcterms:created>
  <dc:creator>Fac. de Medicina</dc:creator>
  <dc:description/>
  <dc:language>en-US</dc:language>
  <cp:lastModifiedBy>Fac. de Medicina</cp:lastModifiedBy>
  <dcterms:modified xsi:type="dcterms:W3CDTF">2009-08-12T14:50:01Z</dcterms:modified>
  <cp:revision>39</cp:revision>
  <dc:subject/>
  <dc:title>Diapositiva 1</dc:title>
</cp:coreProperties>
</file>