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1.png" ContentType="image/png"/>
  <Override PartName="/ppt/media/image7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3.png" ContentType="image/pn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png" ContentType="image/png"/>
  <Override PartName="/ppt/media/image18.wmf" ContentType="image/x-wmf"/>
  <Override PartName="/ppt/media/image15.png" ContentType="image/png"/>
  <Override PartName="/ppt/media/image3.wmf" ContentType="image/x-wmf"/>
  <Override PartName="/ppt/media/image26.wmf" ContentType="image/x-wmf"/>
  <Override PartName="/ppt/media/image1.png" ContentType="image/png"/>
  <Override PartName="/ppt/media/image24.png" ContentType="image/png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596-6370-487F-9099-B00C23FC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3D9-41D1-4258-A0B9-117A1487A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F50-8CC3-4DB7-8759-B486FDAD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F2AB-0D78-49B3-B180-A8B684474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1F52-A47F-48E2-8C00-FE62BC58C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B8E7-B946-4986-AC5F-79A94C8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8C52-3A22-4E92-BF3D-4D5AD7328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6750-5FBD-4DB5-97B0-F42D41E7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012-8755-43E5-B7E6-231CD621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95E5-4DD6-45D3-9F2F-498EB77E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41CF-5CA6-4742-8670-2FCFEB299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D4B-D9E4-4520-A019-BD568FB3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7982F-C1E0-49EC-9B4C-3FA89B9D7EF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es.wikipedia.org/wiki/Edouard_Van_Beneden" TargetMode="External"/><Relationship Id="rId2" Type="http://schemas.openxmlformats.org/officeDocument/2006/relationships/hyperlink" Target="http://es.wikipedia.org/wiki/Edouard_Van_Beneden" TargetMode="External"/><Relationship Id="rId3" Type="http://schemas.openxmlformats.org/officeDocument/2006/relationships/hyperlink" Target="http://es.wikipedia.org/wiki/B&#233;lgica" TargetMode="External"/><Relationship Id="rId4" Type="http://schemas.openxmlformats.org/officeDocument/2006/relationships/hyperlink" Target="http://es.wikipedia.org/wiki/Ascaris" TargetMode="External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MEIOSIS Y TEORIA CROMOSOMICA DE LA H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URSO DE GENETICA CARRERA DE TECNOLOGIA MEDICA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r. Raúl Godoy-Herrera, Programa de Genética Humana, ICBM, Facultad de Medicina, 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ffcc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627280" y="2349360"/>
            <a:ext cx="322416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ombinación entr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03280" y="3068640"/>
            <a:ext cx="555300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Quiasmas durante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87640" y="1484280"/>
            <a:ext cx="27129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paración de Cromosomas Homólo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124000" y="1341360"/>
            <a:ext cx="4505400" cy="51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ff00"/>
                </a:solidFill>
                <a:latin typeface="Arial"/>
              </a:rPr>
              <a:t>Proteina Promotora de la Division Celular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835280" y="2708280"/>
            <a:ext cx="43624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ff00"/>
                </a:solidFill>
                <a:latin typeface="Arial"/>
              </a:rPr>
              <a:t>Primera División Meio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1857240" cy="51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Arial"/>
              </a:rPr>
              <a:t>Permutación  de Cromosomas en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619280" y="2276640"/>
            <a:ext cx="4248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43280" y="274320"/>
            <a:ext cx="404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87280" y="123840"/>
            <a:ext cx="4303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51280" y="27432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ARIOTIPO HUM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2579760" cy="68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¿QUIEN DESCUBRIO LA MEIO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En Griego, Meiosis signific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SMINUCIO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Se describió por primera vez en huevos del erizo de mar por </a:t>
            </a: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Oscar Hertwig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de Alemania, en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1976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. Posteriormente, confirmó la descripción de Hertwig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douard Van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Beneden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(1846-1910) de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élgica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, en los huevos de los gusanos parásitos </a:t>
            </a:r>
            <a:r>
              <a:rPr b="0" lang="es-E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Ascari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romosomas Sex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852640" y="1628640"/>
            <a:ext cx="3462480" cy="44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NCIA LIGADA AL CROMOSOMA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04820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erencia Ligada al Sex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3657600" cy="46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uzamientos Recípro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1019160"/>
            <a:ext cx="85057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08720" y="27432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niones Recíprocas en la Especie Hum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08000" y="552600"/>
            <a:ext cx="5495760" cy="63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258920" y="331920"/>
            <a:ext cx="7294680" cy="65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43080" y="392040"/>
            <a:ext cx="665784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70080" y="490680"/>
            <a:ext cx="660384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14280" y="376200"/>
            <a:ext cx="671364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cc33"/>
                </a:solidFill>
                <a:latin typeface="Arial"/>
              </a:rPr>
              <a:t>MITOSIS Y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700360" y="1197000"/>
            <a:ext cx="3805200" cy="54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24000" y="27432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TAPAS DE LA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360648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92480" y="25992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eiosis Varones Muje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8000" y="100080"/>
            <a:ext cx="3797280" cy="67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Número de Cromosomas y DNA en Células en Mei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03320" y="1773360"/>
            <a:ext cx="70977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2728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OS PROFASE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15920"/>
            <a:ext cx="3559320" cy="64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cc33"/>
                </a:solidFill>
                <a:latin typeface="Arial"/>
              </a:rPr>
              <a:t>Complejo Sinaptonem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495520" y="2657520"/>
            <a:ext cx="415296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mplejo Sinaptoném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1520" y="2438280"/>
            <a:ext cx="730260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1:07:24Z</dcterms:created>
  <dc:creator>Fac. de Medicina</dc:creator>
  <dc:description/>
  <dc:language>en-US</dc:language>
  <cp:lastModifiedBy>Fac. de Medicina</cp:lastModifiedBy>
  <dcterms:modified xsi:type="dcterms:W3CDTF">2009-08-12T14:50:01Z</dcterms:modified>
  <cp:revision>39</cp:revision>
  <dc:subject/>
  <dc:title>Diapositiva 1</dc:title>
</cp:coreProperties>
</file>