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1.png" ContentType="image/png"/>
  <Override PartName="/ppt/media/image7.jpeg" ContentType="image/jpeg"/>
  <Override PartName="/ppt/media/image6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9.png" ContentType="image/png"/>
  <Override PartName="/ppt/media/image18.wmf" ContentType="image/x-wmf"/>
  <Override PartName="/ppt/media/image15.png" ContentType="image/png"/>
  <Override PartName="/ppt/media/image3.wmf" ContentType="image/x-wmf"/>
  <Override PartName="/ppt/media/image26.wmf" ContentType="image/x-wmf"/>
  <Override PartName="/ppt/media/image1.png" ContentType="image/png"/>
  <Override PartName="/ppt/media/image24.png" ContentType="image/png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71A7-2C69-4893-AB2F-7409F92F3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A67E-3CCC-4C90-8A47-6855D8CD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8D60-D43D-4476-AF15-8F131723A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4D2A-BC35-48DE-AA91-6D87DEABC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1590-BDDB-42A7-A7F8-82926C4A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F569-E446-4D5D-AB9D-9124C5FB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2F3A-68EA-48D3-8FF4-25DA4F28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6E94-37F3-4863-A9C8-A1F03964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258A-4642-4CF3-AC05-D8B239A1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BDC5-5DA8-4F0C-A89B-C7909F5B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632E-7F24-4420-8BFD-081DC641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2AF6-D07C-4258-BA41-BA5CE1C4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0479-9D16-4FF6-8DAA-91B0552CFC8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s.wikipedia.org/wiki/Edouard_Van_Beneden" TargetMode="External"/><Relationship Id="rId2" Type="http://schemas.openxmlformats.org/officeDocument/2006/relationships/hyperlink" Target="http://es.wikipedia.org/wiki/Edouard_Van_Beneden" TargetMode="External"/><Relationship Id="rId3" Type="http://schemas.openxmlformats.org/officeDocument/2006/relationships/hyperlink" Target="http://es.wikipedia.org/wiki/B&#233;lgica" TargetMode="External"/><Relationship Id="rId4" Type="http://schemas.openxmlformats.org/officeDocument/2006/relationships/hyperlink" Target="http://es.wikipedia.org/wiki/Ascaris" TargetMode="External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IOSIS Y TEORIA CROMOSOMICA DE LA HER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CURSO DE GENETICA CARRERA DE TECNOLOGIA MEDICA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r. Raúl Godoy-Herrera, Programa de Genética Humana, ICBM, Facultad de Medicina, 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cc"/>
                </a:solidFill>
                <a:latin typeface="Arial"/>
              </a:rPr>
              <a:t>Complejo Sinaptoném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627280" y="2349360"/>
            <a:ext cx="322416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combinación entre Cromosomas Homólo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03280" y="3068640"/>
            <a:ext cx="555300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Quiasmas durante Profase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987640" y="1484280"/>
            <a:ext cx="27129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paración de Cromosomas Homólo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24000" y="1341360"/>
            <a:ext cx="450540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ff00"/>
                </a:solidFill>
                <a:latin typeface="Arial"/>
              </a:rPr>
              <a:t>Proteina Promotora de la Division Celular en la Mei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835280" y="2708280"/>
            <a:ext cx="436248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ff00"/>
                </a:solidFill>
                <a:latin typeface="Arial"/>
              </a:rPr>
              <a:t>Primera División Meio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564000" y="1557360"/>
            <a:ext cx="185724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Permutación  de Cromosomas en la Mei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619280" y="2276640"/>
            <a:ext cx="424800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43280" y="27432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ITOSIS Y MEI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187280" y="123840"/>
            <a:ext cx="430380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51280" y="274320"/>
            <a:ext cx="483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IOTIPO HUM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2579760" cy="68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¿QUIEN DESCUBRIO LA MEIO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En Griego, Meiosis significa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SMINUCION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. Se describió por primera vez en huevos del erizo de mar por 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Oscar Hertwig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 de Alemania, en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976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. Posteriormente, confirmó la descripción de Hertwig 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douard Van 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eneden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 (1846-1910) de 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élgica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, en los huevos de los gusanos parásitos 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scari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romosomas Sexu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852640" y="1628640"/>
            <a:ext cx="346248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OMOSOMA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6858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NCIA LIGADA AL CROMOSOMA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04820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rencia Ligada al Sex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365760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ruzamientos Recípro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1019160"/>
            <a:ext cx="850572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508720" y="274320"/>
            <a:ext cx="345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niones Recíprocas en la Especie Hum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08000" y="552600"/>
            <a:ext cx="5495760" cy="63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258920" y="331920"/>
            <a:ext cx="7294680" cy="65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43080" y="392040"/>
            <a:ext cx="66578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270080" y="490680"/>
            <a:ext cx="6603840" cy="58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14280" y="376200"/>
            <a:ext cx="671364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MITOSIS Y MEI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700360" y="1197000"/>
            <a:ext cx="380520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24000" y="274320"/>
            <a:ext cx="47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APAS DE LA MEI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36064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92480" y="259920"/>
            <a:ext cx="50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eiosis Varones Muj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8000" y="100080"/>
            <a:ext cx="3797280" cy="67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úmero de Cromosomas y DNA en Células en Mei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03320" y="1773360"/>
            <a:ext cx="709776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7280" y="274320"/>
            <a:ext cx="425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OS PROFASE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9640" y="115920"/>
            <a:ext cx="3559320" cy="64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cc33"/>
                </a:solidFill>
                <a:latin typeface="Arial"/>
              </a:rPr>
              <a:t>Complejo Sinaptonem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95520" y="2657520"/>
            <a:ext cx="415296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Complejo Sinaptoném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71520" y="2438280"/>
            <a:ext cx="730260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21:07:24Z</dcterms:created>
  <dc:creator>Fac. de Medicina</dc:creator>
  <dc:description/>
  <dc:language>en-US</dc:language>
  <cp:lastModifiedBy>Fac. de Medicina</cp:lastModifiedBy>
  <dcterms:modified xsi:type="dcterms:W3CDTF">2009-08-12T14:50:01Z</dcterms:modified>
  <cp:revision>39</cp:revision>
  <dc:subject/>
  <dc:title>Diapositiva 1</dc:title>
</cp:coreProperties>
</file>