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AB4-980B-413C-9F01-E042FA4F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7C1-F09B-4210-B11E-4A3FB20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170-E24D-411E-897E-44820AFB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DC6-8D36-4952-9C2F-582B4079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30-0AE6-414A-9567-0D962D0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321-5D2C-4EC0-9552-80CCEB7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93E-6AAE-42D3-8523-A4CF8A20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A63-0367-4BA7-A049-1F466CEC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31B-63DE-4050-B1A9-7040A10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D74-2180-4E8A-80AF-ECE9C79C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CA3-063F-442D-862C-56D10F4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8E7-7883-4035-A939-3F3DA26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52ED-A5B8-4708-877A-2B5CA4DD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S MENDELIANOS DE LA HERENCIA Y CONCEPTOS DE FENOTIPO Y GEN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RSO DE GENETICA PARA CARRERA DE TECNOLOGIA ME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. Raúl Godoy-Herrera, Programa de Genética Humana, ICBM; Facultad de Medicina, Universidad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(</a:t>
            </a:r>
            <a:r>
              <a:rPr b="1" i="1" lang="es-ES_tradnl" sz="3400" spc="-1" strike="noStrike">
                <a:solidFill>
                  <a:srgbClr val="ff0000"/>
                </a:solidFill>
                <a:latin typeface="Palatino Linotype"/>
              </a:rPr>
              <a:t>definiciones…</a:t>
            </a: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om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el mismo tipo de alelo, por ejemplo, AA o aa. Las líneas puras son homocigotas para el gen de inter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eter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un alelo distinto, por ejemplo, Aa. También se denomina híb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4038480" cy="1319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2766960" cy="1974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0" y="620280"/>
            <a:ext cx="39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SEGREG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581040"/>
            <a:ext cx="4324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TRASMISION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3394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LOS GENES ESTAN EN LOS CROMOSOMAS UBICADOS EN EL 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33680" y="2057400"/>
            <a:ext cx="40766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EORIA PARTICULADA D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ff33"/>
                </a:solidFill>
                <a:latin typeface="Arial"/>
              </a:rPr>
              <a:t>SOSTIENE QUE LOS RASGOS O CARACTERISTICAS DE LOS INDIVIDUOS SE TRASMITEN DE UNA GENERACION A OTRA A TRAVES DE LOS GE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ESTOS SON PARTICULAS QUE SE HEREDAN EN PAREJAS Y QUE PROVIENEN UNA DE LA MADRE Y LA OTRA DEL PADR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GENES DE CADA PAREJA SON CAPACES DE SEGREGAR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rimera Ley de Mende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OS GENES DE CADA PAREJA SE TRANSMITEN A LOS DESCENDIENTES, INDEPENDIENTE DE LA TRANSMISION DE LOS GENES DE OTRAS PAREJAS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egunda Ley de Mendel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ECTO DEL AMBIENTE SOBRE EL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1943280"/>
            <a:ext cx="56689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3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FERENCIAS FENOTI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2465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00" y="-27000"/>
            <a:ext cx="9069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1311120"/>
            <a:ext cx="781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NOTIPO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das las características observables en los individuos: Morfológicas, Fisiológicas, Conductuales, Moleculares. La principal característica del fenotipo es cambiar en el transcurso de la vida de un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07640" y="3836520"/>
            <a:ext cx="63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l conjunto de genes heredados de la madre y del padre. Salvo mutaciones, los genes recibidos de los progenitores no cambian durante el período de vida de un indiv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 DE REACCION DE U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571480" cy="4200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4462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RENCIA, NUTRICION, AMBIEN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3256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MIENTOS DE LA GEN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O DE LINEAS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CEPAS GENETICAMEN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TEROGE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USO DE AMBIENTE HOM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USO DE AMBIENTE HETER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UZAMIENTOS RECI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RUZAMIENTO DE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CRUZAMIENTOS RETRO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ELIMINACION DE GENES O REGIONES ESPECIFICAS DE UN CROM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360" y="3621240"/>
            <a:ext cx="6400800" cy="17524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A TRAVES DE UN PROCEDIMIENTO DE INGENIERIA GENETICA SE LOGRA SACAR UN GEN O INACTIVARLO POR UNA MUT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2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SE MODIFICAN GENES A TRAVES DE LA INSERCION DE UNA MOLECULA O REACTIVO. ESTE REACTIVO PUEDE SER UNA SECUENCIA CORTA DE NUCLEOTIDOS DE DNA O DE R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98920" y="620280"/>
            <a:ext cx="3744720" cy="63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za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2239920"/>
            <a:ext cx="4275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HERENCIA Y VARI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76640" y="2119320"/>
            <a:ext cx="40240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IO ME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ÉTICA MENDE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3048120" cy="3979800"/>
            <a:chOff x="457200" y="1600200"/>
            <a:chExt cx="3048120" cy="3979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048120" cy="39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3048120" cy="39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0" y="1125360"/>
            <a:ext cx="525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Experimentos y Observaciones sobre la Hibridización en los veget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” (186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s descubrimientos no fueron valorados hasta inicios del s. XX, después de su mue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decuada elección del material de estudio: la arveja común se puede autopolinizar, es de fácil manejo y presenta altas tasas de re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o del método experimental: implementó análisis estadí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sus 8 años de estudio usó 34 variedades de arvejas y 28 mil pla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22-18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LO IGUAL DA ORIGEN A LO I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71880" y="1700280"/>
            <a:ext cx="300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40320" cy="49672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3686040"/>
            <a:ext cx="3671640" cy="2823480"/>
          </a:xfrm>
          <a:prstGeom prst="upArrowCallout">
            <a:avLst>
              <a:gd name="adj1" fmla="val 22675"/>
              <a:gd name="adj2" fmla="val 20204"/>
              <a:gd name="adj3" fmla="val 14579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flor es capaz de autopoliniz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proceso de polinización ocurre antes de la apertura de la flor, lo que la protege del polen extr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080" y="414360"/>
            <a:ext cx="553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Palatino Linotype"/>
              </a:rPr>
              <a:t>Pisum  sativum</a:t>
            </a:r>
            <a:r>
              <a:rPr b="1" lang="es-ES_tradnl" sz="2600" spc="-1" strike="noStrike">
                <a:solidFill>
                  <a:srgbClr val="000000"/>
                </a:solidFill>
                <a:latin typeface="Palatino Linotype"/>
              </a:rPr>
              <a:t> (arveja comú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340000" cy="2468880"/>
          </a:xfrm>
          <a:prstGeom prst="rect">
            <a:avLst/>
          </a:prstGeom>
          <a:ln w="349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Palatino Linotype"/>
              </a:rPr>
              <a:t>Características de su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70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ó 7 caracteres discre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leccionó líneas puras (homocigotas) para el carácter que quería estudiar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-360" y="4076280"/>
            <a:ext cx="86756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da cruzamiento consideró sólo uno o dos caracteres a la v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guisantes se pueden autopolinizar pero también pueden polinizarse por fecundación cruzada, con lo que se pueden cruzar dos razas puras diferentes para uno o más caracte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5059440" cy="2617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7:24:58Z</dcterms:created>
  <dc:creator>Raul Godoy</dc:creator>
  <dc:description/>
  <dc:language>en-US</dc:language>
  <cp:lastModifiedBy>Fac. de Medicina</cp:lastModifiedBy>
  <dcterms:modified xsi:type="dcterms:W3CDTF">2009-07-27T12:25:20Z</dcterms:modified>
  <cp:revision>25</cp:revision>
  <dc:subject/>
  <dc:title>Diapositiva 1</dc:title>
</cp:coreProperties>
</file>