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0A2-B672-4080-B360-D6198BE8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0D0-8520-408D-8E1F-D250B886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F65-8A6D-4ABE-BA02-7D23828E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320-C844-465F-A74E-71655E95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35F-5E7F-41B0-A60D-A64A0F13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4AF-C6E5-4F37-AB4E-681639D1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1F2-4B5F-4347-A297-3540B96D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279-F311-45C3-9C48-3FD9411A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C67-6AF2-464F-8F33-37C496AB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F7A-35A5-43E6-A2CF-EE117E9D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7EA-1E51-4C3C-841E-9E938417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1CB-DC4F-4A07-9AA0-3BED7E7B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3DB8-8DAF-44C7-B151-F73D7C85D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S MENDELIANOS DE LA HERENCIA Y CONCEPTOS DE FENOTIPO Y GEN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RSO DE GENETICA PARA CARRERA DE TECNOLOGIA ME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. Raúl Godoy-Herrera, Programa de Genética Humana, ICBM; Facultad de Medicina, Universidad de Ch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0000"/>
                </a:solidFill>
                <a:latin typeface="Palatino Linotype"/>
              </a:rPr>
              <a:t>(</a:t>
            </a:r>
            <a:r>
              <a:rPr b="1" i="1" lang="es-ES_tradnl" sz="3400" spc="-1" strike="noStrike">
                <a:solidFill>
                  <a:srgbClr val="ff0000"/>
                </a:solidFill>
                <a:latin typeface="Palatino Linotype"/>
              </a:rPr>
              <a:t>definiciones…</a:t>
            </a:r>
            <a:r>
              <a:rPr b="1" lang="es-ES_tradnl" sz="3400" spc="-1" strike="noStrike">
                <a:solidFill>
                  <a:srgbClr val="ff0000"/>
                </a:solidFill>
                <a:latin typeface="Palatino Linotype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ff99"/>
                </a:solidFill>
                <a:uFillTx/>
                <a:latin typeface="Palatino Linotype"/>
              </a:rPr>
              <a:t>Homocigoto</a:t>
            </a:r>
            <a:r>
              <a:rPr b="0" lang="es-ES" sz="2400" spc="-1" strike="noStrike">
                <a:solidFill>
                  <a:srgbClr val="00ff99"/>
                </a:solidFill>
                <a:latin typeface="Palatino Linotype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Individuo que para un gen dado tiene en cada cromosoma homólogo el mismo tipo de alelo, por ejemplo, AA o aa. Las líneas puras son homocigotas para el gen de inter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ff99"/>
                </a:solidFill>
                <a:uFillTx/>
                <a:latin typeface="Palatino Linotype"/>
              </a:rPr>
              <a:t>Heterocigoto</a:t>
            </a:r>
            <a:r>
              <a:rPr b="0" lang="es-ES" sz="2400" spc="-1" strike="noStrike">
                <a:solidFill>
                  <a:srgbClr val="00ff99"/>
                </a:solidFill>
                <a:latin typeface="Palatino Linotype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Individuo que para un gen dado tiene en cada cromosoma homólogo un alelo distinto, por ejemplo, Aa. También se denomina híbr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4038480" cy="13194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2766960" cy="1974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0" y="620280"/>
            <a:ext cx="39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 DE LA SEGREG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581040"/>
            <a:ext cx="43243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 DE LA TRASMISION IN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3394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LOS GENES ESTAN EN LOS CROMOSOMAS UBICADOS EN EL 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33680" y="2057400"/>
            <a:ext cx="40766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EORIA PARTICULADA DE LA 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ff33"/>
                </a:solidFill>
                <a:latin typeface="Arial"/>
              </a:rPr>
              <a:t>SOSTIENE QUE LOS RASGOS O CARACTERISTICAS DE LOS INDIVIDUOS SE TRASMITEN DE UNA GENERACION A OTRA A TRAVES DE LOS GE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ESTOS SON PARTICULAS QUE SE HEREDAN EN PAREJAS Y QUE PROVIENEN UNA DE LA MADRE Y LA OTRA DEL PADRE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GENES DE CADA PAREJA SON CAPACES DE SEGREGAR (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Primera Ley de Mendel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LOS GENES DE CADA PAREJA SE TRANSMITEN A LOS DESCENDIENTES, INDEPENDIENTE DE LA TRANSMISION DE LOS GENES DE OTRAS PAREJAS (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egunda Ley de Mendel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ECTO DEL AMBIENTE SOBRE EL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92360" y="1943280"/>
            <a:ext cx="56689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372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FERENCIAS FENOTIP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2465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00" y="-27000"/>
            <a:ext cx="90694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1311120"/>
            <a:ext cx="781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NOTIPO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das las características observables en los individuos: Morfológicas, Fisiológicas, Conductuales, Moleculares. La principal característica del fenotipo es cambiar en el transcurso de la vida de un indivi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07640" y="3836520"/>
            <a:ext cx="637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l conjunto de genes heredados de la madre y del padre. Salvo mutaciones, los genes recibidos de los progenitores no cambian durante el período de vida de un indiv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964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 DE REACCION DE UN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571480" cy="4200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44625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RENCIA, NUTRICION, AMBIEN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3256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IMIENTOS DE LA GENE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O DE LINEAS P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CEPAS GENETICAMEN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ETEROGE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USO DE AMBIENTE HOMOGE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USO DE AMBIENTE HETEROGE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UZAMIENTOS RECIPRO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CRUZAMIENTO DE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CRUZAMIENTOS RETRO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ELIMINACION DE GENES O REGIONES ESPECIFICAS DE UN CROM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ONES KNOCK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360" y="3621240"/>
            <a:ext cx="6400800" cy="17524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A TRAVES DE UN PROCEDIMIENTO DE INGENIERIA GENETICA SE LOGRA SACAR UN GEN O INACTIVARLO POR UNA MUTAC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ONES KNOC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8229600" cy="22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SE MODIFICAN GENES A TRAVES DE LA INSERCION DE UNA MOLECULA O REACTIVO. ESTE REACTIVO PUEDE SER UNA SECUENCIA CORTA DE NUCLEOTIDOS DE DNA O DE R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98920" y="620280"/>
            <a:ext cx="3744720" cy="63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za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84360" y="2239920"/>
            <a:ext cx="42753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HERENCIA Y VARI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76640" y="2119320"/>
            <a:ext cx="40240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IO ME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8098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NÉTICA MENDEL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1600200"/>
            <a:ext cx="3048120" cy="3979800"/>
            <a:chOff x="457200" y="1600200"/>
            <a:chExt cx="3048120" cy="3979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3048120" cy="39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457200" y="1600200"/>
              <a:ext cx="3048120" cy="39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92000" y="1125360"/>
            <a:ext cx="5256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Experimentos y Observaciones sobre la Hibridización en los vegetal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” (186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us descubrimientos no fueron valorados hasta inicios del s. XX, después de su mue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decuada elección del material de estudio: la arveja común se puede autopolinizar, es de fácil manejo y presenta altas tasas de reprodu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so del método experimental: implementó análisis estadí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sus 8 años de estudio usó 34 variedades de arvejas y 28 mil pla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734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22-18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LO IGUAL DA ORIGEN A LO IG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71880" y="1700280"/>
            <a:ext cx="300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540320" cy="496728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24000" y="3686040"/>
            <a:ext cx="3671640" cy="2823480"/>
          </a:xfrm>
          <a:prstGeom prst="upArrowCallout">
            <a:avLst>
              <a:gd name="adj1" fmla="val 22675"/>
              <a:gd name="adj2" fmla="val 20204"/>
              <a:gd name="adj3" fmla="val 14579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flor es capaz de autopoliniz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proceso de polinización ocurre antes de la apertura de la flor, lo que la protege del polen extr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080" y="414360"/>
            <a:ext cx="553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Palatino Linotype"/>
              </a:rPr>
              <a:t>Pisum  sativum</a:t>
            </a:r>
            <a:r>
              <a:rPr b="1" lang="es-ES_tradnl" sz="2600" spc="-1" strike="noStrike">
                <a:solidFill>
                  <a:srgbClr val="000000"/>
                </a:solidFill>
                <a:latin typeface="Palatino Linotype"/>
              </a:rPr>
              <a:t> (arveja comú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2340000" cy="2468880"/>
          </a:xfrm>
          <a:prstGeom prst="rect">
            <a:avLst/>
          </a:prstGeom>
          <a:ln w="349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Palatino Linotype"/>
              </a:rPr>
              <a:t>Características de su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370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ó 7 caracteres discre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leccionó líneas puras (homocigotas) para el carácter que quería estudiar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-360" y="4076280"/>
            <a:ext cx="86756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cada cruzamiento consideró sólo uno o dos caracteres a la v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guisantes se pueden autopolinizar pero también pueden polinizarse por fecundación cruzada, con lo que se pueden cruzar dos razas puras diferentes para uno o más caracte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24360" y="1413000"/>
            <a:ext cx="5059440" cy="261756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7:24:58Z</dcterms:created>
  <dc:creator>Raul Godoy</dc:creator>
  <dc:description/>
  <dc:language>en-US</dc:language>
  <cp:lastModifiedBy>Fac. de Medicina</cp:lastModifiedBy>
  <dcterms:modified xsi:type="dcterms:W3CDTF">2009-07-27T12:25:20Z</dcterms:modified>
  <cp:revision>25</cp:revision>
  <dc:subject/>
  <dc:title>Diapositiva 1</dc:title>
</cp:coreProperties>
</file>