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27.png" ContentType="image/png"/>
  <Override PartName="/ppt/media/image25.wmf" ContentType="image/x-wmf"/>
  <Override PartName="/ppt/media/image15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0.png" ContentType="image/png"/>
  <Override PartName="/ppt/media/image10.jpeg" ContentType="image/jpeg"/>
  <Override PartName="/ppt/media/image42.png" ContentType="image/png"/>
  <Override PartName="/ppt/media/image43.png" ContentType="image/png"/>
  <Override PartName="/ppt/media/image46.jpeg" ContentType="image/jpeg"/>
  <Override PartName="/ppt/media/image47.wmf" ContentType="image/x-wmf"/>
  <Override PartName="/ppt/media/image37.png" ContentType="image/png"/>
  <Override PartName="/ppt/media/image48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52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C42-E45A-4D43-AA74-543E53D1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5D1-1F8A-4A8D-AC5B-F30266A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E5D-E8C8-4952-9957-86B3EBE8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4CC-80CE-45EC-B4E1-FFDB752F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72B-C736-4EA4-BC40-7F2B00D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FBD-FD60-4982-A08F-16DD7378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C69-9553-4790-8EBC-CB02BED8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5FF-0F53-420E-AFCE-F4CF9110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C96-FF55-4803-B1EF-8C3052D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25F-18D5-4A23-92EF-7A3A3EB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EE0-C0BB-41E6-91A2-3C94EA5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BE4-E5A1-4900-98EB-5860967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B0F-E71E-41DD-A04E-580BA36B947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mail.google.com/mail/?realattid=f_f79knf4m&amp;attid=0.1&amp;disp=inline&amp;view=att&amp;th=116583808275ca3e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24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JERCICIO y OBE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r. Erik Díaz B.  M.Sc.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Nutrici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Laboratorio de Metabolismo Energético  I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scuela de Nutrición, Facultad de Medic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7740720" y="549360"/>
          <a:ext cx="101916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49360"/>
                    <a:ext cx="10191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250920" y="404640"/>
          <a:ext cx="113004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04640"/>
                    <a:ext cx="11300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imes New Roman"/>
              </a:rPr>
              <a:t>ESEN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VALUAR LA FUNCION MUSCULAR Y ORGA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63244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UERZA DE PIERNAS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Sarcopenia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MINATA: 6 min y 2 Km 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capacidad aeróbica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O2 peak (</a:t>
            </a:r>
            <a:r>
              <a:rPr b="0" lang="es-MX" sz="2400" spc="-1" strike="noStrike">
                <a:solidFill>
                  <a:srgbClr val="00b0f0"/>
                </a:solidFill>
                <a:latin typeface="Times New Roman"/>
              </a:rPr>
              <a:t>en bicicleta ergómetra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est piernas 1"/>
          <p:cNvPicPr/>
          <p:nvPr/>
        </p:nvPicPr>
        <p:blipFill>
          <a:blip r:embed="rId1"/>
          <a:stretch/>
        </p:blipFill>
        <p:spPr>
          <a:xfrm>
            <a:off x="1258920" y="492120"/>
            <a:ext cx="7058160" cy="548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aminata 6 min y UKK"/>
          <p:cNvPicPr/>
          <p:nvPr/>
        </p:nvPicPr>
        <p:blipFill>
          <a:blip r:embed="rId1"/>
          <a:stretch/>
        </p:blipFill>
        <p:spPr>
          <a:xfrm>
            <a:off x="1476360" y="887400"/>
            <a:ext cx="6480360" cy="534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Bicicleta ergometra y VO2"/>
          <p:cNvPicPr/>
          <p:nvPr/>
        </p:nvPicPr>
        <p:blipFill>
          <a:blip r:embed="rId1"/>
          <a:stretch/>
        </p:blipFill>
        <p:spPr>
          <a:xfrm>
            <a:off x="2513160" y="404640"/>
            <a:ext cx="4506840" cy="6029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lasificación test caminata 2 km</a:t>
            </a:r>
            <a:br>
              <a:rPr sz="40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(en minu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47680" y="2435400"/>
            <a:ext cx="8648640" cy="1987200"/>
          </a:xfrm>
          <a:prstGeom prst="rect">
            <a:avLst/>
          </a:prstGeom>
          <a:ln w="0">
            <a:noFill/>
          </a:ln>
        </p:spPr>
      </p:pic>
      <p:sp>
        <p:nvSpPr>
          <p:cNvPr id="108" name="3 CuadroTexto"/>
          <p:cNvSpPr/>
          <p:nvPr/>
        </p:nvSpPr>
        <p:spPr>
          <a:xfrm>
            <a:off x="714240" y="53578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f: Datos provenientes de población chilena adulta sana. IND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4" descr=""/>
          <p:cNvPicPr/>
          <p:nvPr/>
        </p:nvPicPr>
        <p:blipFill>
          <a:blip r:embed="rId1"/>
          <a:stretch/>
        </p:blipFill>
        <p:spPr>
          <a:xfrm>
            <a:off x="349200" y="1895400"/>
            <a:ext cx="8445600" cy="3067200"/>
          </a:xfrm>
          <a:prstGeom prst="rect">
            <a:avLst/>
          </a:prstGeom>
          <a:ln w="0">
            <a:noFill/>
          </a:ln>
        </p:spPr>
      </p:pic>
      <p:sp>
        <p:nvSpPr>
          <p:cNvPr id="110" name="2 CuadroTexto"/>
          <p:cNvSpPr/>
          <p:nvPr/>
        </p:nvSpPr>
        <p:spPr>
          <a:xfrm>
            <a:off x="2071800" y="12142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oración del esfuerzo re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stado de la Condición Física Adultos, Chile -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1005 sujetos; 502 mujeres y 503 hom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Edades: 18-30, 31-40 y 51-6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Mínimo 25 casos por grupo de edad y se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5 Region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Times New Roman"/>
              </a:rPr>
              <a:t>Arica, Antofagasta, Santiago, Temuco y Pta. Ar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42920" y="857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pacidad f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  <a:ea typeface="Arial"/>
              </a:rPr>
              <a:t>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ca evaluada mediante el test de 2 km de camin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hile, 200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858000" cy="4635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1878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4 Elipse"/>
          <p:cNvSpPr/>
          <p:nvPr/>
        </p:nvSpPr>
        <p:spPr>
          <a:xfrm>
            <a:off x="5429160" y="3286080"/>
            <a:ext cx="1000080" cy="22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cc00"/>
                </a:solidFill>
                <a:latin typeface="Times New Roman"/>
              </a:rPr>
              <a:t>Motivos para hacer ejercic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Gastar energía - Comer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Bajar la grasa - Bajar de p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8098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1"/>
          <a:stretch/>
        </p:blipFill>
        <p:spPr>
          <a:xfrm>
            <a:off x="5857920" y="1428840"/>
            <a:ext cx="2543040" cy="3981240"/>
          </a:xfrm>
          <a:prstGeom prst="rect">
            <a:avLst/>
          </a:prstGeom>
          <a:ln w="0">
            <a:noFill/>
          </a:ln>
        </p:spPr>
      </p:pic>
      <p:sp>
        <p:nvSpPr>
          <p:cNvPr id="52" name="10 Rectángulo"/>
          <p:cNvSpPr/>
          <p:nvPr/>
        </p:nvSpPr>
        <p:spPr>
          <a:xfrm>
            <a:off x="714240" y="43578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posiblemente!!!......</a:t>
            </a: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Mejorar la condición fí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http://img.vitonica.com/2008/10/obesidad+ejercicio.jpg"/>
          <p:cNvPicPr/>
          <p:nvPr/>
        </p:nvPicPr>
        <p:blipFill>
          <a:blip r:embed="rId2"/>
          <a:stretch/>
        </p:blipFill>
        <p:spPr>
          <a:xfrm>
            <a:off x="5857920" y="2428920"/>
            <a:ext cx="290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46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285280" y="257040"/>
            <a:ext cx="378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ci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de la condici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ó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f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í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ica seg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  <a:ea typeface="Arial"/>
              </a:rPr>
              <a:t>ú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n 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1714680" y="2071800"/>
            <a:ext cx="1800000" cy="180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3924360" y="1915920"/>
            <a:ext cx="1655640" cy="16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6156360" y="1989000"/>
            <a:ext cx="1655640" cy="165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SITUACIÓN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68280" y="234936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rcop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132000" y="314172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3645000"/>
            <a:ext cx="3045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828800" y="5410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APACIDAD BIOENERGET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 rot="277800">
            <a:off x="754200" y="128520"/>
            <a:ext cx="1676160" cy="659448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1153800 h 6594480"/>
              <a:gd name="textAreaBottom" fmla="*/ 4781160 h 659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492360" y="2852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pacidad oxid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564000" y="3500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lerancia ejerc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3995640" y="24922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acidad aeróbica en mujeres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bserva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v/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Object 3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822492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5 CuadroTexto"/>
          <p:cNvSpPr/>
          <p:nvPr/>
        </p:nvSpPr>
        <p:spPr>
          <a:xfrm>
            <a:off x="7215120" y="30002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ópt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6 CuadroTexto"/>
          <p:cNvSpPr/>
          <p:nvPr/>
        </p:nvSpPr>
        <p:spPr>
          <a:xfrm>
            <a:off x="7143840" y="471492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acidad aeróbica en hombres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bserva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v/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3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2456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5 CuadroTexto"/>
          <p:cNvSpPr/>
          <p:nvPr/>
        </p:nvSpPr>
        <p:spPr>
          <a:xfrm>
            <a:off x="7215120" y="28576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ópt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6 CuadroTexto"/>
          <p:cNvSpPr/>
          <p:nvPr/>
        </p:nvSpPr>
        <p:spPr>
          <a:xfrm>
            <a:off x="7143840" y="442908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Porcentaje de Grasa oxidada 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durante y después de un ejercicio mo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57160" y="3286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12 Marcador de gráfico"/>
          <p:cNvGraphicFramePr/>
          <p:nvPr/>
        </p:nvGraphicFramePr>
        <p:xfrm>
          <a:off x="1000080" y="1928880"/>
          <a:ext cx="7772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12 Marcador de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288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17 Flecha doblada"/>
          <p:cNvSpPr/>
          <p:nvPr/>
        </p:nvSpPr>
        <p:spPr>
          <a:xfrm>
            <a:off x="3214800" y="2143080"/>
            <a:ext cx="1714320" cy="2786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19 Flecha doblada"/>
          <p:cNvSpPr/>
          <p:nvPr/>
        </p:nvSpPr>
        <p:spPr>
          <a:xfrm>
            <a:off x="2643120" y="3214800"/>
            <a:ext cx="1643040" cy="1357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5 Gráfico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3643200"/>
          </a:xfrm>
          <a:prstGeom prst="rect">
            <a:avLst/>
          </a:prstGeom>
          <a:ln w="0">
            <a:noFill/>
          </a:ln>
        </p:spPr>
      </p:pic>
      <p:sp>
        <p:nvSpPr>
          <p:cNvPr id="146" name="8 CuadroTexto"/>
          <p:cNvSpPr/>
          <p:nvPr/>
        </p:nvSpPr>
        <p:spPr>
          <a:xfrm>
            <a:off x="2571840" y="45720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Intensidad del ejerci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10 Gráfico" descr=""/>
          <p:cNvPicPr/>
          <p:nvPr/>
        </p:nvPicPr>
        <p:blipFill>
          <a:blip r:embed="rId2"/>
          <a:stretch/>
        </p:blipFill>
        <p:spPr>
          <a:xfrm>
            <a:off x="4500720" y="1000080"/>
            <a:ext cx="4643280" cy="3643200"/>
          </a:xfrm>
          <a:prstGeom prst="rect">
            <a:avLst/>
          </a:prstGeom>
          <a:ln w="0">
            <a:noFill/>
          </a:ln>
        </p:spPr>
      </p:pic>
      <p:sp>
        <p:nvSpPr>
          <p:cNvPr id="148" name="11 CuadroTexto"/>
          <p:cNvSpPr/>
          <p:nvPr/>
        </p:nvSpPr>
        <p:spPr>
          <a:xfrm>
            <a:off x="2214720" y="357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rena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12 CuadroTexto"/>
          <p:cNvSpPr/>
          <p:nvPr/>
        </p:nvSpPr>
        <p:spPr>
          <a:xfrm>
            <a:off x="5715000" y="2858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GL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1 Gráfico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143920" cy="3786120"/>
          </a:xfrm>
          <a:prstGeom prst="rect">
            <a:avLst/>
          </a:prstGeom>
          <a:ln w="0">
            <a:noFill/>
          </a:ln>
        </p:spPr>
      </p:pic>
      <p:sp>
        <p:nvSpPr>
          <p:cNvPr id="151" name="3 CuadroTexto"/>
          <p:cNvSpPr/>
          <p:nvPr/>
        </p:nvSpPr>
        <p:spPr>
          <a:xfrm>
            <a:off x="3286080" y="142884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renalina y Grasa sanguí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8 Gráfico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858080" cy="3643200"/>
          </a:xfrm>
          <a:prstGeom prst="rect">
            <a:avLst/>
          </a:prstGeom>
          <a:ln w="0">
            <a:noFill/>
          </a:ln>
        </p:spPr>
      </p:pic>
      <p:sp>
        <p:nvSpPr>
          <p:cNvPr id="153" name="9 CuadroTexto"/>
          <p:cNvSpPr/>
          <p:nvPr/>
        </p:nvSpPr>
        <p:spPr>
          <a:xfrm>
            <a:off x="642960" y="7858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jercicio intermitente de alta int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34920" y="1487520"/>
            <a:ext cx="9575640" cy="4678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859280" y="-1755720"/>
            <a:ext cx="4919760" cy="7777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-1900080"/>
            <a:ext cx="1000116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116000" y="393372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2484360" y="314172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372360" y="306864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7524720" y="2205000"/>
            <a:ext cx="360360" cy="142920"/>
          </a:xfrm>
          <a:prstGeom prst="rightArrow">
            <a:avLst>
              <a:gd name="adj1" fmla="val 50000"/>
              <a:gd name="adj2" fmla="val 630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845964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5940360" y="3789360"/>
            <a:ext cx="216000" cy="358920"/>
          </a:xfrm>
          <a:prstGeom prst="upArrow">
            <a:avLst>
              <a:gd name="adj1" fmla="val 50000"/>
              <a:gd name="adj2" fmla="val 4154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11 CuadroTexto"/>
          <p:cNvSpPr/>
          <p:nvPr/>
        </p:nvSpPr>
        <p:spPr>
          <a:xfrm>
            <a:off x="0" y="5143680"/>
            <a:ext cx="97156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jercicio de 60 min en bicicleta al 50% del VO2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repetido en 2 oca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tich V et al. J Appl Physiol 2000; 88:1277-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4297320" cy="393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786200" y="0"/>
            <a:ext cx="3781440" cy="441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1357200" y="4857840"/>
            <a:ext cx="62578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670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Times New Roman"/>
              </a:rPr>
              <a:t>Cantidad de grasa corporal normal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2286000"/>
            <a:ext cx="38102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Mujeres; 15-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grasa antes despues"/>
          <p:cNvPicPr/>
          <p:nvPr/>
        </p:nvPicPr>
        <p:blipFill>
          <a:blip r:embed="rId1"/>
          <a:stretch/>
        </p:blipFill>
        <p:spPr>
          <a:xfrm>
            <a:off x="4929120" y="1643040"/>
            <a:ext cx="23400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obesidad"/>
          <p:cNvPicPr/>
          <p:nvPr/>
        </p:nvPicPr>
        <p:blipFill>
          <a:blip r:embed="rId2"/>
          <a:stretch/>
        </p:blipFill>
        <p:spPr>
          <a:xfrm>
            <a:off x="4714920" y="4286160"/>
            <a:ext cx="285444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7 Rectángulo"/>
          <p:cNvSpPr/>
          <p:nvPr/>
        </p:nvSpPr>
        <p:spPr>
          <a:xfrm>
            <a:off x="1800000" y="43578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imes New Roman"/>
              </a:rPr>
              <a:t>Hombres; 10-2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642960"/>
            <a:ext cx="68374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s de la inmovilización de una pierna</a:t>
            </a:r>
            <a:br>
              <a:rPr sz="3200"/>
            </a:b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anini et al.  AJCN  Dic.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665360" y="1981080"/>
            <a:ext cx="581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Manini et al.  AJCN Dic.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49560" y="1984320"/>
            <a:ext cx="4708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azzer et al.  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Clin Endocrino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5480" y="1981080"/>
            <a:ext cx="69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Orsmbee et al  </a:t>
            </a:r>
            <a:r>
              <a:rPr b="0" i="1" lang="es-MX" sz="4000" spc="-1" strike="noStrike">
                <a:solidFill>
                  <a:srgbClr val="ffffff"/>
                </a:solidFill>
                <a:latin typeface="Times New Roman"/>
              </a:rPr>
              <a:t>J Appl Phisiol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289240" y="2130480"/>
            <a:ext cx="4565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Solomon et al.  </a:t>
            </a:r>
            <a:r>
              <a:rPr b="0" i="1" lang="es-MX" sz="4000" spc="-1" strike="noStrike">
                <a:solidFill>
                  <a:srgbClr val="ffffff"/>
                </a:solidFill>
                <a:latin typeface="Times New Roman"/>
              </a:rPr>
              <a:t>J Appl Physiol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812960" y="1981080"/>
            <a:ext cx="551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46280" y="140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400040" y="1027080"/>
            <a:ext cx="59184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Verdana"/>
              </a:rPr>
              <a:t>Metas para un programa de ejercicio ?</a:t>
            </a:r>
            <a:r>
              <a:rPr b="1" i="1" lang="es-ES_tradnl" sz="20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762120" y="914400"/>
            <a:ext cx="0" cy="4800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83720" y="2306520"/>
            <a:ext cx="837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Restaurar la capacidad de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imes New Roman"/>
              </a:rPr>
              <a:t>Mejorar la funcionalidad mus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imes New Roman"/>
              </a:rPr>
              <a:t>Recuperar metabolismo oxidativo de gras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1094400" y="32688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GUIA CONTEMPORA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181080" y="85680"/>
          <a:ext cx="8567640" cy="644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5680"/>
                    <a:ext cx="8567640" cy="64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6"/>
          <p:cNvSpPr/>
          <p:nvPr/>
        </p:nvSpPr>
        <p:spPr>
          <a:xfrm>
            <a:off x="1214280" y="2367720"/>
            <a:ext cx="6569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GUIA CONTEMPORA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  <a:ea typeface="바탕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4 CuadroTexto"/>
          <p:cNvSpPr/>
          <p:nvPr/>
        </p:nvSpPr>
        <p:spPr>
          <a:xfrm>
            <a:off x="2714760" y="51436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inanciado por MINSAL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n modelo para recuperación metabólica y sarcopenia</a:t>
            </a:r>
            <a:br>
              <a:rPr sz="4000"/>
            </a:br>
            <a:br>
              <a:rPr sz="40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jercicio de pesas localizad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1 x 2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314136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1 min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ejercicio – fatiga grupo muscul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2 min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descan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Repetido  por …</a:t>
            </a:r>
            <a:r>
              <a:rPr b="1" lang="es-MX" sz="3600" spc="-1" strike="noStrike" u="sng">
                <a:solidFill>
                  <a:srgbClr val="ffcc00"/>
                </a:solidFill>
                <a:uFillTx/>
                <a:latin typeface="Times New Roman"/>
              </a:rPr>
              <a:t>3 ve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ecuencia 2- 3 veces/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3 Flecha derecha"/>
          <p:cNvSpPr/>
          <p:nvPr/>
        </p:nvSpPr>
        <p:spPr>
          <a:xfrm>
            <a:off x="3786120" y="34290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57120" y="10015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바탕"/>
              </a:rPr>
              <a:t>Principales grupos musculares selec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27160" y="2013120"/>
          <a:ext cx="6108840" cy="3474720"/>
        </p:xfrm>
        <a:graphic>
          <a:graphicData uri="http://schemas.openxmlformats.org/drawingml/2006/table">
            <a:tbl>
              <a:tblPr/>
              <a:tblGrid>
                <a:gridCol w="610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B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í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ep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ricep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bdominal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+ 3 pausas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Pector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ombros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series x dos brazos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Muslo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 series x dos MI.   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Gastrocnemios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	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  series x dos MI.          6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iempo efectivo  de trabajo    42 m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50"/>
          <p:cNvSpPr/>
          <p:nvPr/>
        </p:nvSpPr>
        <p:spPr>
          <a:xfrm>
            <a:off x="1433520" y="6073920"/>
            <a:ext cx="585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*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Estos grupos tambi</a:t>
            </a:r>
            <a:r>
              <a:rPr b="0" i="1" lang="es-ES" sz="1400" spc="-1" strike="noStrike">
                <a:solidFill>
                  <a:srgbClr val="ffffff"/>
                </a:solidFill>
                <a:latin typeface="Times New Roman"/>
                <a:ea typeface="바탕"/>
              </a:rPr>
              <a:t>é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n se denominan por la acci</a:t>
            </a:r>
            <a:r>
              <a:rPr b="0" i="1" lang="es-ES" sz="1400" spc="-1" strike="noStrike">
                <a:solidFill>
                  <a:srgbClr val="ffffff"/>
                </a:solidFill>
                <a:latin typeface="Times New Roman"/>
                <a:ea typeface="바탕"/>
              </a:rPr>
              <a:t>ó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n flexora o extensor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바탕"/>
              </a:rPr>
              <a:t>Ej: flexores de antebrazos, extensores de pier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017"/>
          <p:cNvPicPr/>
          <p:nvPr/>
        </p:nvPicPr>
        <p:blipFill>
          <a:blip r:embed="rId1"/>
          <a:stretch/>
        </p:blipFill>
        <p:spPr>
          <a:xfrm>
            <a:off x="611280" y="880920"/>
            <a:ext cx="7993080" cy="505008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 rot="19464000">
            <a:off x="5940360" y="1341000"/>
            <a:ext cx="2232000" cy="792360"/>
          </a:xfrm>
          <a:prstGeom prst="ellipse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 rot="19464000">
            <a:off x="5981400" y="2385720"/>
            <a:ext cx="2444760" cy="792000"/>
          </a:xfrm>
          <a:prstGeom prst="ellipse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476360" y="333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centaje de grasa corporal según 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42960" y="5357880"/>
            <a:ext cx="4357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ferencia NHANES 2000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videncia del método 1x2x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ESFAM Salvador B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Ñuñoa, Santi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2" descr="?realattid=f_f79knf4m&amp;attid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3157560"/>
            <a:ext cx="5162760" cy="3700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14280" y="571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t. Andrea Fuentes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Ed. Física Marcela Llanos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. Fernanda Mediano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1214280" y="714240"/>
          <a:ext cx="669780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14240"/>
                    <a:ext cx="6697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060"/>
                </a:solidFill>
                <a:latin typeface="Times New Roman"/>
              </a:rPr>
              <a:t>Dism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ución de Peso y Grasa Corporales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214280" y="3573360"/>
          <a:ext cx="6697800" cy="3284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3573360"/>
                    <a:ext cx="669780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Cambio en Peso y Grasa corporales (kg) </a:t>
            </a:r>
            <a:br>
              <a:rPr sz="2600"/>
            </a:br>
            <a:r>
              <a:rPr b="1" lang="es-CL" sz="2600" spc="-1" strike="noStrike">
                <a:solidFill>
                  <a:srgbClr val="000000"/>
                </a:solidFill>
                <a:latin typeface="Times New Roman"/>
              </a:rPr>
              <a:t>1º vs 9º 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531720" y="1214280"/>
          <a:ext cx="841212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214280"/>
                    <a:ext cx="841212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6"/>
          <p:cNvSpPr/>
          <p:nvPr/>
        </p:nvSpPr>
        <p:spPr>
          <a:xfrm>
            <a:off x="611280" y="1484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000"/>
                </a:solidFill>
                <a:latin typeface="Times New Roman"/>
              </a:rPr>
              <a:t>Ejercicio en ob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85560" y="2356920"/>
            <a:ext cx="70722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ta intensidad y larga duración  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cifrar éxito en la pérdida de peso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valuar cambios en la grasa corporal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ajo efecto sistémico CV y Resp.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jas en fuerza muscular               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(</a:t>
            </a:r>
            <a:r>
              <a:rPr b="0" lang="es-MX" sz="2800" spc="-1" strike="noStrike">
                <a:solidFill>
                  <a:srgbClr val="ffc000"/>
                </a:solidFill>
                <a:latin typeface="Arial"/>
                <a:ea typeface="Arial"/>
              </a:rPr>
              <a:t>√</a:t>
            </a:r>
            <a:r>
              <a:rPr b="0" lang="es-MX" sz="28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1961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243080" y="1057320"/>
            <a:ext cx="6657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68360" y="928800"/>
            <a:ext cx="7985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Times New Roman"/>
              </a:rPr>
              <a:t>Grasa corporal alumnos universitarios IMC 20-24 kg/m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1692360" y="3933720"/>
            <a:ext cx="525600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714680" y="3429000"/>
            <a:ext cx="52560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ctividades di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Durmiendo: 8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Sentado:      15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Caminando: 1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: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4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jercicio:     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bject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5756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4716360" y="2133720"/>
            <a:ext cx="505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8 Conector recto"/>
          <p:cNvSpPr/>
          <p:nvPr/>
        </p:nvSpPr>
        <p:spPr>
          <a:xfrm>
            <a:off x="571680" y="3714840"/>
            <a:ext cx="3643200" cy="14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079640" y="1152360"/>
            <a:ext cx="7380000" cy="4886640"/>
            <a:chOff x="1079640" y="1152360"/>
            <a:chExt cx="7380000" cy="4886640"/>
          </a:xfrm>
        </p:grpSpPr>
        <p:sp>
          <p:nvSpPr>
            <p:cNvPr id="74" name="AutoShape 3"/>
            <p:cNvSpPr/>
            <p:nvPr/>
          </p:nvSpPr>
          <p:spPr>
            <a:xfrm>
              <a:off x="1079640" y="1152360"/>
              <a:ext cx="7380000" cy="48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" name="Picture 4" descr="aliste2a"/>
            <p:cNvPicPr/>
            <p:nvPr/>
          </p:nvPicPr>
          <p:blipFill>
            <a:blip r:embed="rId1"/>
            <a:stretch/>
          </p:blipFill>
          <p:spPr>
            <a:xfrm>
              <a:off x="2016720" y="1308240"/>
              <a:ext cx="178776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aliste3a"/>
            <p:cNvPicPr/>
            <p:nvPr/>
          </p:nvPicPr>
          <p:blipFill>
            <a:blip r:embed="rId2"/>
            <a:stretch/>
          </p:blipFill>
          <p:spPr>
            <a:xfrm>
              <a:off x="3891600" y="1308240"/>
              <a:ext cx="177768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aliste4a"/>
            <p:cNvPicPr/>
            <p:nvPr/>
          </p:nvPicPr>
          <p:blipFill>
            <a:blip r:embed="rId3"/>
            <a:stretch/>
          </p:blipFill>
          <p:spPr>
            <a:xfrm>
              <a:off x="5765760" y="1308240"/>
              <a:ext cx="1787400" cy="23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aliste5a"/>
            <p:cNvPicPr/>
            <p:nvPr/>
          </p:nvPicPr>
          <p:blipFill>
            <a:blip r:embed="rId4"/>
            <a:stretch/>
          </p:blipFill>
          <p:spPr>
            <a:xfrm>
              <a:off x="1979640" y="3724200"/>
              <a:ext cx="1790640" cy="23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aliste6a"/>
            <p:cNvPicPr/>
            <p:nvPr/>
          </p:nvPicPr>
          <p:blipFill>
            <a:blip r:embed="rId5"/>
            <a:stretch/>
          </p:blipFill>
          <p:spPr>
            <a:xfrm>
              <a:off x="3843720" y="3724200"/>
              <a:ext cx="1782360" cy="23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aliste7a"/>
            <p:cNvPicPr/>
            <p:nvPr/>
          </p:nvPicPr>
          <p:blipFill>
            <a:blip r:embed="rId6"/>
            <a:stretch/>
          </p:blipFill>
          <p:spPr>
            <a:xfrm>
              <a:off x="5707440" y="3724200"/>
              <a:ext cx="1778400" cy="23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10"/>
          <p:cNvSpPr/>
          <p:nvPr/>
        </p:nvSpPr>
        <p:spPr>
          <a:xfrm>
            <a:off x="1258920" y="476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Guías actuales !!   enfatizan AF = Mov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1763640" y="1197000"/>
            <a:ext cx="2087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3564000" y="3573360"/>
            <a:ext cx="208764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ECOMENDACIONES INTERNACIONA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ADUL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Times New Roman"/>
              </a:rPr>
              <a:t>30-60 min de AF moderada a intensa/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(1500-3000 kcal/sem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MX" sz="900" spc="-1" strike="noStrike">
                <a:solidFill>
                  <a:srgbClr val="ffff00"/>
                </a:solidFill>
                <a:latin typeface="Times New Roman"/>
              </a:rPr>
              <a:t>ACSM, IOTF,O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Implica: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jercici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conocer intens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pac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58920" y="2133720"/>
            <a:ext cx="691344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Objetivo:  </a:t>
            </a:r>
            <a:br>
              <a:rPr sz="32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gastar el exceso de energía consumi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2"/>
          <p:cNvSpPr/>
          <p:nvPr/>
        </p:nvSpPr>
        <p:spPr>
          <a:xfrm>
            <a:off x="1071720" y="4429080"/>
            <a:ext cx="19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+ 900 kcal en  5 m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33"/>
          <p:cNvSpPr/>
          <p:nvPr/>
        </p:nvSpPr>
        <p:spPr>
          <a:xfrm>
            <a:off x="6286680" y="514368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&lt; 300 kcal en 30m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034"/>
          <p:cNvSpPr/>
          <p:nvPr/>
        </p:nvSpPr>
        <p:spPr>
          <a:xfrm>
            <a:off x="1071720" y="5715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FOQUE EQUIVOCADO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035"/>
          <p:cNvSpPr/>
          <p:nvPr/>
        </p:nvSpPr>
        <p:spPr>
          <a:xfrm>
            <a:off x="3857760" y="3071880"/>
            <a:ext cx="1512720" cy="1295280"/>
          </a:xfrm>
          <a:prstGeom prst="rightArrow">
            <a:avLst>
              <a:gd name="adj1" fmla="val 50000"/>
              <a:gd name="adj2" fmla="val 2919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037" descr="http://img.vitonica.com/2008/11/h%C3%A1bito+ejercicio.jpg"/>
          <p:cNvPicPr/>
          <p:nvPr/>
        </p:nvPicPr>
        <p:blipFill>
          <a:blip r:embed="rId1"/>
          <a:stretch/>
        </p:blipFill>
        <p:spPr>
          <a:xfrm>
            <a:off x="5553000" y="2143080"/>
            <a:ext cx="3591000" cy="288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9" descr="http://eleconomista.com.mx/files/imagecache/400x300/files/comida-chatarra.jpg"/>
          <p:cNvPicPr/>
          <p:nvPr/>
        </p:nvPicPr>
        <p:blipFill>
          <a:blip r:embed="rId2"/>
          <a:stretch/>
        </p:blipFill>
        <p:spPr>
          <a:xfrm>
            <a:off x="500040" y="2000160"/>
            <a:ext cx="309564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3:52:16Z</dcterms:created>
  <dc:creator>Erik Diaz</dc:creator>
  <dc:description/>
  <dc:language>en-US</dc:language>
  <cp:lastModifiedBy>Facultad de Medicina</cp:lastModifiedBy>
  <dcterms:modified xsi:type="dcterms:W3CDTF">2009-08-06T22:50:18Z</dcterms:modified>
  <cp:revision>122</cp:revision>
  <dc:subject/>
  <dc:title>Sin título de diapositiva</dc:title>
</cp:coreProperties>
</file>