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5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75C6-5953-404B-A2E8-EA9EF88ADD3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5082-A38B-4C44-BDE9-B63162A7558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5AF2-8F21-45CA-8138-02080BD626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F: Daño, asociado a elevada ansiedad, labilidad emocional, desinhibición social y agresiv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F: corteza orbitofro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B981-4BC9-41D5-8AA2-80AD9E7583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input sensorial ingresa a las vías superiores a través del TÁLAMO ANTERIOR anterior hacia el NÚCLEO LATERAL DE LA AMÍGDALA y de ahí al NÚCLEO CENTRAL DE LA AMÍGDALA. Este último, es el nodo desde donde se disemina la información y se coordina la respuesta autonómica y conductual al estímulo que originó la respuesta ansio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eferencias del núcleo central de la amígala se dirigen a múltiples siti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ÚCLEO PARABRAQUIAL…………………………………………..produce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frecuencia respira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ÚCLEO LATERAL DEL HIPÓTALAMO…………………………..activa el SN SIMPÁTICO y causa el arousal autonó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CUS CERULEUS…………………………………………………….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liberación de NA y contribuye a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A, FC y resp cond al mie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ÚCLEO PARAVENTRICULAR DEL HIPOTÁLAMO…………….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liberación de adrenocortico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GIÓN GRIS PERIACUEDUCTAL………………………………… </a:t>
            </a: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resp cond accesorias (freezing postural y cond defensiva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0D6B-FD32-488E-BDBF-3F14F2B7AE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DNF (factor neurotrifico derivado del crebro) participa en la apoptosis y en la diferenciación neuronal. Además modula las interconecciones neuronales. Estimula la expresión de rp NMDA, el que a su vez determina cb en la fuerzas de las conexiones neuronales, regulando la plasticidad sinaptica a través de la potenciación a largo plazo (LPT) y la depresió a largo palzo (LT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6D67-90A9-4046-B7EB-19D21843792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9979-EAF4-46D9-A489-DB19CBA7BA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F4E5-104D-4528-9844-0896E7495D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rabajos esco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Interaccione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Fam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Sal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Segu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Eventos mund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Catástrofes natu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Asociado a un síntoma somá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C952-969B-4CE2-A79D-98088664300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iños: 2,9%-4,6% (Anderson 198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Adolescentes: 3,6%-7,3%(Bowen 1990, Kash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9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Mujeres: hombres 6:1 (Nutter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4F2C-1D0B-442C-B53C-7C62D41477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enzar con dosis muy bajas y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↑ gradualmen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Sertralina 1-2 mgr./kgr./d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Fluoxetina 0,3-1 mgr./kgr./d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Paroxetina 0,2-0,5 mgr./Kgr/d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enzodiacepin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Mínimos efectos colat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No se ha estudiado tolerancia ni depende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Reacciones paradójicas: desinhibición conduct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Dosis iniciales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Principalmente clonazepam 0,01-0,03 mgr./Kgr./d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1762-1911-45BF-8373-1FD3E02D00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E36A-C340-4D54-94F7-FECA76AC6D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595B-7457-4A6D-A46C-40F3AC079E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ctantes: miedo a ruidos fuertes, imprevisto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tra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Preescolares: miedo a criaturas imaginari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scuridad y ansiedad de separación norm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Escolares: miedo a daño físico y ev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atu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Adolescentes: preocupación con rend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colar, competencia social y problemas de sal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uris 1998, Vasey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17B8-0645-44C0-BB4F-7D3CA1F2A0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4B5-56E1-4D14-8738-5AAAB8C1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8FA-1904-4C21-B0F7-AE0C99A4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3B0-1994-4AE0-B491-24703131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F20-E802-4E8F-8BE0-0C0B46E3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ADEE-EC2F-44A1-A4F2-2FC4D00C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8934-787B-406D-ABE8-9E6101B6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987B-045C-438B-B3AC-C597AAEE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2B0F-1CB7-4404-841E-3DE72E56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8468-9387-402E-B41A-78BEEC0B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4367-E416-49F5-AFCA-87BA635D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837A-724A-4DD4-BFD8-3545BA19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E69-5FC7-459B-BD58-C274E8C1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C7B8-7855-4ECF-ACE2-D076E39B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D764-041B-497B-9FE3-FC4C2C76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1F86-C7C8-4DBE-AB7F-9FD23A6E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FB87-A743-4FA5-95C5-52785D1F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4795-58AB-46B4-BA21-6DC2A8FF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976-1749-4EF5-9CB1-D3C3B9FB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58B-42E8-476A-8C52-72D8ED4C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5011-78AB-40E1-9D0A-89984CD7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8B7-9B62-4CAB-852C-71340EA8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4FC-7628-44B0-8F13-993B9997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A87-4ED7-4932-B071-7152EE6D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90B1-FEC3-403F-8A2E-EBAF6687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BCE4-F8C4-4ADB-8918-FB1A6BF7B32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C51F-9494-438F-A529-FCF77619CDF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300" spc="-1" strike="noStrike">
                <a:solidFill>
                  <a:srgbClr val="006633"/>
                </a:solidFill>
                <a:latin typeface="Garamond"/>
              </a:rPr>
              <a:t>Trastornos Ansiosos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58920" y="4797000"/>
            <a:ext cx="5616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ra. María José  Vi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siquiatría Infanto-juve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Garamond"/>
              </a:rPr>
              <a:t>Factores de Vulnerabilidad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Temper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hibido: caracterizado por espontánea evitación a los objetos, personas y situaciones desconocidas                               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ta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reactividad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, (Kagan 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traimiento conductual frente a situaciones nue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lrededor del 15 % de la población tiene éste temper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828720" y="3573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rep240603-2"/>
          <p:cNvPicPr/>
          <p:nvPr/>
        </p:nvPicPr>
        <p:blipFill>
          <a:blip r:embed="rId1"/>
          <a:stretch/>
        </p:blipFill>
        <p:spPr>
          <a:xfrm>
            <a:off x="5186520" y="1484280"/>
            <a:ext cx="30607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2195640" y="2637000"/>
            <a:ext cx="43210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611280" y="2133720"/>
            <a:ext cx="1584360" cy="1008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Amigd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6877080" y="2060640"/>
            <a:ext cx="1584360" cy="1008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C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708360" y="2708280"/>
            <a:ext cx="1440000" cy="1441440"/>
          </a:xfrm>
          <a:prstGeom prst="flowChartExtra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08000" y="4406760"/>
            <a:ext cx="290016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 de alerta al peli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ria emocional de los estím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amiento al mi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403280" y="3357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029280" y="4127400"/>
            <a:ext cx="290052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ula el impacto de la vivencia al tem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n modulador de las emociones neg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cipa en la extinción del condicionamiento al mie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7596360" y="3284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2"/>
          <p:cNvSpPr/>
          <p:nvPr/>
        </p:nvSpPr>
        <p:spPr>
          <a:xfrm>
            <a:off x="2195640" y="3500280"/>
            <a:ext cx="3744720" cy="1873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"/>
          <p:cNvSpPr/>
          <p:nvPr/>
        </p:nvSpPr>
        <p:spPr>
          <a:xfrm>
            <a:off x="539640" y="2781360"/>
            <a:ext cx="1584360" cy="1008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Amigd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5651640" y="5300640"/>
            <a:ext cx="1584360" cy="10080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C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3276720" y="4437000"/>
            <a:ext cx="1439640" cy="1441440"/>
          </a:xfrm>
          <a:prstGeom prst="flowChartExtra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903840" y="150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132000" y="765000"/>
            <a:ext cx="57596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activación frente al temor que la aleg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ños de temperamento inhibido presentan activación bilateral de la amígdala frente a rostros 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balance A  -  COF: En fobias específicas, fobi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ígdala derecha: Parte de un sistema, dinámico  de detección de estímulos emocionales    Desordenes Ansio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ígdala izquierda: Evaluar estímulos continuos y su valoración emocional    Desordenes del hu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6948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364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6633"/>
                </a:solidFill>
                <a:latin typeface="Garamond"/>
              </a:rPr>
              <a:t>Amígdala y vías de neurotransmisión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3564000" y="3429000"/>
            <a:ext cx="2232000" cy="129528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33"/>
                </a:solidFill>
                <a:latin typeface="Times New Roman"/>
              </a:rPr>
              <a:t>Amígd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835280" y="400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6443640" y="400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4500720" y="213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 rot="3040200">
            <a:off x="365400" y="324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119480" y="1484280"/>
            <a:ext cx="125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120920" y="2440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50920" y="2205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ot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042920" y="2727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835280" y="33577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2340000" y="3429000"/>
            <a:ext cx="5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7308720" y="249228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7524720" y="31417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596360" y="39686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250920" y="5799240"/>
            <a:ext cx="41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ferencias (inputs) estimul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hibidor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4572000" y="580536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ferencias (outputs) estimul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2535120" y="33051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2610360" y="3232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4140360" y="62373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* es un output indirecto a través del locus ceru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6633"/>
                </a:solidFill>
                <a:latin typeface="Garamond"/>
              </a:rPr>
              <a:t>Amígdala y sus conexiones aferentes y eferentes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3" name="Picture 3" descr="Neuroanatomía del Pánico"/>
          <p:cNvPicPr/>
          <p:nvPr/>
        </p:nvPicPr>
        <p:blipFill>
          <a:blip r:embed="rId1"/>
          <a:stretch/>
        </p:blipFill>
        <p:spPr>
          <a:xfrm>
            <a:off x="684360" y="1603440"/>
            <a:ext cx="7200720" cy="4201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3059280" y="5950080"/>
            <a:ext cx="58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orman J et al. Am J Psychiatry 2000; 157: 4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Sistema neurobiológico de respuesta al estré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Eje HHA y CRF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l stress estimula tanto al eje HHA como al SNS, además estos 2 sistemas se estimulan el uno al otro, con un continuo hasta la adulte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cronico de Cortisol produce efectos deletereo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minuyen la expresión d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D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loquea la inducción de LTP y facilita la inducción de LTD (reduce conexiones sinápticas)          ↓ neuroplasti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trofia del hipocampo (Robert sapol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nto con el aumento de catecolaminas: ↑ perdida neuronal, retraso mielinización, altera poda neuronal, ↓ neurogen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4854600" y="4429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24000" y="333360"/>
            <a:ext cx="2376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dis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300720" y="333360"/>
            <a:ext cx="244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203640" y="1484280"/>
            <a:ext cx="2232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ENO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ULN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843280" y="5589720"/>
            <a:ext cx="3168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tor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resivo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si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281160" y="1484280"/>
            <a:ext cx="8467560" cy="1458000"/>
            <a:chOff x="281160" y="1484280"/>
            <a:chExt cx="8467560" cy="1458000"/>
          </a:xfrm>
        </p:grpSpPr>
        <p:sp>
          <p:nvSpPr>
            <p:cNvPr id="163" name="Text Box 7"/>
            <p:cNvSpPr/>
            <p:nvPr/>
          </p:nvSpPr>
          <p:spPr>
            <a:xfrm>
              <a:off x="6135840" y="1628640"/>
              <a:ext cx="2612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Neurotoxicidad y alteración de 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Neurogenesis en 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hipocam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281160" y="1484280"/>
              <a:ext cx="2126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↑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CR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↑</a:t>
              </a: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Eje HH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↑ </a:t>
              </a: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actividad 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AutoShape 9"/>
          <p:cNvSpPr/>
          <p:nvPr/>
        </p:nvSpPr>
        <p:spPr>
          <a:xfrm>
            <a:off x="3995640" y="2421000"/>
            <a:ext cx="576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276360" y="299736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ulnera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estr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3995640" y="3716280"/>
            <a:ext cx="576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841480" y="4287960"/>
            <a:ext cx="31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↓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adapta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 rendimiento psicoso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620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 flipH="1">
            <a:off x="5364000" y="98100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2771640" y="98100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723600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7"/>
          <p:cNvGrpSpPr/>
          <p:nvPr/>
        </p:nvGrpSpPr>
        <p:grpSpPr>
          <a:xfrm>
            <a:off x="184320" y="2276640"/>
            <a:ext cx="8708760" cy="2604240"/>
            <a:chOff x="184320" y="2276640"/>
            <a:chExt cx="8708760" cy="2604240"/>
          </a:xfrm>
        </p:grpSpPr>
        <p:sp>
          <p:nvSpPr>
            <p:cNvPr id="174" name="Rectangle 18"/>
            <p:cNvSpPr/>
            <p:nvPr/>
          </p:nvSpPr>
          <p:spPr>
            <a:xfrm>
              <a:off x="6156360" y="3789360"/>
              <a:ext cx="273672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Altera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estructu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9"/>
            <p:cNvSpPr/>
            <p:nvPr/>
          </p:nvSpPr>
          <p:spPr>
            <a:xfrm>
              <a:off x="184320" y="3567240"/>
              <a:ext cx="2317320" cy="131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↓ 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5 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↑ 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Citoki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↓ 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dopam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Alteración eje H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 flipH="1">
              <a:off x="2050920" y="2276640"/>
              <a:ext cx="136872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1"/>
            <p:cNvSpPr/>
            <p:nvPr/>
          </p:nvSpPr>
          <p:spPr>
            <a:xfrm>
              <a:off x="5508720" y="2276640"/>
              <a:ext cx="93636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22"/>
          <p:cNvGrpSpPr/>
          <p:nvPr/>
        </p:nvGrpSpPr>
        <p:grpSpPr>
          <a:xfrm>
            <a:off x="1908000" y="4941720"/>
            <a:ext cx="4464000" cy="503280"/>
            <a:chOff x="1908000" y="4941720"/>
            <a:chExt cx="4464000" cy="503280"/>
          </a:xfrm>
        </p:grpSpPr>
        <p:sp>
          <p:nvSpPr>
            <p:cNvPr id="179" name="AutoShape 23"/>
            <p:cNvSpPr/>
            <p:nvPr/>
          </p:nvSpPr>
          <p:spPr>
            <a:xfrm>
              <a:off x="3995640" y="5013360"/>
              <a:ext cx="57636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>
              <a:off x="1908000" y="5013360"/>
              <a:ext cx="935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H="1">
              <a:off x="5866920" y="4941720"/>
              <a:ext cx="50508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Garamond"/>
              </a:rPr>
              <a:t>Trastornos Ansiosos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92d050"/>
                </a:solidFill>
                <a:latin typeface="Arial"/>
              </a:rPr>
              <a:t>Disminución de sitios  de recaptación de dopamina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n relación a contro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92d050"/>
                </a:solidFill>
                <a:latin typeface="Arial"/>
              </a:rPr>
              <a:t>Elevada concentración de CRF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con una hiperactividad del eje HPA y sistema nervioso autóno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92d050"/>
                </a:solidFill>
                <a:latin typeface="Arial"/>
              </a:rPr>
              <a:t>Hipercotisolismo induce fenómeno de Kindling en la amígdal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perpetuando conducta hacia estímulos de amenaz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xiste una estrecha </a:t>
            </a:r>
            <a:r>
              <a:rPr b="0" lang="es-ES" sz="2100" spc="-1" strike="noStrike">
                <a:solidFill>
                  <a:srgbClr val="92d050"/>
                </a:solidFill>
                <a:latin typeface="Arial"/>
              </a:rPr>
              <a:t>conexión entre CRF y circuito noradrenérg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RF en el Locus Ceruleus incrementa reacción al str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RF disminuye  liberación de Seroton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rotonina disminuye liberación de NE, inhibiendo la amígdala, LC y la Stria Terminalis, disminuyendo la ansieda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ipótesis: En los cuadros ansiosos está disminuida la acción inhibitoria de la Seroton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TRASTORNO POR ANSIEDAD GENERALIZADA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Picture 4" descr="foto ansiedad1"/>
          <p:cNvPicPr/>
          <p:nvPr/>
        </p:nvPicPr>
        <p:blipFill>
          <a:blip r:embed="rId1"/>
          <a:stretch/>
        </p:blipFill>
        <p:spPr>
          <a:xfrm>
            <a:off x="4822920" y="3257640"/>
            <a:ext cx="43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Preocupación excesiv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que aparece en múltiples contextos en ausencia de una alteración orgánica que explique los síntomas, con una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incapacidad de controlar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el grado de preocupación, alterando el desarrollo normal del niño o adolescente y generando deterioro social o académ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os niños se preocupan por to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INTRODUCCIÓN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Grupo heterogéneo de patologí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on de alta frecuencia: prevalencia global 5 al 1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us síntomas básicos son los temores y preocup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Preocupaciones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decuada conducta pas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ventos futuros, puntu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prensiones a temas de adul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ventos mundiales y catástrofes natur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sociado  a un síntoma somá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008400" y="637524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ACAP 2007, DSM IV 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TAG: sintomatologí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ficultad para controlar las preocupaciones, para relajarse, para disfru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feccionistas, búsqueda de aprobación, sobreadaptados, autocríticos, y sensibles a las críticas exter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eocupaciones más típicas son el rendimiento y competencia escolar y deportiva, seguridad propia y de la familia, catástrofes naturales y eventos futu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ficultad para concentrarse y procesar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xcesiva estructuración de la v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975040" y="625644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ACAP 2007, DSM IV TR, Nutter 2006, Wagne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Criterios DSM-IV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100" spc="-1" strike="noStrike">
                <a:solidFill>
                  <a:srgbClr val="ff3399"/>
                </a:solidFill>
                <a:latin typeface="Arial"/>
              </a:rPr>
              <a:t>Ansiedad y preocupación excesiv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(expectación aprensiva) sobre una amplia gama de acontecimientos o actividades ( como el rendimiento escolar) , que  se prolongan por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más de 6 me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l individuo le resulta </a:t>
            </a:r>
            <a:r>
              <a:rPr b="1" lang="es-ES" sz="2100" spc="-1" strike="noStrike">
                <a:solidFill>
                  <a:srgbClr val="ff3399"/>
                </a:solidFill>
                <a:latin typeface="Arial"/>
              </a:rPr>
              <a:t>difícil controlar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este estado de constante preocup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ansiedad y preocupación se asocian a tres de los sgtes. síntomas . EN NIÑOS SE REQUIERE 1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Inquietud e impacie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2.-fatigabilidad faci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3.-dificultad para concentrarse o tener la mente en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4.-irritabil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5.-tensión muscul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6.-alteraciones del sueñ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entro de la ansiedad y de la preocupación no se limita a a síntomas de un trastorno del eje 1: ej presentar una crisis de Pánico ( Trastorno de Pánico), pasarlo mal en publico( Fobia Social), contraer una enfermedad (TOC), estar lejos de los seres queridos ( AS),engordar (AN), no aparecen en transcurso de un TEP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ansiedad, la preocupación o los síntomas físicos provocan malestar clínicamente significativo a deterioro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 se deben a efectos de sustancias o enfermedad medica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PIDEMIOLOGÍ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iños: 2,7 a 4,6 % (Anderson 198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olescentes: 3,6 a 7,3%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%(Bowen 1990, Kashani 198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ujeres: hombres 6:1 (Nutter 200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cientes con TAG tienden a ser de mayor edad y pertenecen a grupos de mayor nivel socioeconóm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ctores familiares: alto grado de expectativas de los padres, padres hipercríticos, insistencia en el rendimiento o permisividad excesi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mperamento inhib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ctores neurobiológ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DG. DIFERENCI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tologías médicas: hipertiroidismo, consumo de drogas y abstinencia (examen toxicológico), D.M., LUPUS, entre ot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. Psiquiátricos como TDAH, TGD, cuadros sicóticos o del án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AG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generalizado en todos los contex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AS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es más fás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Pronóst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ró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80% remisión a 3-4 años , 35% desarrollaron un nuevo trastorno psiquiátrico (Last 199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Evolución a largo plaz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ientras más severos son los síntomas y mayor es la discapacidad en el funcionamiento, más probable que persista (Dadds 1997 &amp; 199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iesgo de desarrollar nuevos trastornos de ansiedad, depresión y abuso de sustancias (Pine 199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ayor riesgo de suicidio y hospitalización psiquiátrica en la adultez (Achenbach 1995, Ferdinand 1995, Reinblatt 20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5549400" y="632952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ACAP 2007, Reinblatt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TRATAMIENTO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 ser integral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combinar distintos enfoq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rabajo con los pad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*Evaluar tipo de víncu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*Apoyo para fomentar situaciones novedos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*Evitar inhibición o retra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*Terapia famili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sicoterap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3399"/>
                </a:solidFill>
                <a:latin typeface="Arial"/>
              </a:rPr>
              <a:t>Cognitivo-Conductual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↓ reforzadores de conductas ansiosas con relajación, imaginería, declaraciones autoafirmativas y de autoinstrucción, así como la identificación de las cogniciones erróneas y sustitución por procesos adapt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imitaciones funcionales importa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án asociados con un impacto negativo en autoestima, aislamiento social, habilidades sociales inadecuadas y problemas académ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ctor de riesgo para psicopatología en la adulte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urso longitudinal  de trastornos ans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TRATAMIENTO FARMACOLÓGICO</a:t>
            </a:r>
            <a:r>
              <a:rPr b="0" lang="es-ES_tradnl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unca la única forma de trata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*De 1º lín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↓perfil efectos colaterales, seguridad en cuanto a sobredosis, no requieren niveles p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Benzodiacepi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TRASTORNO DE ANSIEDAD DE SEPARACIÓN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ansiedad de separación es el único trastorno ansioso de niños que forma parte del DSM IV bajo el capítulo “Trastornos habitualmente diagnosticados en la infancia y adolescencia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característica esencial es que el niño o adolescente experimenta un tremendo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temor y ansiedad excesiva desencadenada por la separación, principalmente de la madre (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 otra persona significativa) o de su hog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ansiedad debe ser inapropiada para el nivel de desarrollo del niño y debe durar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l menos 4 seman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 particularmente importante distinguir la ansiedad de separación normal y anormal, debido a que tal ansiedad es un fenómeno normal desde los 7 meses a los 6 añ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storno característico de la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edad media escolar, entre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7 y 9 años de edad. Se reporta una prevalencia de AS entre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2,4 a 5,4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%. Con mayor frecuencia en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niñas que niñ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niños pueden mostrar su malestar en forma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nticipada a la separación, durante ella o la tratan de evit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niños con AS se resisten a la separación, aferrándose a sus padres, llorando, rogando que no se los deje o quejándose de molestias somát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miedo subyacente es que algo malo le suceda a él o a sus figuras significativa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, lo que resultaría en una permanente separ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rechazo escolar y las excesivas quejas somática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son las principales razones por las cuales los  padres deciden consult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Sínto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chazo o falta de asistencia esco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iedo a estar so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egativa a dormir en su pi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sadillas con contenidos de temáticas de sepa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emor y preocupación que los seres queridos sufran daño durante la sepa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Quejas somáticas sin causa orgánica demostr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ductas de asegur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CRITERIOS DSM-IV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Ansiedad excesiva e inapropiad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cuando se produce una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separación de la person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a la que se encuentra vinculado. Su manifestación debe presentar al menos tres de los síntomas sgt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lestar excesivo y recurrente </a:t>
            </a: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ante la anticipación de la sepa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Preocupación persistente por la posible pérd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 que puedan sufrir algún daño las personas a las que está vincu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ocupación excesiva porque </a:t>
            </a: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algún acontecimi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ueda dar lugar a la sepa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Resistencia a ir a la escuela o a otro sit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or miedo a la sepa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Miedo a estar sol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asa sin las figuras vinculadas o adultos significativos en otros lug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CRITERIOS DSM-IV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6988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Negativa a ir a dormir solo si no está acompañado por la figura signific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Pesadill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 tema de sepa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6988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Arial"/>
              </a:rPr>
              <a:t>Quejas físicas cuando ocurre o se anticipa la separ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duración es de </a:t>
            </a:r>
            <a:r>
              <a:rPr b="0" lang="es-ES" sz="2600" spc="-1" strike="noStrike">
                <a:solidFill>
                  <a:srgbClr val="ff3399"/>
                </a:solidFill>
                <a:latin typeface="Arial"/>
              </a:rPr>
              <a:t>al menos 4 sema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inicio es antes de los 18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alteración genera interferencia y malestar significa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ocurre en el transcurso de otros tr. Siquiátr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pecificar inicio temprano (antes de los 6 añ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Comorbili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 asocia a otros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trastorno de angustia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el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50%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de los casos y a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depresión en el 30% de los casos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La AS es el diagnóstico de la línea ansiosa más común en muestras de niños prepuberales con depre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storno de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nsiedad generalizada (33%) y fobias específicas (12%)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parecen también dentro de las comorbilidades más frecuente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Curs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No existe acuerdo respecto del curso a largo plazo de la 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n embargo se reconoc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curso agudo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exacerbacione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en tiempos de st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iños con AS y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recuperación prácticamente complet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Sobre todo en niños cuya edad de inicio es más tempra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urso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crónico caracterizado por periódicas exacerbacione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, recurrencia y síntomas más persist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ntre éstos encontram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Tr.  Ansiedad Generaliz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Tr. de ansiedad por sepa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Fobia específica o si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Fobia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utismo selec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2d050"/>
                </a:solidFill>
                <a:latin typeface="Arial"/>
              </a:rPr>
              <a:t>T. Pán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E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edad de inicio posterior, comorbilidad con otros trastornos psiquiátricos, psicopatología en la familia y pérdida de un año o más de escolaridad son variables asociadas a altas tasas de cronicidad del trastorno </a:t>
            </a:r>
            <a:r>
              <a:rPr b="0" lang="es-CL" sz="1700" spc="-1" strike="noStrike">
                <a:solidFill>
                  <a:srgbClr val="000000"/>
                </a:solidFill>
                <a:latin typeface="Bradley Hand ITC"/>
              </a:rPr>
              <a:t>(Black, 1995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iños con AS presentan un alto riesgo de presentar en la adultez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trastornos depresivos y fobia social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CL" sz="1700" spc="-1" strike="noStrike">
                <a:solidFill>
                  <a:srgbClr val="000000"/>
                </a:solidFill>
                <a:latin typeface="Bradley Hand ITC"/>
              </a:rPr>
              <a:t>Black, 1995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AS en la infancia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es un factor de riesgo para el desarrollo de trastorno de pánico o agorafobia en la adolescencia o adultez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CL" sz="1700" spc="-1" strike="noStrike">
                <a:solidFill>
                  <a:srgbClr val="000000"/>
                </a:solidFill>
                <a:latin typeface="Bradley Hand ITC"/>
              </a:rPr>
              <a:t>Battaglia, 1995; Biederman, 1993; Gittelman and Klein, 1984; Moreau and Follet, 1993).</a:t>
            </a:r>
            <a:r>
              <a:rPr b="0" lang="es-CL" sz="19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DG.  DIFERENCI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chazo esco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tros Trastornos Ans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Tratamiento Ansiedad de Separación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tamiento multimod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dividua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ema autonomía-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organización de estructuras cogni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jación , imagin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amiliar: promover en los padres entender tanto las necesidades de protección como la independencia del ni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gnitivo-conductual de grupo. Combinación de desensibilización sistemática, refuerzo positivo, mode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armacoterapia: en conjunto con terapia cognitiva-conductual. SSRIs 1º ele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600" spc="-1" strike="noStrike">
                <a:solidFill>
                  <a:srgbClr val="006633"/>
                </a:solidFill>
                <a:latin typeface="Garamond"/>
              </a:rPr>
              <a:t>Fobia Específica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CAGL6VC5"/>
          <p:cNvPicPr/>
          <p:nvPr/>
        </p:nvPicPr>
        <p:blipFill>
          <a:blip r:embed="rId1"/>
          <a:stretch/>
        </p:blipFill>
        <p:spPr>
          <a:xfrm>
            <a:off x="5364000" y="4005360"/>
            <a:ext cx="3353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6633"/>
                </a:solidFill>
                <a:latin typeface="Garamond"/>
              </a:rPr>
              <a:t>Definició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iedo marcado y persistente a objetos o situaciones circunscritas (estímulos fóbicos) tales como animales, sangre, alturas, espacios cerrados y volar, de manera que el niño/adolescente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evita el estímulo cuando es posible o lo soporta con ansiedad intens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” (APA 199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iedo no es causado por vergüenza a hablar o hacer cosas en público ni a tener una crisis de pán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exposición al estímulo fóbico provoca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ansiedad significativa, pudiendo llegar a una crisis de pán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l miedo debe tener una duración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mínima de 6 mese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e interferir con la rutina normal de la persona, sus relaciones sociales, su funcionamiento académico, o debe haber un malestar marcado sobre tener el mie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niños, a diferencia de los adolescentes y adultos,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pueden no darse cuenta que el miedo es excesivo o irracion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Evitación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al ser expuestos o en anticipación al estímu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Gritar, llorar, buscar a sus figuras de ape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iensan que el estímulo puede dañarlos a ellos o a ot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sentan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ansiedad anticipato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Criterios diagnósticos del DSM IV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Miedo marcado y persistente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que es excesivo o irracional, desencadenado por la presencia o anticipación de un objeto o situación específ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exposición al estímulo fóbico casi invariablemente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provoca ansiedad que puede tomar la forma de una crisis de pánico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relacionada a la situación o a la anticipación. Nota: En niños, la ansiedad puede ser expresada a través del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llanto, pataletas, congelamiento o alejamiento de situaciones sociales con desconocid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persona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reconoce que este miedo es excesivo o irracional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. Nota: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Este criterio puede estar ausente en niñ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situación fóbica es evitada o soportada con intensa ansiedad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o malesta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evitación, la ansiedad anticipatoria o el malestar en la situación fóbica interfiere significativamente con la rutina normal de la persona, su funcionamiento ocupacional (académico), sus actividades o relaciones sociales, o existe un malestar intenso sobre sufrir la fobi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n individuos menores de 18 años la duración es de al menos 6 m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ansiedad, las crisis de pánico o la evitación fóbica asociada al objeto o situación específica no es explicada mejor por otra enfermedad mental, como TOC, TEPT, TAG, TAS, fobia social, trastorno de pánico con agorafobia, o agorafobia sin trastorno de pán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pidemiologí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evalencia: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2,4-3,3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ás frecuente en niñas que niñ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lación inversamente proporcional a nivel socioeconóm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Desde la perspectiva del desarroll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cree que la aparición de fobias </a:t>
            </a:r>
            <a:r>
              <a:rPr b="0" lang="es-ES" sz="2600" spc="-1" strike="noStrike">
                <a:solidFill>
                  <a:srgbClr val="ff3399"/>
                </a:solidFill>
                <a:latin typeface="Arial"/>
              </a:rPr>
              <a:t>es paralela a los miedos normales de la infanci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en relación a edad de aparición y foco del mied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mayoría empieza alrededor de los </a:t>
            </a:r>
            <a:r>
              <a:rPr b="0" lang="es-ES" sz="2600" spc="-1" strike="noStrike">
                <a:solidFill>
                  <a:srgbClr val="ff3399"/>
                </a:solidFill>
                <a:latin typeface="Arial"/>
              </a:rPr>
              <a:t>7 años o entre los 10 y los 13 años de e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s fobias específicas deben ser diferenciadas de los miedos normales de la infa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enden a mejorar en el tiempo espontáne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ANGUSTIA Y ANSIEDAD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afbf39"/>
                </a:solidFill>
                <a:latin typeface="Arial"/>
              </a:rPr>
              <a:t>ANSIEDAD</a:t>
            </a:r>
            <a:r>
              <a:rPr b="0" lang="es-ES" sz="30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actitud de espera de un acontecimiento desagradable </a:t>
            </a:r>
            <a:r>
              <a:rPr b="0" lang="es-ES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niños con conocimiento cognitivo suficien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afbf39"/>
                </a:solidFill>
                <a:latin typeface="Arial"/>
              </a:rPr>
              <a:t>ANGUSTIA;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emoción básica intensa, desagradable </a:t>
            </a:r>
            <a:r>
              <a:rPr b="0" lang="es-ES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 captación de un peligro inminente que amenaza aspectos esenciales de la existenci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Tip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30040" y="1828800"/>
            <a:ext cx="14958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Tipo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28600" y="289548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icio inf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905480" y="1828800"/>
            <a:ext cx="184968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Tipo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1905120" y="2895480"/>
            <a:ext cx="184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tuaciones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turalez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nóme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tmosféric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icio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f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885120" y="1828800"/>
            <a:ext cx="1527840" cy="1008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Tipo san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Inye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d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812040" y="2895480"/>
            <a:ext cx="19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 sangre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ridas, recib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yecciones 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cedimi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asiv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cid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mili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sovagal 7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la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icio inf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5410440" y="1828800"/>
            <a:ext cx="195012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Tipo situ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7466400" y="1828800"/>
            <a:ext cx="141228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b812f"/>
                </a:solidFill>
                <a:latin typeface="Arial"/>
              </a:rPr>
              <a:t>Otros ti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638680" y="2971800"/>
            <a:ext cx="160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orte público, túneles, puentes, ascensores, aviones, autos o espacios cer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icio adultez temp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7543800" y="2971800"/>
            <a:ext cx="1600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tragantarse, vomitar,  adquirir una enfermedad, tener cáncer o sida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los niños a los ruidos fuertes o las personas disfraz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Diagnóstico diferenc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 otras fobias y trastornos de ansie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omorbilidad es frecuente con otros trastornos ans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Trat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isten pocos estud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posición gradual (desensibilización) junto a manejo y contención y estrategias de auto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terapia conductual es la primera el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psicofármacos no han demostrado efectiv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5989680" y="2638440"/>
            <a:ext cx="2232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1944720"/>
            <a:ext cx="762300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300" spc="-1" strike="noStrike">
                <a:solidFill>
                  <a:srgbClr val="008000"/>
                </a:solidFill>
                <a:latin typeface="Garamond"/>
              </a:rPr>
              <a:t>Fobia Social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7" name="Picture 6" descr="CAD6Q80D"/>
          <p:cNvPicPr/>
          <p:nvPr/>
        </p:nvPicPr>
        <p:blipFill>
          <a:blip r:embed="rId1"/>
          <a:stretch/>
        </p:blipFill>
        <p:spPr>
          <a:xfrm>
            <a:off x="2268360" y="3181320"/>
            <a:ext cx="42483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Defini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fobia social es un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miedo persistente a una o más situaciones sociales en que una persona está expuesta a personas desconocidas o al escrutinio de parte de otro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” (APA 199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pidemiologí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evalencia de 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1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de niños y adolescentes, (probablemente subdiagnosticada en niño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evalencia de vida de </a:t>
            </a:r>
            <a:r>
              <a:rPr b="0" lang="es-ES" sz="3000" spc="-1" strike="noStrike">
                <a:solidFill>
                  <a:srgbClr val="ff3399"/>
                </a:solidFill>
                <a:latin typeface="Arial"/>
              </a:rPr>
              <a:t>3 a 13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Aspectos clín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Ansiedad específica en contexto de grupos, inicio insidios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exposición a la situación social temida provoca </a:t>
            </a:r>
            <a:r>
              <a:rPr b="0" lang="es-ES" sz="1500" spc="-1" strike="noStrike">
                <a:solidFill>
                  <a:srgbClr val="ff3399"/>
                </a:solidFill>
                <a:latin typeface="Arial"/>
              </a:rPr>
              <a:t>ansiedad, temor a vergüenza y ataques de pán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ituaciones desencadenantes: hablar frente a otros, reuniones sociales, tratar con figuras de autoridad, actuar en público y hablar con extrañ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3399"/>
                </a:solidFill>
                <a:latin typeface="Arial"/>
              </a:rPr>
              <a:t>Evitación de estas situaciones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, malestar  extremo al enfrentarlas, </a:t>
            </a:r>
            <a:r>
              <a:rPr b="0" lang="es-ES" sz="1500" spc="-1" strike="noStrike">
                <a:solidFill>
                  <a:srgbClr val="ff3399"/>
                </a:solidFill>
                <a:latin typeface="Arial"/>
              </a:rPr>
              <a:t>no considerar este miedo excesivo o irracio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emor a que otros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los critiquen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 o les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encuentren defectos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 (considerarlos raros, poco atractivos, o estúpidos) o a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hacer 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decir algo tonto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vergonzo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ff3399"/>
                </a:solidFill>
                <a:latin typeface="Arial"/>
              </a:rPr>
              <a:t>Síntomas somáticos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: palpitaciones, sudoración, ruborización, temblor, mareos y malestar gastrointest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Preocupación excesiva sobre la vergüenza, evaluación negativa y rechaz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3b812f"/>
                </a:solidFill>
                <a:latin typeface="Garamond"/>
              </a:rPr>
              <a:t>Formas clínic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Oval 3"/>
          <p:cNvSpPr/>
          <p:nvPr/>
        </p:nvSpPr>
        <p:spPr>
          <a:xfrm>
            <a:off x="1258920" y="2205000"/>
            <a:ext cx="2521080" cy="244800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Gene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364000" y="2205000"/>
            <a:ext cx="2521080" cy="24480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7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Discreta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5580000" y="494172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siedad de rendimiento y específica a una o dos situ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900000" y="4869000"/>
            <a:ext cx="326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lia variedad de situaciones sociales. Personalidad evitativo-fóbica (vergüenza patológica). Otros personalidades esquizoides o esquizotíp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Criterios diagnósticos del DSM IV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Miedo marcado y persistente a una o más situaciones sociales en que una persona está expuesta a personas desconocidas o al escrutinio de parte de otros. El individuo teme que él o ella actuará de una manera (o mostrará síntomas ansiosos) que serán humillantes o vergonzosos. Nota: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en niños debe haber evidencia de la capacidad de relaciones sociales adecuadas para la edad con personas familiares y la ansiedad debe ocurrir en ambientes con sus pares y no sólo en relación a los adult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exposición a la situación social temida casi invariablemente provoca ansiedad que puede tomar la forma de una crisis de pánico relacionada a la situación o a la anticipación. Nota: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En niños, la ansiedad puede ser expresada a través del llanto, pataletas, congelamiento o alejamiento de situaciones sociales con desconocid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persona reconoce que este miedo es excesivo o irracional. Nota: </a:t>
            </a:r>
            <a:r>
              <a:rPr b="0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Este criterio puede estar ausente en niñ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situación social temida es evitada o soportada con intensa ansiedad o malesta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Criterios diagnósticos del DSM IV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 evitación, la ansiedad anticipatoria o el malestar en la situación social temida interfiere significativamente con la rutina normal de la persona, su funcionamiento ocupacional (académico), sus actividades o relaciones sociales, o existe un malestar intenso sobre sufrir la fobi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n individuos menores de 18 años la duración es de al menos 6 me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l miedo o la evitación no son debidos a los efectos fisiológicos directos de una sustancia (por ej, drogas ilícitas o fármacos) o una condición médica general, y no es explicada por otro trastorno mental (por ej, trastorno de pánico con o sin agorafobia, trastorno por ansiedad de separación, trastorno dismórfico corporal, trastornos generalizados del desarrollo o trastorno de personalidad esquizoide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i existe una condición médica general u otro trastorno mental, el miedo del criterio A no está relacionado a éste, por ej, no es miedo a Espasmofemia, al temblor en la Enfermedad de Parkinson, a exhibir conductas alimentarias anormales en Anorexia o Bulimia Nervios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ANGUSTIA Y ANSIEDAD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afbf39"/>
                </a:solidFill>
                <a:latin typeface="Arial"/>
              </a:rPr>
              <a:t>ANGUSTIA 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do que lleva a una serie de manifestaciones somáticas frente a una situación estimada como peligr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daptación y es protec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usa externa objeti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inherente a la vida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gada a nuevas experiencias y períodos críticos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ne en estado de al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ÑO TIENE LA CAPACIDAD DE RECUPERARSE, CUANDO EL ESTÍMULO DESAPAR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Desde la perspectiva del desarroll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fobia social se diagnostica con mayor frecuencia en </a:t>
            </a:r>
            <a:r>
              <a:rPr b="0" lang="es-ES" sz="2100" spc="-1" strike="noStrike">
                <a:solidFill>
                  <a:srgbClr val="ff3399"/>
                </a:solidFill>
                <a:latin typeface="Arial"/>
              </a:rPr>
              <a:t>adolescente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aunque hay casos descritos de los 8 años de eda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l inicio en promedio es a los 11,3 a 12,3 añ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sentación difiere según e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ños pequeños: pataletas frecuentes y muy apegados a sus padres, mutismo sele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olescentes: alejamiento de reuniones familiares, sociales y de relaciones con los p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volución y pronóst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uando la fobia social no es diagnosticada, puede acarrear problemas a futuro: rechazo escolar, abandono escolar, interferencia en el desarrollo ocupacional, falla de integrarse a la fuerza laboral, dificultad para establecer relaciones afectiv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Diagnóstico diferenc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 debe clarificar la naturaleza central del miedo específica a interacciones o actuaciones frente a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orno de pá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orno de ansiedad general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obia específ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orno por ansiedad de sepa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orno obsesivo-compuls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Oposicionismo desafi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st. Personalidad Evitativa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Trat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2057040"/>
            <a:ext cx="403848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tudios sobre terapia cognitivo conductual la privilegian sobre otros modos de trat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refuerzo posi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desensibilización    sintoma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modela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exposición grad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-exposición en v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4649760" y="2325600"/>
            <a:ext cx="40370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sicofármacos pueden formar parte de un tratamiento multimodal, pero no son el único tratamiento (SSRIs). Paroxetina, Sertralina efectiva en adul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6633"/>
                </a:solidFill>
                <a:latin typeface="Garamond"/>
              </a:rPr>
              <a:t>Trastorno de pánico con o sin agorafobia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Trastorno de pán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e trastorno se caracteriza p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isis de angustia repetidas e inesperadas, seguida de temores y preocupaciones persistentes respecto a futuras crisis y las consecuencias de las mis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observa este trastorno especialmente en adolescentes, a pesar que también se ha descrito en niñ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Prevale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35.9% a un 63.3% de los adolescentes han experimentado ataques de pánico (muestra comunitar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3399"/>
                </a:solidFill>
                <a:latin typeface="Arial"/>
              </a:rPr>
              <a:t>0.6% a 4.7%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los síntomas cumplen los criterios del DSM-IV, población escolar adolescente. Predominio mujeres 2:1. Raro antes de la pubert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agorafobia varía entre 2.5 y 5.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Según DSM-I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 ataque de pánico es un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creto periodo de intenso miedo o discomfort, de inicio brusco, que alcanza su máxima intensidad en 10 minutos y es acompañado de al menos 4 de los 13 síntomas somáticos o cogni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Síntomas somát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Respiración entrecort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Taquicard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olor precord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ensación de ah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Vérti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esmayo 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Hormigueo o adormecimi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Flash de frío o cal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udor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Temblor o sacudid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Náusea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ANGUSTIA NORMAL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ancia objetal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ngustia de separación (6-8 me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ctantes: ruidos fuertes, improvistos, extra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escolares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miedos animales, oscuridad, monstruos, ansiedad separación norm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tapa escolar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año físico y eventos na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 adolescenci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nsiedad social, interpersonal y rendimiento es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adurez emocional, experiencias de aprendizaje permiten superar los mie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uris 1998, Vasey 1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  <a:ea typeface="Times New Roman"/>
              </a:rPr>
              <a:t>Síntomas cognitiv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Miedo a mor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Volverse lo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erder el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esrealización (sensación de irrealida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espersonalización (estar separado de uno mism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emás, para el diagnóstico de trastorno de pánico, deben existir </a:t>
            </a:r>
            <a:r>
              <a:rPr b="0" lang="es-CL" sz="3000" spc="-1" strike="noStrike">
                <a:solidFill>
                  <a:srgbClr val="ff3399"/>
                </a:solidFill>
                <a:latin typeface="Arial"/>
              </a:rPr>
              <a:t>varias crisis inesperadas en el período de un me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be causar </a:t>
            </a:r>
            <a:r>
              <a:rPr b="0" lang="es-CL" sz="3000" spc="-1" strike="noStrike">
                <a:solidFill>
                  <a:srgbClr val="ff3399"/>
                </a:solidFill>
                <a:latin typeface="Arial"/>
              </a:rPr>
              <a:t>persistente preocupación sobre tener otro ataque,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sus implicancias y consecuencias y generar un deterioro del funcionamiento general del individuo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  <a:ea typeface="Times New Roman"/>
              </a:rPr>
              <a:t>Agorafob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ngustia que presenta el individuo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l sentirse solo,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sin ayuda, en lugares concurridos o situaciones en que no puede escapar fácil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o lleva a que se generen patrones persistentes de </a:t>
            </a:r>
            <a:r>
              <a:rPr b="0" lang="es-ES_tradnl" sz="2600" spc="-1" strike="noStrike">
                <a:solidFill>
                  <a:srgbClr val="ff3399"/>
                </a:solidFill>
                <a:latin typeface="Arial"/>
              </a:rPr>
              <a:t>evitaci</a:t>
            </a:r>
            <a:r>
              <a:rPr b="0" lang="es-ES_tradnl" sz="2600" spc="-1" strike="noStrike">
                <a:solidFill>
                  <a:srgbClr val="ff3399"/>
                </a:solidFill>
                <a:latin typeface="Georgia"/>
              </a:rPr>
              <a:t>ó</a:t>
            </a:r>
            <a:r>
              <a:rPr b="0" lang="es-ES_tradnl" sz="2600" spc="-1" strike="noStrike">
                <a:solidFill>
                  <a:srgbClr val="ff3399"/>
                </a:solidFill>
                <a:latin typeface="Arial"/>
              </a:rPr>
              <a:t>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a estas situa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ando las enfrentan, presentan intenso distress y miedo. Deben ser acompa</a:t>
            </a:r>
            <a:r>
              <a:rPr b="0" lang="es-ES_tradnl" sz="2600" spc="-1" strike="noStrike">
                <a:solidFill>
                  <a:srgbClr val="000000"/>
                </a:solidFill>
                <a:latin typeface="Georgia"/>
              </a:rPr>
              <a:t>ñ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dos de otras person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Situaciones..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ar solo fuera de ca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ar en una multit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ar en una fila, en la mitad de un pue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edo a ciertos medios de transpor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ar en un shopping mall o en un c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mayoría de los síntomas que presentan los adolescentes s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mblores, mareos, lipotimia, náusea, palpitaciones, respiración entrecortada y sudoració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5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0" lang="es-ES_tradnl" sz="1500" spc="-1" strike="noStrike">
                <a:solidFill>
                  <a:srgbClr val="000000"/>
                </a:solidFill>
                <a:latin typeface="Bradley Hand ITC"/>
              </a:rPr>
              <a:t>Kearny et al.,1997; King et al.,1997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3399"/>
                </a:solidFill>
                <a:latin typeface="Arial"/>
              </a:rPr>
              <a:t>Síntomas cognitivos son reportados con menor frecuencia que los síntomas somático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5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0" lang="es-ES_tradnl" sz="1500" spc="-1" strike="noStrike">
                <a:solidFill>
                  <a:srgbClr val="000000"/>
                </a:solidFill>
                <a:latin typeface="Bradley Hand ITC"/>
              </a:rPr>
              <a:t>King et al.,1997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situación más comúnmente evitada es en la cual el paciente se encuentra con </a:t>
            </a:r>
            <a:r>
              <a:rPr b="0" lang="es-ES_tradnl" sz="2100" spc="-1" strike="noStrike">
                <a:solidFill>
                  <a:srgbClr val="ff3399"/>
                </a:solidFill>
                <a:latin typeface="Arial"/>
              </a:rPr>
              <a:t>gran número de personas desconocida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(restaurant, cine, auditorios) </a:t>
            </a:r>
            <a:r>
              <a:rPr b="0" lang="es-ES_tradnl" sz="1700" spc="-1" strike="noStrike">
                <a:solidFill>
                  <a:srgbClr val="000000"/>
                </a:solidFill>
                <a:latin typeface="Bradley Hand ITC"/>
              </a:rPr>
              <a:t>(Kearny et al, 1997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Perspectiva del desarrollo..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comienzo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ntes de los 17 años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 especialmente perjudicial, ya que presentan un </a:t>
            </a:r>
            <a:r>
              <a:rPr b="0" lang="es-CL" sz="2600" spc="-1" strike="noStrike">
                <a:solidFill>
                  <a:srgbClr val="ff3399"/>
                </a:solidFill>
                <a:latin typeface="Arial"/>
              </a:rPr>
              <a:t>alto riesgo de abuso de alcohol, ideación e intentos suicidas y consultas en servicios de urgenci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, en comparación con el inicio después de los 18 años </a:t>
            </a:r>
            <a:r>
              <a:rPr b="0" lang="es-CL" sz="19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0" lang="es-CL" sz="1900" spc="-1" strike="noStrike">
                <a:solidFill>
                  <a:srgbClr val="000000"/>
                </a:solidFill>
                <a:latin typeface="Bradley Hand ITC"/>
              </a:rPr>
              <a:t>Moreau, 1993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Diagnóstico Diferenc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 otros trastornos ansio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ipos de crisis de pánic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esperadas o espontan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tuacio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edispuestas situacion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istinción difícil en niños por atribución externa de sus experi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urso y pronost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astornos de pánico no tratados seguiría su curso al adul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Trat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sicoterapi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CC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entrenamiento respiratori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aj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utoinstrucción positiv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armacoterapia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SR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Z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43240" y="3075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¿PREGUNTA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3b812f"/>
                </a:solidFill>
                <a:latin typeface="Garamond"/>
              </a:rPr>
              <a:t>ANGUSTIA PATOLÓGICA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ntimiento de aprensión: “algo terrible va a ocurrir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ás pequeño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mayor expresión somát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yor edad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conduc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bjeto angustia patológica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patrón eta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nfancia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fobia anim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nfancia tardía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sempeño y angustia de separ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dolescencia </a:t>
            </a:r>
            <a:r>
              <a:rPr b="0" lang="es-E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fobia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ncapacidad de recuperarse al desaparecer el estimu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fecta áreas del desarrol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sufrimiento y poca flexibilidad de la respuesta afecti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omorbili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º entre distintos desordenes ansiosos:  90% en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º Depre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iedad precede a la Depresión en un 67%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Bradley Hand ITC"/>
              </a:rPr>
              <a:t>Kovacs 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iedad precede a la Depresión entre 5 a 7 años, en adultos jóvenes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Bradley Hand ITC"/>
              </a:rPr>
              <a:t>Ernst, 199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videncia menor: SDAH, T.Condu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22:42:02Z</dcterms:created>
  <dc:creator>veri</dc:creator>
  <dc:description/>
  <dc:language>en-US</dc:language>
  <cp:lastModifiedBy>cote</cp:lastModifiedBy>
  <dcterms:modified xsi:type="dcterms:W3CDTF">2009-10-14T15:42:01Z</dcterms:modified>
  <cp:revision>63</cp:revision>
  <dc:subject/>
  <dc:title>Trastornos ansiosos</dc:title>
</cp:coreProperties>
</file>