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9A2EB-C56C-4D0D-8BA1-E38CC993B6F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C4DB9-2A0A-4BF1-93B4-03319FE4F8C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C40B1-3BC5-482C-9148-24390404DF4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F016A-0DB3-4C92-8879-D804844B571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88FF0-5212-4596-8ABD-7B14C53A8FD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AC9BE-5581-491C-B9F8-D5B113ACD9D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07597-0314-47C7-88C5-A8D58CB9036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1B38D-C200-4D42-BE00-C468F3A28E1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os factores de riesgo son similares tanto para adolescentes suicidas como intentad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D2422-3272-4AB2-B440-806E4C9DE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1E1D2-5B07-4AA1-A9F1-F878C5756E9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xiste consenso que la psicopatolog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ía es el factor de riesgo más significativo tanto para suicidio como intentos de suicidio en adolesce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De los suicidios el 70 a 90% tuvieron al menos una enfermedad psiqu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átrica al momento de la muer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l comienzo de las dificultades frecuentemente precede al suicidio por varios añ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B61DA-38B3-406E-A033-89F4DE3AD18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l riesgo de suicidio en adolescentes ha sido establecido que aumenta con el n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úmero de diagnósticos psiquiátricos, con comorbilidad entre Tr. Afectivos y abuso de sustanc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41AAE-02DB-4804-B849-DA02E292EC3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 estigmatizac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ón, victimización, aislamiento y rechazo parental han sido identificados como factores que influyen en la conducta suicida entre gay, lesbianas y jóvenes bisexu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DC7CC-6A28-4A02-B674-E01FAB4D906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221B4-3237-419D-9A3C-27DAE7BD839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48403-C657-43AE-AA2E-014F10DEE88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 intervenc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ón en crisis lo ideal es hacerla en la sala de emergen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84C57-C6E5-456C-BD81-E2E5F88B532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equiere educac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ón del sataff en riesgo de suicidio y necesidad de tratamiento de los intentos de suici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30FD4-E31B-4AA5-B8FC-EAABFEF935B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 hospitalizac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ón es altamente costosa y no siempre beneficio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6E393-3290-42A3-ADC1-CB38D72E144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19F-64BF-4BCA-A0C6-B8588EED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9CE-C713-45B8-8196-AD8C103F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3B8-2BC2-4F51-8556-4F26BDEA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792-8BA9-424F-8353-D6767E3C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219B-7A39-4E8A-81ED-F32D90A4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EA9F-C97A-4A94-81A7-CCEE553C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BBE2-187B-4443-A9AD-4D881353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D330-1F57-4165-9BA4-E64855CC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C0FB-FE3E-4097-95C2-616818E5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C9FA-F5A7-4613-894D-9992C254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707A-8D28-4053-BF00-BA7339DF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E37-9DBB-4A03-AD49-B625BBED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6238-6C2C-43AE-8E55-43B4519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854C-B118-40DB-A396-07EFC81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0358-2ED8-4928-9AB3-297B4BB0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554D-7852-44D6-8E82-F63E580A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13C8-BF7C-4290-880B-84A6C5E8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641F-6626-4670-8E92-77DFCD98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E65A-19F8-4D7A-A546-7DB37FB1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6B0C-C08F-4A15-A1F2-6F8E03FE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E3EA-C9C9-4F62-8056-ABF2D65A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4A50-D1D2-45EB-8E2F-C1F53FB1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148-839F-4452-8940-134451BC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A6F3-D099-4B66-9B7B-36281F8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6E88-6E0A-42E4-B97A-E27C47C9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5937-ECFA-4568-9384-AE681B7D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6F54-B723-475B-A2D4-4892BC8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C5D6-D46C-4C72-B067-8225EB6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BFF9-4A7D-44BC-B54A-F62B3F31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D1AC-D096-4C93-ADCB-4E5FD825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0345-2D1B-47EE-8388-E2B26D53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FABC-8333-461C-B285-104D782C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33DF-77E4-40F2-AAD9-8B829A45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B5F-E58E-42D1-8617-72E0A9AE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EDF58-A574-4E47-811F-B5D79F7A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A1F1-A336-4D5D-ABDB-E6B66CE5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5427-90CD-4547-8E4B-B66EA0F7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74B5-8AAA-49A0-B0B8-B79695EF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7E30-D4D6-40EE-AD5A-7E27419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E765-E3D4-47CA-8A4D-46E45C9B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F9C48-EB71-4752-ACFE-7ADDE69D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CDB1-8819-4B38-8407-48476E13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89A4-1653-4895-B9E0-9094CC8F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F8E-E9BC-42C1-81B6-5C520368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4EC-157A-4C97-AEC2-9E25E350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36D-7AEF-409F-9BFC-AB493B4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751-BDF2-482C-B8CB-FFDFBBC1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F33-7455-4EE5-BD6D-D87834E0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43261-0718-4D0D-9239-6E798EE64B5D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127DC-09CB-4E14-A309-64B38AF18C88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91552-E29D-4A6C-9B97-489E7C530E9B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ortar y redondear rectángulo de esquina sencilla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ángulo rectángulo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a libre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a libre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B4772-15ED-46C4-92B4-06812E787A94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4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48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ítulo 1" descr=""/>
          <p:cNvPicPr/>
          <p:nvPr/>
        </p:nvPicPr>
        <p:blipFill>
          <a:blip r:embed="rId1"/>
          <a:stretch/>
        </p:blipFill>
        <p:spPr>
          <a:xfrm>
            <a:off x="530280" y="201132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3520" y="46483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Dra. Marcela Larraguib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Clínica Psiquiátrica de la Universidad de Chi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440" cy="1901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AGNOSTICO</a:t>
            </a:r>
            <a:br>
              <a:rPr sz="4500"/>
            </a:b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ETAPA DEL DESARROLLO</a:t>
            </a:r>
            <a:br>
              <a:rPr sz="4500"/>
            </a:b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NIÑEZ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3123720"/>
            <a:ext cx="77724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íntomas ansiosos (fobias y ansiedad de separ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íntomas somát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lucinaciones audi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rritabilidad (pataletas, frustración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roblemas conduct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84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AGNOSTICO</a:t>
            </a:r>
            <a:br>
              <a:rPr sz="4500"/>
            </a:b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ETAPA DEL DESARROLLO</a:t>
            </a:r>
            <a:br>
              <a:rPr sz="4500"/>
            </a:b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ADOLESCENC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peti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li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deación e intento de suic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terioro del funcionamiento prev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roblemas conduct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VARIANTES CLINICA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psicót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melancól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catató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bipo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atíp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afectiva estac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subsindromal o subclí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resistente a trat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682560" y="113976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nstantia"/>
              </a:rPr>
              <a:t>Presente en el 40% a 90% de los casos clínic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omorbilidad 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2895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sti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rastornos ansios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rastornos disrrup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buso de alcohol y drog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Factores Etiológ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3504960"/>
            <a:ext cx="8229600" cy="26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dd9"/>
                </a:solidFill>
                <a:latin typeface="Constantia"/>
              </a:rPr>
              <a:t>Factores Genét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dd9"/>
                </a:solidFill>
                <a:latin typeface="Constantia"/>
              </a:rPr>
              <a:t>Factores ambient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videncia Gené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uerte contribución genét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emelos: Concordancia de desórdenes afectivo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el 76% de monocigotos criados junt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del 67% de monocigotos criados apar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19% de dicigot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os hijos de padres depresivos, hay un incremento en la ocurrencia de trastornos afectivos, comparados con otros desórdenes psiquiátr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sigue simples leyes mendelia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lantea modelo poligénico de herencia de la vulnerabi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ctores Ambient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ventos vitales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érdidas, abuso, neg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aracterísticas psicológicas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racterísticas atribucionales, interpretación y manejo del estrés, resolución de problemas, habilidades soci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orbilidad:trastornos ansiosos, abuso de sustancias, trastorno por déficit atencional, trastornos de la al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fermedades médicas crónicas, factores sociales  y culturale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AGNÓSTICO DIFEREN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2666520"/>
            <a:ext cx="77724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valuación médica y descartar patologías orgánicas que pueden simular un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derar etapa del desarrollo del niño para determinar si un síntoma es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AGNÓSTICO DIFEREN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3352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 preescola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bus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Maltra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nsiedad de separ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astorno Adaptativo con síntomas depres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S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 escola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astorno Adaptativo con síntomas depres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nsiedad de separ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ZQ incipi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. de aprendiz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 adolesc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buso de alcohol y dro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astorno ansio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quizofrenia incipi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S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norex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. disfórico premenstru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 de personal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* Duel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*T. de conduc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Índ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514600"/>
            <a:ext cx="822960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storno Depresivo y Disti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storno Bipo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ducta Suic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AGNÓSTICO DIFEREN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1337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usas med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ecciosas: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cefalitis, endocarditis, TBC, SIDA, sífilis tercia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eurológicas: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pilepsia, TEC, 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docrinas: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Hipo e hipertiroidismo, DM, sd. Cushing, Addi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48320" y="21337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: LES, anemia, sd de fatiga crónica, cáncer, alteraciones ELP, enfermedad de Wilson, urem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edicamentos: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psicoestimulantes, neurolepticos, corticoides, BDZ, A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stim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do de ánimo deprimido o disfórico de manera crónica, menos intenso que el TDM, pero en el que no hay periodos prolongados de bienestar (2 meses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uración es de al menos 1 año en los niñ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aracterísticamente describen días buenos y malos (o mixtos), pero no tienen semanas buen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frecuente que presenten síntomas desde edad preescolar (“personalidad depresiva”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92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stim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demás de la alteración ánimo deben presentar 2 o más 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érdida o aumento de apeti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somnio o hipersomn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Falta de energía o fatig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Baja autoesti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ficultades para concentrarse o tomar decis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timientos de desesperanz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n su desarrollo puede aparecer TDM: Depresión do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istimia 2aria: coexiste con anorexia, tr ansioso, tr somatización,o dependencia de sustanci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ORBIL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Distimia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70% de los jóvenes presentan también trastorno depresivo mayor (depresión dobl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50% tiene otro trastorno psiquiátric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. ansiedad (40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. de conducta (30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DAH (24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uresis, encopresis (15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15% tiene 2 o más trastornos de comorbilidad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VOLUCIÓN CLIN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urrencia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20-60% de probabilidad durante 1 a 2 años luego de la remisión de los sínto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70% dentro de los primeros 5 años, lo que depende de la severidad de la depresión y el tiempo en que es controlad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estudio 45% de los adolescentes que presentaron TDM a los 17 años presentaron un nuevo episodio entre los 19 y 24 años 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(Lewinsohn et al 1999)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DM con Intento de suicidio aumenta el riesgo de recurrencia hasta 10 veces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 (Pfeffer et al, 1992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ítulo 1" descr=""/>
          <p:cNvPicPr/>
          <p:nvPr/>
        </p:nvPicPr>
        <p:blipFill>
          <a:blip r:embed="rId1"/>
          <a:stretch/>
        </p:blipFill>
        <p:spPr>
          <a:xfrm>
            <a:off x="2286000" y="378000"/>
            <a:ext cx="6083280" cy="1054080"/>
          </a:xfrm>
          <a:prstGeom prst="rect">
            <a:avLst/>
          </a:prstGeom>
          <a:ln w="0">
            <a:noFill/>
          </a:ln>
        </p:spPr>
      </p:pic>
      <p:pic>
        <p:nvPicPr>
          <p:cNvPr id="348" name="Imagen 2" descr="borderline_hintergrund.jpg"/>
          <p:cNvPicPr/>
          <p:nvPr/>
        </p:nvPicPr>
        <p:blipFill>
          <a:blip r:embed="rId2"/>
          <a:stretch/>
        </p:blipFill>
        <p:spPr>
          <a:xfrm>
            <a:off x="24382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ítulo 1" descr=""/>
          <p:cNvPicPr/>
          <p:nvPr/>
        </p:nvPicPr>
        <p:blipFill>
          <a:blip r:embed="rId1"/>
          <a:stretch/>
        </p:blipFill>
        <p:spPr>
          <a:xfrm>
            <a:off x="682560" y="652320"/>
            <a:ext cx="8229600" cy="15415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El trastorno bipolar es una </a:t>
            </a:r>
            <a:r>
              <a:rPr b="1" lang="es-ES_tradnl" sz="2400" spc="-1" strike="noStrike">
                <a:solidFill>
                  <a:srgbClr val="ffffff"/>
                </a:solidFill>
                <a:latin typeface="Constantia"/>
              </a:rPr>
              <a:t>enfermedad mental</a:t>
            </a:r>
            <a:r>
              <a:rPr b="1" i="1" lang="es-ES_tradnl" sz="2400" spc="-1" strike="noStrike">
                <a:solidFill>
                  <a:srgbClr val="ffff00"/>
                </a:solidFill>
                <a:latin typeface="Constantia"/>
              </a:rPr>
              <a:t>severa, recurrente</a:t>
            </a: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, donde alcanzar la remisión funcional no es la regla, precisando de intervenciones terapéuticas que van más allá de la farmacoterapia, con un curso que muchas veces </a:t>
            </a:r>
            <a:r>
              <a:rPr b="1" i="1" lang="es-ES_tradnl" sz="2400" spc="-1" strike="noStrike">
                <a:solidFill>
                  <a:srgbClr val="ffffff"/>
                </a:solidFill>
                <a:latin typeface="Constantia"/>
              </a:rPr>
              <a:t>tiende a la</a:t>
            </a:r>
            <a:r>
              <a:rPr b="1" i="1" lang="es-ES_tradnl" sz="2400" spc="-1" strike="noStrike">
                <a:solidFill>
                  <a:srgbClr val="ffff00"/>
                </a:solidFill>
                <a:latin typeface="Constantia"/>
              </a:rPr>
              <a:t> cronicidad </a:t>
            </a:r>
            <a:r>
              <a:rPr b="1" i="1" lang="es-ES_tradnl" sz="2400" spc="-1" strike="noStrike">
                <a:solidFill>
                  <a:srgbClr val="ffffff"/>
                </a:solidFill>
                <a:latin typeface="Constantia"/>
              </a:rPr>
              <a:t>con residualidad anímica y cognit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CuadroTexto 3"/>
          <p:cNvSpPr/>
          <p:nvPr/>
        </p:nvSpPr>
        <p:spPr>
          <a:xfrm>
            <a:off x="228600" y="5410080"/>
            <a:ext cx="8610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eller B, Zimmerman B, Williams M 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Bipolar disorder at prospective follow-up of adults who had prepubertal major depressive disorder. </a:t>
            </a:r>
            <a:r>
              <a:rPr b="0" lang="de-DE" sz="1400" spc="-1" strike="noStrike">
                <a:solidFill>
                  <a:srgbClr val="000000"/>
                </a:solidFill>
                <a:latin typeface="Constantia"/>
              </a:rPr>
              <a:t>Am J Psychiatry 2001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tantia"/>
              </a:rPr>
              <a:t>Geller B, Zimmerman B, Williams M </a:t>
            </a:r>
            <a:r>
              <a:rPr b="0" i="1" lang="de-DE" sz="14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SM-IV mania symptoms in a prepubertal and early adolescent bipolar disorder phenotype compared 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ttention-deficit hyperactive and normal controls. </a:t>
            </a:r>
            <a:r>
              <a:rPr b="0" lang="es-ES_tradnl" sz="1400" spc="-1" strike="noStrike">
                <a:solidFill>
                  <a:srgbClr val="000000"/>
                </a:solidFill>
                <a:latin typeface="Constantia"/>
              </a:rPr>
              <a:t>J ChildAdolescPsychopharmacol 2002; 12: 11-25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3" name="Picture 4" descr="slide005"/>
          <p:cNvPicPr/>
          <p:nvPr/>
        </p:nvPicPr>
        <p:blipFill>
          <a:blip r:embed="rId1"/>
          <a:stretch/>
        </p:blipFill>
        <p:spPr>
          <a:xfrm>
            <a:off x="-1476360" y="0"/>
            <a:ext cx="10620360" cy="68673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-504720" y="260280"/>
            <a:ext cx="9648720" cy="14770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ff3399"/>
                </a:solidFill>
                <a:latin typeface="Arial"/>
              </a:rPr>
              <a:t>EDAD INICIO DE SÍNTOMA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468360" y="1557360"/>
            <a:ext cx="7559640" cy="862560"/>
          </a:xfrm>
          <a:prstGeom prst="rect">
            <a:avLst/>
          </a:prstGeom>
          <a:solidFill>
            <a:srgbClr val="000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s-MX" sz="2000" spc="-1" strike="noStrike">
                <a:solidFill>
                  <a:srgbClr val="000000"/>
                </a:solidFill>
                <a:latin typeface="Constantia"/>
              </a:rPr>
              <a:t>ESTUDIO RETROSPECTIVO DE 983 PACI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ítulo 1" descr=""/>
          <p:cNvPicPr/>
          <p:nvPr/>
        </p:nvPicPr>
        <p:blipFill>
          <a:blip r:embed="rId1"/>
          <a:stretch/>
        </p:blipFill>
        <p:spPr>
          <a:xfrm>
            <a:off x="225360" y="171360"/>
            <a:ext cx="8229600" cy="11937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onstantia"/>
              </a:rPr>
              <a:t>Klaning et al yotrosautoresmuestranque la concordancia en gemelosunivitelinoscondiagnóstico de TB es elevada (50 %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ffffff"/>
                </a:solidFill>
                <a:latin typeface="Constantia"/>
              </a:rPr>
              <a:t>La evidencia sugiere que los hijos de un padre con TB tienen más del doble de riesgo de desarrollar psicopatología en general y con el mayor riesgo diferencial, de desarrollar una enfermedad bipola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CuadroTexto 6"/>
          <p:cNvSpPr/>
          <p:nvPr/>
        </p:nvSpPr>
        <p:spPr>
          <a:xfrm>
            <a:off x="228600" y="5257800"/>
            <a:ext cx="8686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nstantia"/>
              </a:rPr>
              <a:t>Klaning U, Laursen TM, Licht RW </a:t>
            </a:r>
            <a:r>
              <a:rPr b="0" i="1" lang="nl-NL" sz="14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s the risk of bipolar disorder in twins equal to the ris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 singletons? A nationwide register-based study. </a:t>
            </a:r>
            <a:r>
              <a:rPr b="0" lang="fr-FR" sz="1400" spc="-1" strike="noStrike">
                <a:solidFill>
                  <a:srgbClr val="000000"/>
                </a:solidFill>
                <a:latin typeface="Constantia"/>
              </a:rPr>
              <a:t>J Affect Dis 2004; 81: 141-5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nstantia"/>
              </a:rPr>
              <a:t>Alexander JR, Benjamin J, Lerer B, </a:t>
            </a:r>
            <a:r>
              <a:rPr b="0" i="1" lang="fr-FR" sz="14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equency of Positive Family History in Bipolar Patien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 a Catchment Area Population. </a:t>
            </a:r>
            <a:r>
              <a:rPr b="0" lang="nl-NL" sz="1400" spc="-1" strike="noStrike">
                <a:solidFill>
                  <a:srgbClr val="000000"/>
                </a:solidFill>
                <a:latin typeface="Constantia"/>
              </a:rPr>
              <a:t>ProgressNeuropsychopharmBiolPsychiatry 1995; 19:367-73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(Youngstrom EA, Birmaher B, Findling RL. Pediatric bipolar disorder: validity, phenomenology, and recommendations for diagnosis. Bipolar Disord 2008: 10: 194-214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60480" y="4568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PISODIO MANÍACO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191628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Período diferenciado de ánimo anormal, persistentemente elevado, expansivo o irritable. Esto supone un cambio significativo en el estado mental basal y debe durar al menos 1 seman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ste período debe presentar al menos 3 de los siguientes s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íntomas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(4/7 si el ánimo es sólo irritable)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nstantia"/>
              </a:rPr>
              <a:t>Distractibil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nstantia"/>
              </a:rPr>
              <a:t>Hiperactividad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o agit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Autoestima exagerada o grandios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Fuga de ideas o aceleraci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ón del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pensami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nstantia"/>
              </a:rPr>
              <a:t>Involucramiento en actividades riesgos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Disminución de horas totales de sueñ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nstantia"/>
              </a:rPr>
              <a:t>Hablador o verborreic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682560" y="225360"/>
            <a:ext cx="8339040" cy="2048040"/>
          </a:xfrm>
          <a:prstGeom prst="rect">
            <a:avLst/>
          </a:prstGeom>
          <a:ln w="0">
            <a:noFill/>
          </a:ln>
        </p:spPr>
      </p:pic>
      <p:pic>
        <p:nvPicPr>
          <p:cNvPr id="302" name="Imagen 3" descr="depresion_van_gogh.jpg"/>
          <p:cNvPicPr/>
          <p:nvPr/>
        </p:nvPicPr>
        <p:blipFill>
          <a:blip r:embed="rId2"/>
          <a:stretch/>
        </p:blipFill>
        <p:spPr>
          <a:xfrm>
            <a:off x="2743200" y="2152800"/>
            <a:ext cx="3676680" cy="470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1258920" y="907560"/>
            <a:ext cx="7634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SODIO MIX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 diagnóstico de episodio mixto se hace cuando el paciente reúne criterios para un episodio ma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ヒラギノ角ゴ Pro W3"/>
              </a:rPr>
              <a:t>íac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y uno depresivo al menos durante 1 sema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 debe excluir causa orgánica y debe presentar un deterioro significa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SODIO HIPOMANÍAC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íntomas similares al episodio maníaco, pero difiere en la severidad y duración del cuad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be durar al menos 4 días y experimentar un cambio significativo de ánimo, observable por otros. No requiere ser hospitalizado ni tiene síntomas psicótic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1692360" y="981000"/>
            <a:ext cx="691200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STORNO BIPOLAR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 paciente debe haber experimentado al menos un episodio maníaco o mixto anteriorm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STORNO BIPOLAR 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 paciente debe haber experimentado al menos un episodio de depresión y uno de hipomanía anteriorm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STORNO BIPOLAR NO ESPECIFIC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547640" y="838080"/>
            <a:ext cx="7166160" cy="57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RASTORNO CICLOTÍMIC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En niños se refiere a un período de al menos 1 año de síntomasdepresivosehipomaníacosque no cumplencriteriospara un episodiodepresivo, maníacoomixto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Los síntomasdebenpresentarse la mayor parte del tiempo (no más de 2 meses sin síntomas)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Debecausardeterioroomolestiassignificativas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ICLADOR RÁPIDO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Se diagnosticacuando el pacientepresenta al menos 4 episodios de alteraciones del ánimo (depresivo, maníaco,  mixtoohipomanía) en el plazo de 1 añ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ICLADOR ULTRARÁPID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LIN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2743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B PREPUBE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B ADOLESC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TB Prepube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90400" y="1599840"/>
            <a:ext cx="3657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Cuadro clínico diferente al del adolescente y adul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icultades en la regulación de las emo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ápidos cambios del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casa tolerancia a la frustr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705200" y="1599840"/>
            <a:ext cx="3657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ltos niveles de irritabil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Hipervigila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minución de las horas de sue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nsiedad generalizad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ergía intens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ractibil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icultades del neurodesarroll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LINICA TB PREPUBE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04120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Euforia: no apropiada al contex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Grandiosidad: “cree” ser grandioso, no “juega” a serl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ayase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Conducta explos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uga de ide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8320" y="204120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obre juicio/conductas de riesg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Verborr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ncremento en la actividad dirigida a una me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umento de la actividad motor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7086240" y="6172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ller, AACAP 2003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ESENTACION TB PREPUBE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480" y="3200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Manía mixta o ciclador ráp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urso contin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6249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4617b"/>
                </a:solidFill>
                <a:latin typeface="Calibri"/>
              </a:rPr>
              <a:t>Comorbilidad TB en niñ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16" descr="bart"/>
          <p:cNvPicPr/>
          <p:nvPr/>
        </p:nvPicPr>
        <p:blipFill>
          <a:blip r:embed="rId1"/>
          <a:stretch/>
        </p:blipFill>
        <p:spPr>
          <a:xfrm>
            <a:off x="5508720" y="1989000"/>
            <a:ext cx="2943000" cy="33624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1"/>
          <p:cNvSpPr/>
          <p:nvPr/>
        </p:nvSpPr>
        <p:spPr>
          <a:xfrm>
            <a:off x="395280" y="1989000"/>
            <a:ext cx="6048360" cy="34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>
              <a:lnSpc>
                <a:spcPct val="55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0 – 90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>
              <a:lnSpc>
                <a:spcPct val="50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– 76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buso de sustanci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>
              <a:lnSpc>
                <a:spcPct val="50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stornos ansios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>
              <a:lnSpc>
                <a:spcPct val="55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371600">
              <a:lnSpc>
                <a:spcPct val="55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724360" y="61657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MX" sz="1800" spc="-1" strike="noStrike">
                <a:solidFill>
                  <a:srgbClr val="85dfd0"/>
                </a:solidFill>
                <a:latin typeface="Arial"/>
              </a:rPr>
              <a:t>Kafantaris 2001, Geller 2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Características clín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763640" y="2106720"/>
            <a:ext cx="662472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 todo adolescente que experimenta un deterioro importante de su funcionamiento, más síntomas emocionales o psicóticos, debe descartarse un T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2268360" y="126828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STORNO BIPOLAR EN ADOLESC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Características clín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68518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os adolescentes con TB generalmentetien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sentacionescomplej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Ánimomuylábi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rritabilidadextre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terioroimportante del comportami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uso de sustanci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íntomaspsicótic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agnósticodiferencial con EQ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to riesgo de suicidio (20% un intento grav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ntomasmaníacosydepresiv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9" name="Picture 8" descr="Imagen46"/>
          <p:cNvPicPr/>
          <p:nvPr/>
        </p:nvPicPr>
        <p:blipFill>
          <a:blip r:embed="rId1"/>
          <a:stretch/>
        </p:blipFill>
        <p:spPr>
          <a:xfrm>
            <a:off x="6132600" y="3938760"/>
            <a:ext cx="2554200" cy="218736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2268360" y="141768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STORNO BIPOLAR EN ADOLESC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Permanente estado de ánimobajo, presente la mayor parte del día, casicadadía, durante un período de al menos dos semana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PRESENTACION TB ADOLESCENT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3200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B tipo 1 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pisód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COMORBILIDAD EN EL TB ADOLESCENT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3200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sic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buso de susta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Diagnóstico diferen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916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squizofren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 Esquizoafec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presión con agit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SP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 de Personalidad Borderli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ía debido a una causa orgán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8" name="Picture 6" descr="VALLE DE LA LUNA4"/>
          <p:cNvPicPr/>
          <p:nvPr/>
        </p:nvPicPr>
        <p:blipFill>
          <a:blip r:embed="rId1"/>
          <a:stretch/>
        </p:blipFill>
        <p:spPr>
          <a:xfrm>
            <a:off x="900000" y="1125360"/>
            <a:ext cx="1835280" cy="489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573120" y="-6480"/>
            <a:ext cx="8674200" cy="1895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200160" y="0"/>
            <a:ext cx="666720" cy="1162080"/>
          </a:xfrm>
          <a:prstGeom prst="rect">
            <a:avLst/>
          </a:prstGeom>
          <a:ln w="0">
            <a:noFill/>
          </a:ln>
        </p:spPr>
      </p:pic>
      <p:pic>
        <p:nvPicPr>
          <p:cNvPr id="401" name="Imagen 5" descr="4278063f-requiem_por_un_suicidio.jpg"/>
          <p:cNvPicPr/>
          <p:nvPr/>
        </p:nvPicPr>
        <p:blipFill>
          <a:blip r:embed="rId3"/>
          <a:stretch/>
        </p:blipFill>
        <p:spPr>
          <a:xfrm>
            <a:off x="259092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DUCTA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4360" y="2971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OCUACIÓN, INTENTO O ACTO QUE INTENCIONALMENTE BUSCA CAUSARSE DAÑO A SÍ MISMO O LA MUER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ACION SUIC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NTO DE SUIC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IC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-228600" y="98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4617b"/>
                </a:solidFill>
                <a:latin typeface="Arial Narrow"/>
              </a:rPr>
              <a:t>Prevalenci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205000"/>
            <a:ext cx="7940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La conducta suicida es un fenómeno muy poco frecuente pero no inexistente en la población de 10 años o men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En la adolescencia temprana (desde los 10 años) y en particular entre los 12 y 14 sufre un aumento en su frecuencia para constituirse en una importante causa de morbi-mortalidad en la adolesc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NTO DE SUICID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88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 A 50 VECES MAS FRECUENTE QUE LOS SUICID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% SE SUICIDA DURANTE LOS 10 AÑOS SIGUIE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5% CONSULTA MED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549360" y="1262160"/>
            <a:ext cx="8234280" cy="1461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21932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 debe entender que la conducta suicida no es la consecuencia ante un problema, sino la acumulación de situaciones o eventos a lo largo de la vida del individuo, agotándolo y restándole su habilidad para manejar y tolerar la tensión, pérdidas, y frustracion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FACTORES DE RIES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Gén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sicopatologí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genét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Disfunción familia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Minorías sexual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deación suici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ntento de suicidio previ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biológ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psicol</a:t>
            </a:r>
            <a:r>
              <a:rPr b="0" lang="es-ES_tradnl" sz="2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óg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2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RASTORNO DEPRESIVO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PIDEMIOLOG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valencia: 2% en niños; 4% a 8% en adolescen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ción: hombre:mujer   1:1 en la niñezy 1:2 en la adolescenc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Incidencia acumulada a los 18 años: 20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SICOPATOLOG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Depres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Abuso de sustanc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onducta agresiva-impuls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de conducta (hombr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de p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ánico (mujer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de la al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bipo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sic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fermedad física crón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Abuso f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ísico y/o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UMENTA RIESGO AUTOLIT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onducta agresiva-impuls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depres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Abuso de sustanc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8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385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385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385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85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385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385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385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85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385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385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85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385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385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385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85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385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385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385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FACTORES DE RIES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Gén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sicopatologí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genét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Disfunción familia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Minorías sexual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deación suici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ntento de suicidio previ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biológ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psicol</a:t>
            </a:r>
            <a:r>
              <a:rPr b="0" lang="es-ES_tradnl" sz="2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óg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DEACION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2144520"/>
            <a:ext cx="761976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esperan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ndencia al aisl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samientos suicidas persiste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sicopatología gr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blemas de adapt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función familiar gr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NTO DE SUICIDIO PREV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umenta 30 veces el riesgo de suicidio en hombres y 3 veces en muje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ntre un cuarto y un tercio de adolescentes suicidas presenta el antecedente de un intento prev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umenta 3 a 17 veces el riesgo de un nuevo int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755640" y="835200"/>
            <a:ext cx="8229600" cy="1212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4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on eventos vitales estresantes que pueden gatillar la conducta suicida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a mayoría de ellos </a:t>
            </a:r>
            <a:r>
              <a:rPr b="0" i="1" lang="es-ES_tradnl" sz="2600" spc="-1" strike="noStrike">
                <a:solidFill>
                  <a:srgbClr val="ffffff"/>
                </a:solidFill>
                <a:latin typeface="Times New Roman"/>
              </a:rPr>
              <a:t>son eventos comunes a muchos adolescente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os factores precipitantes deben darse a la base de una vulnerabilidad dada por los factores de riesg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actores de riesg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230480" cy="1600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1198800" cy="1676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5"/>
          <p:cNvSpPr/>
          <p:nvPr/>
        </p:nvSpPr>
        <p:spPr>
          <a:xfrm>
            <a:off x="2136960" y="27576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o susceptibl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1886040" y="4254480"/>
            <a:ext cx="41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 precipitant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457200" y="4894200"/>
            <a:ext cx="1243080" cy="19638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8"/>
          <p:cNvSpPr/>
          <p:nvPr/>
        </p:nvSpPr>
        <p:spPr>
          <a:xfrm>
            <a:off x="1971360" y="5862600"/>
            <a:ext cx="36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ducta suicid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F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3014280"/>
            <a:ext cx="7619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ntervención en cr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sicoterapia y farmacotera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426960" y="1365120"/>
            <a:ext cx="8406000" cy="19018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evalencia y Epidemi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rrelación entre depresión y mal funcionamiento famili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rrelación entre depresión de los padres y la de sus hij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in diferencias nivel S-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ada generación tiene mayor riesgo de presentar TD leves a moderados y a edades más temprana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s trastornos más severos tendrían mayor influencia genét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dea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012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sencia y severidad de los factores de riesgo presen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nsidad de la ideación suici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probables factores precipita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er la historia de desarrollo y funcionamiento global actual del paci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factores potenciales individuales, familiares, o ambientales que puedan influir aminorando (factores protectores) o acentuando la ideación (factores mantenedores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xiste planificación o preparativos previos para un intento de suicidi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ento de Suicid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ivo: determinar si el paciente es hospitalizado o se deriva a especialista para tratamiento ambulatorio y el riesgo que tiene de cometer un nuevo intento en un corto plaz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veridad de los factores de riesgo presen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sistencia de la ideación suicida después del int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talidad del método emple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sencia o ausencia de arrepentimiento de la conducta suici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es de contención y vigilancia de la famil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factores precipita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tud abierta, cálida, empática e interesad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itarla crítica de la conducta o buscar "culpables" tanto con el adolescente como con los padres, evitar los juicios valorativos y descalificacione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plicar al joven, que dada la gravedad del hecho, no se podrá aplicar la confidencialidad ofrecida, como medida de protección a su propi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305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ealizar un "contrato" escrito de no suicidio. Incluir teléfono de conta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Tomar una actitud de escuchar más que resolver, contener emociones intensas pero a la vez, ser firme y claro en las indicacio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empre contactar a la familia, solicitar su colaboración y evaluar la situación famili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l adolescente concurre solo, se le debe explicar que es muy importante que su familia tenga conocimiento del intento, para lo cual es imperativo contactar a algún familiar o adulto, que se responsabilice del jove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r el interés real y la capacidad de compromiso familiar, pues cuando existe desinterés en la familia nuclear, deberá buscarse recursos en la familia extendida o la red social más ampli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dolescente no se puede ir del servicio de salud si no hay un adulto que se haga responsable hasta el próximo control del pac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gar indicaciones específicas a la familia  para eliminar o poner a resguardo todas las armas de fuego, sogas o cuerdas, elementos corto-punzantes, medicamentos, insecticidas u otros tóxicos o cáust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ecer un sistema de vigilancia de tal manera que el adolescente no permanezca solo en el hogar o fuera de él y asegurarse que la indicación se cumpla hasta al menos el próximo control por especialis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245412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aso de que exista un elevado nivel de ansiedad, se puede recurrir a tratamiento farmacológico paliativo, indicando ansiolíticos, por un período no mayor a una o dos seman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ilizar al adulto que acompaña al joven de recibir y administrar el medicamento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indicar fármacos antidepresivos previo a la evaluación por especialist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lmente el adolescente se debe ir con su hora establecida en el Servicio de Salud Mental, de no ser así citarlo a control en forma frecuente hasta que sea atendido por el especialist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ganizar un sistema de seguimien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BAJA ADHERENCIA AL TRATAMIENT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3007800"/>
            <a:ext cx="761976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ul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Minimización del int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usencia de cuidador respons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ntecedente de enfermedad psiquiátrica prev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buso sexual y fís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RITERIOS DE HOSPITALIZACIÓ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énero masculi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función familiar severa o no se cuenta con adulto responsab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ermedad psiquiátrica gr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sistente ideación suicida después del int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lta de arrepentimiento después del int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nto de suicidio grav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actor precipitante persiste en forma intens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specha de que oculta información durante la entrevista para evitar ayud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viol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DIAGNOS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nimo: ánimo depresivo o irritable y/o pérdida de interés y plac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peti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es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Sueñ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Concentra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Nivel de energí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utoesti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Marcador de fecha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Marcador de pie de página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1687680" y="333360"/>
            <a:ext cx="5405400" cy="633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AGIO SUICID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904760" y="29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ª a 2ª se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viduos suscepti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egio - Medios de comunic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AGIO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presentar el suicidio como un acto inexplicable de una persona salud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unicar que el suicidio es evi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es necesario que la gente sea informada de todos los suicid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ar atento a no glorificar la mue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3140640" y="1676520"/>
            <a:ext cx="48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 Foundation for the Prevention of Suic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AGIO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itarexcesivayprominentecobertu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cabezadosdeben ser cla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pciónlimitada de los detalles del métodoparaevitarconductasmodel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3085200" y="1714680"/>
            <a:ext cx="48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 Foundation for the Prevention of Suic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CONTAGIO SUICI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xplicar el evento de modo simplista. El evento final que ha precipitado el acto no es la única caus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ntregar la noticia de modo repetitivo, continuo o excesivo. Pues se tendería a promover la retención del suicidio, especialmente entre las personas con riesg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tratar el suicidio de modo sensacionalista. Tratar de evitar detalles morbosos y fotos dramátic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presentar el suicidio como instrumento para lograr determinados fi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concentrarse exclusivamente sobre las características positivas del suicida. Junto con las alabanzas es importante reconocer también los problemas del individu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CONTAGIO SUICI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Imagen 1" descr="gracias.jpg"/>
          <p:cNvPicPr/>
          <p:nvPr/>
        </p:nvPicPr>
        <p:blipFill>
          <a:blip r:embed="rId1"/>
          <a:stretch/>
        </p:blipFill>
        <p:spPr>
          <a:xfrm>
            <a:off x="2666880" y="819000"/>
            <a:ext cx="3810240" cy="522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DIAGNOS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2819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ambio en el funcionamiento prev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terioro en las relaciones familiares y/o sociales o en el rendimiento de las activi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228600" y="35053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nstantia"/>
              </a:rPr>
              <a:t>Los síntomas no deben ser atribuibles a abuso de sustancias, uso de medicamentos, otras enfermedades psiquiátricas, duelo, o enfermedades médica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22:39:19Z</dcterms:created>
  <dc:creator>Marcela Larraguibel</dc:creator>
  <dc:description/>
  <dc:language>en-US</dc:language>
  <cp:lastModifiedBy>Marcela</cp:lastModifiedBy>
  <dcterms:modified xsi:type="dcterms:W3CDTF">2009-09-02T19:46:46Z</dcterms:modified>
  <cp:revision>35</cp:revision>
  <dc:subject/>
  <dc:title>Trastornos del Ánimo y Conducta Suicida</dc:title>
</cp:coreProperties>
</file>