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95A30-6F1B-44D2-9E95-CD944E34F4F9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ED33E-110F-4213-BCEF-F75BACE28772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606B3-E4B7-4301-8643-B23052082AD9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8765B-2DF0-4261-8C80-4EDBD9DD8A2D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4C451-A39E-4EC3-87A5-A6B08FE8E532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CDD8D-5245-4C07-B6C6-C4D5E63815C6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5EF15-01F3-4506-BB24-6C2748ECB2FD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74CF8-40A0-4C96-9B1F-E20D249D4F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61888-F8A4-449D-A91D-3BDA85E31B9B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81031-27B8-4866-B2D8-75F8E821CBCC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EE776-3F5D-4C3E-BA5D-DE169CC275B6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96F6F-521E-41CB-AD60-ACA440F3AB7A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9C69C-2EF0-4572-93DB-C512C4EDBFDB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B489A-E23D-4AFB-A675-39B63D60A57D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7387B-CBDE-4E8A-A5D3-A87374120D9C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87F0D-C229-4018-B299-6A4ED57E11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07F61-EC8F-4E52-8D33-C0AAC9D94F4A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CF9D3-23C2-477E-B2FA-39367A2535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78019-CCEE-4AC2-A96A-F7D7C2BB3E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14243-4AAD-4AF0-9202-CA69650859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DE571-6820-401A-95C4-E57624F601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848AA-6D7F-4F25-996D-74839B67892B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2AA28-FCFD-4CC0-B446-4CE4E3663F19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950D4-FAE4-41B6-9FAC-A9A38A3F2F64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543F2-BE14-4B71-A414-D6212C6CC946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6DB7E-C1EF-4087-B1C0-0148C6396A63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115C0-C002-4642-814C-C86950CB81C6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DEE61-E7EE-427C-805E-0D0387BB002C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7CD23-71AE-44DC-A3DA-314EADD3C6CA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46682-0E4E-4659-A383-66D0E69C66D7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28E50-3DED-4C1C-9EE1-B22A13A38E6F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DD39B-FE2A-493E-AEB7-4C60C80CD194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8F6A-60B3-474E-A4EF-CC68903BB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7011-A69F-4543-B393-F74450C78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09F3-9117-447C-9696-C8BEFB7FA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206C-F2A7-4AED-82FB-84C631844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4B99-04AE-41A5-818E-2F7F29123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4F4A-76F6-4D89-B077-9C1F24A3F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BC60-50F2-4DFB-BE48-945F21FFA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9850-E7CE-4D1D-ACEB-296BE1D9A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F45B-4CD6-4401-9BFC-31ED6D956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08E8-9E20-45EB-B64D-F55955BD0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0B62-121F-420F-B264-3F2E7FF1E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C63C-0F7F-4F5D-A96E-84924ACD3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14AA0-33FC-4AFA-8382-187D67D1B631}" type="slidenum">
              <a:rPr b="0" lang="es-E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1699920"/>
            <a:ext cx="8286840" cy="208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400" spc="-1" strike="noStrike">
                <a:solidFill>
                  <a:srgbClr val="000000"/>
                </a:solidFill>
                <a:latin typeface="Times New Roman"/>
              </a:rPr>
              <a:t>Maltrato Infantil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059280" y="5444640"/>
            <a:ext cx="6084720" cy="14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ra. Marcela Matamala Basti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Psiquiatra Infantil y de la adolescenc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Clínica Psiquiátrica Universita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4" descr="fotoansiedada2"/>
          <p:cNvPicPr/>
          <p:nvPr/>
        </p:nvPicPr>
        <p:blipFill>
          <a:blip r:embed="rId1"/>
          <a:stretch/>
        </p:blipFill>
        <p:spPr>
          <a:xfrm>
            <a:off x="428760" y="3857760"/>
            <a:ext cx="2928960" cy="257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imes New Roman"/>
              </a:rPr>
              <a:t>Factores de riesg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357120" y="1071360"/>
            <a:ext cx="4386240" cy="46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mil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16680" indent="-2372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Monoparenta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16680" indent="-2372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Con padrastro o madrastr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16680" indent="-2372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Cuidador principal con inestabilidad de parej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16680" indent="-2372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Crisis normativas y no normativ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16680" indent="-2372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Violencia conyugal, parentalización, chivoemisarismo o triangulación de los hij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16680" indent="-2372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Aislamiento soci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16680" indent="-2372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Alto número de hijos preescolar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Times New Roman"/>
              </a:rPr>
              <a:t>Del entorn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16680" indent="-2372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Aceptación cultural e la violenc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16680" indent="-2372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Ausencia o insuficiencia de redes comunitarias de apoy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16680" indent="-2372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Ausencia o insuficiencia de instituciones de control al maltrat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16680" indent="-2372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Condiciones de vida difíci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16680" indent="-2372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4" descr="16a"/>
          <p:cNvPicPr/>
          <p:nvPr/>
        </p:nvPicPr>
        <p:blipFill>
          <a:blip r:embed="rId1"/>
          <a:stretch/>
        </p:blipFill>
        <p:spPr>
          <a:xfrm>
            <a:off x="5500800" y="2000160"/>
            <a:ext cx="3000240" cy="364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imes New Roman"/>
              </a:rPr>
              <a:t>Detección del Maltrato Físic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540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Referencia directa del niñ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Relato de los padres inconsistente contradictorio, heteroculpabilizado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Lesiones múltiples descontextualizada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ipos de lesiones variadas en distinto grado de evolución y en diferentes zonas del cuerp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Quemaduras, mordeduras, fracturas, niño sacudido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Niño pasivo, sumiso o inquieto y agresiv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ayor tolerancia al dolo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4" descr="46"/>
          <p:cNvPicPr/>
          <p:nvPr/>
        </p:nvPicPr>
        <p:blipFill>
          <a:blip r:embed="rId1"/>
          <a:stretch/>
        </p:blipFill>
        <p:spPr>
          <a:xfrm>
            <a:off x="6357960" y="2500200"/>
            <a:ext cx="2571840" cy="385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00"/>
                </a:solidFill>
                <a:latin typeface="Times New Roman"/>
              </a:rPr>
              <a:t>Signos de abandono físic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642960" y="1356840"/>
            <a:ext cx="464328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-250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Descuido en alimentación, higiene y vestiment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50200" indent="-250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Cicatrices de accidentes casero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50200" indent="-250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Falta de atención cuando enferman, ausencia de C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50200" indent="-250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Sin vacuna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50200" indent="-250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Queda sólo en cas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50200" indent="-250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Bajo pes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50200" indent="-250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Condiciones de peligro o fuego en el hog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50200" indent="-250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Lugares para dormir sucios y frí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6" descr="http://www.gobiernodecanarias.org/bienestarsocial/eventos/Images/Fondos/2FA5BC75-55A8-4f5e-B8A5-5A7DC6395AEE.jpg"/>
          <p:cNvPicPr/>
          <p:nvPr/>
        </p:nvPicPr>
        <p:blipFill>
          <a:blip r:embed="rId1"/>
          <a:stretch/>
        </p:blipFill>
        <p:spPr>
          <a:xfrm>
            <a:off x="4929120" y="4143240"/>
            <a:ext cx="3976920" cy="24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00"/>
                </a:solidFill>
                <a:latin typeface="Times New Roman"/>
              </a:rPr>
              <a:t>Signos de maltrato emocion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3571560" y="1643040"/>
            <a:ext cx="500220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Niño aislado, apático, depresiv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Sumiso o muy rebeld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Comentarios: “soy tonto” o “soy malo”, profecía autocumplid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adres exigen por sobre las capacidades del niñ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Utilizado para satisfacer las necesidades del ego de los padr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Niño utilizado como “campo de batalla” de los pad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6" descr="http://1.bp.blogspot.com/_GRs-k7mXYa8/SUpeozyNz2I/AAAAAAAAEN4/fawUd1Fy4gg/s320/Maltrato_infantil.jpg"/>
          <p:cNvPicPr/>
          <p:nvPr/>
        </p:nvPicPr>
        <p:blipFill>
          <a:blip r:embed="rId1"/>
          <a:stretch/>
        </p:blipFill>
        <p:spPr>
          <a:xfrm>
            <a:off x="571680" y="2500200"/>
            <a:ext cx="2514600" cy="30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0000"/>
                </a:solidFill>
                <a:latin typeface="Times New Roman"/>
              </a:rPr>
              <a:t>Signos de deprivación emociona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428720" y="1500120"/>
            <a:ext cx="471492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Rechazo a com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Bajo desarrollo pondoestatura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Busca llamar la atención de otros adulto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Miedos exagerado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Retraso desarrollo psicomo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8" descr="http://padre-familia.com/wp-content/uploads/2008/12/maltratosepia.jpg"/>
          <p:cNvPicPr/>
          <p:nvPr/>
        </p:nvPicPr>
        <p:blipFill>
          <a:blip r:embed="rId1"/>
          <a:stretch/>
        </p:blipFill>
        <p:spPr>
          <a:xfrm>
            <a:off x="500040" y="2143080"/>
            <a:ext cx="3429000" cy="357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ir la participación activa del niño en situaciones de violencia cotidiana, sin preocuparse de su protección ni del efecto que la violencia pueda ejercer en él.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través del modelaje y exposición a la violencia de padres, hermanos o par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menta la tolerancia a la agresión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aprenden a utilizarl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ede dejar secuelas emocionales, al igual que otros tipos de maltrat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4" descr="violencia"/>
          <p:cNvPicPr/>
          <p:nvPr/>
        </p:nvPicPr>
        <p:blipFill>
          <a:blip r:embed="rId1"/>
          <a:stretch/>
        </p:blipFill>
        <p:spPr>
          <a:xfrm>
            <a:off x="5791320" y="3214800"/>
            <a:ext cx="2995560" cy="32972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gos de violenc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168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00"/>
                </a:solidFill>
                <a:latin typeface="Times New Roman"/>
              </a:rPr>
              <a:t>Efectos del maltrato infanti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356840"/>
            <a:ext cx="511488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Problemas psicológicos y psiquiátricos asociados a maltrato físico y negligencia son muy variado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Aumento en la utilización de servicios de salud mental por parte de los niños maltratado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Depende de las características individuales, el contexto social y familiar y el tipo de maltrato recibid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4" descr="http://bligoo.com/media/users/1/80425/images/maltrato%20fisico%20y%20emocional.jpg"/>
          <p:cNvPicPr/>
          <p:nvPr/>
        </p:nvPicPr>
        <p:blipFill>
          <a:blip r:embed="rId1"/>
          <a:stretch/>
        </p:blipFill>
        <p:spPr>
          <a:xfrm>
            <a:off x="5786280" y="1928880"/>
            <a:ext cx="3000600" cy="424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00"/>
                </a:solidFill>
                <a:latin typeface="Times New Roman"/>
              </a:rPr>
              <a:t>Efectos del maltrato infanti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28760" y="1213920"/>
            <a:ext cx="4038480" cy="5643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er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catrices o deformidades físic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aso y alteración del lengua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icultades de aprendiza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ción motora pob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ja autoestima o insegurid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idez o problemas de conduc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caso en el crecimient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648320" y="1285920"/>
            <a:ext cx="4038480" cy="5572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nto de suicid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presió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cciones paranoid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órdenes de ansied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icultades en el control de impuls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éficit en conductas de autocuidad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uso de sustancias en adolescen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ucta agresiva o antisoci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ción del maltrato infanti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6840" y="1600200"/>
            <a:ext cx="52578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algunos casos inmediata , según tipo de lesion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lmente compleja y difíci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bilidad suficiente para no dejarse “seducir” por las justificaciones y minimizaciones de los agresores de su conduc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tura ética que no acepte o valide este tipo de conduct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unión por separado de padres y niñ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en físico en búsqueda de lesiones no visib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mordial protección del niño y en segundo lugar la identificación del agreso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2" descr="http://www.perspectivaciudadana.com/images/080607/bebesitomal2.jpg"/>
          <p:cNvPicPr/>
          <p:nvPr/>
        </p:nvPicPr>
        <p:blipFill>
          <a:blip r:embed="rId1"/>
          <a:stretch/>
        </p:blipFill>
        <p:spPr>
          <a:xfrm>
            <a:off x="5952960" y="1928880"/>
            <a:ext cx="3191040" cy="379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00000"/>
                </a:solidFill>
                <a:latin typeface="Times New Roman"/>
              </a:rPr>
              <a:t>Evaluación del niñ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2857320" y="1214280"/>
            <a:ext cx="5911560" cy="544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- En un niño que habl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rear un entorno que parezca seguro y le dé seguridad al niñ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veer la oportunidad, a través de mensajes verbales y no verbales , para la entrega de información  espontáne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En un niño que no habl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apaces de dramatizar sus preocupaciones a través del jueg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nductas externas o persistentes (golpear las muñecas u otro material de juego, temas de violencia o muerte en juegos o dibujo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2" descr="abuso__"/>
          <p:cNvPicPr/>
          <p:nvPr/>
        </p:nvPicPr>
        <p:blipFill>
          <a:blip r:embed="rId1"/>
          <a:stretch/>
        </p:blipFill>
        <p:spPr>
          <a:xfrm>
            <a:off x="0" y="4143240"/>
            <a:ext cx="3041640" cy="250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071800" y="356760"/>
            <a:ext cx="4402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imes New Roman"/>
              </a:rPr>
              <a:t>Maltrato infanti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42960" y="1500120"/>
            <a:ext cx="5315040" cy="47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700" spc="-1" strike="noStrike">
                <a:solidFill>
                  <a:srgbClr val="000000"/>
                </a:solidFill>
                <a:latin typeface="Times New Roman"/>
              </a:rPr>
              <a:t>Cualquier acción u omisión, no accidental, que tenga un alto potencial de causar daño al niño, sea en su integridad corporal, desarrollo físico, afectivo, psicológico, intelectual y/o mora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700" spc="-1" strike="noStrike">
                <a:solidFill>
                  <a:srgbClr val="000000"/>
                </a:solidFill>
                <a:latin typeface="Times New Roman"/>
              </a:rPr>
              <a:t>De parte de los  padres o cuidadores, no respetándose los derechos del niño, ni el bienestar del sistema familiar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poverty"/>
          <p:cNvPicPr/>
          <p:nvPr/>
        </p:nvPicPr>
        <p:blipFill>
          <a:blip r:embed="rId1"/>
          <a:stretch/>
        </p:blipFill>
        <p:spPr>
          <a:xfrm>
            <a:off x="6143760" y="1785960"/>
            <a:ext cx="2857320" cy="378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00"/>
                </a:solidFill>
                <a:latin typeface="Times New Roman"/>
              </a:rPr>
              <a:t>Diagnóstico de maltrato infanti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684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Analizar los factores que pueden estar provocando la aparición y mantención del maltrato infanti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Determinar el riesgo para el niño y otros miembros de la famil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Determinar la necesidad de separar al agreso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Determinar el pronóstico e intervenciones necesaria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8" descr="http://www.lacoctelera.com/myfiles/derechos/violencia.JPG"/>
          <p:cNvPicPr/>
          <p:nvPr/>
        </p:nvPicPr>
        <p:blipFill>
          <a:blip r:embed="rId1"/>
          <a:stretch/>
        </p:blipFill>
        <p:spPr>
          <a:xfrm>
            <a:off x="5715000" y="3571920"/>
            <a:ext cx="3214800" cy="308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entes de informació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6840" y="1600200"/>
            <a:ext cx="6257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embros individuales de la familia, subsistemas familiares, familia nucle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fesionales: escuela, policía, servicios judiciales</a:t>
            </a:r>
            <a:r>
              <a:rPr b="1" lang="es-C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tención primaria de salud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ervicios de salud ment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profesionales: vecinos, conocidos de la familia, otro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2" descr="http://usuarios.lycos.es/mobbingacosomoral/img/maltrato-infantil.jpg"/>
          <p:cNvPicPr/>
          <p:nvPr/>
        </p:nvPicPr>
        <p:blipFill>
          <a:blip r:embed="rId1"/>
          <a:stretch/>
        </p:blipFill>
        <p:spPr>
          <a:xfrm>
            <a:off x="6357960" y="4000680"/>
            <a:ext cx="2643120" cy="234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estigación puede comprend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SPITALIZAR AL NIÑ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isión de ficha médic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izar examen físico completo incluyendo la zona genital (y el cuero cabelludo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icitar evaluación psicológica del niño, por profesionales entrenado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sita domiciliari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estigar si el niño tiene figura protectora y cuál es su compromiso con el niñ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00"/>
                </a:solidFill>
                <a:latin typeface="Times New Roman"/>
              </a:rPr>
              <a:t>Tratamiento - Objetiv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6" descr="http://img.bebesymas.com/2008/06/unicefpeque.jpg"/>
          <p:cNvPicPr/>
          <p:nvPr/>
        </p:nvPicPr>
        <p:blipFill>
          <a:blip r:embed="rId1"/>
          <a:stretch/>
        </p:blipFill>
        <p:spPr>
          <a:xfrm>
            <a:off x="6762600" y="3686040"/>
            <a:ext cx="2381400" cy="31719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 txBox="1"/>
          <p:nvPr/>
        </p:nvSpPr>
        <p:spPr>
          <a:xfrm>
            <a:off x="285480" y="1571760"/>
            <a:ext cx="628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69080" indent="-469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Restablecer seguridad física y emociona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69080" indent="-469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Facilitar proceso de internalización de relaciones íntimas no violentas y de respet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69080" indent="-469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Times New Roman"/>
              </a:rPr>
              <a:t>Protección de futuros maltrato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69080" indent="-469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Fortalecer a la familia en su capacidad de crianza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69080" indent="-469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- mejorar capacidad de enfrentar etapas del ciclo vit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69080" indent="-469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- mejorar calidad de relacio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69080" indent="-469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- disminuir factores ambienta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69080" indent="-469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- reforzar sistemas de apoyo soci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69080" indent="-469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- tratar patología asociad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69080" indent="-469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168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Qué hacer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s-C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caso de maltrato NO GRAVE, en que de buena fe creamos que es disciplina inapropiada en personas con buenas intencio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AutoShape 4"/>
          <p:cNvSpPr/>
          <p:nvPr/>
        </p:nvSpPr>
        <p:spPr>
          <a:xfrm>
            <a:off x="3995640" y="3429000"/>
            <a:ext cx="703440" cy="1839960"/>
          </a:xfrm>
          <a:prstGeom prst="downArrow">
            <a:avLst>
              <a:gd name="adj1" fmla="val 50000"/>
              <a:gd name="adj2" fmla="val 65392"/>
            </a:avLst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2288880" y="5300640"/>
            <a:ext cx="440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SICOEDUC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SICOTERAP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CASOS DE MALTRATO GRAV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firmado o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s-C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specha fundad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specha vag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AutoShape 4"/>
          <p:cNvSpPr/>
          <p:nvPr/>
        </p:nvSpPr>
        <p:spPr>
          <a:xfrm>
            <a:off x="6156360" y="1916280"/>
            <a:ext cx="2232000" cy="863280"/>
          </a:xfrm>
          <a:prstGeom prst="wedgeRoundRectCallout">
            <a:avLst>
              <a:gd name="adj1" fmla="val -165861"/>
              <a:gd name="adj2" fmla="val 106064"/>
              <a:gd name="adj3" fmla="val 16667"/>
            </a:avLst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Denunciar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5"/>
          <p:cNvSpPr/>
          <p:nvPr/>
        </p:nvSpPr>
        <p:spPr>
          <a:xfrm>
            <a:off x="6372360" y="5229360"/>
            <a:ext cx="2305080" cy="718920"/>
          </a:xfrm>
          <a:prstGeom prst="wedgeRoundRectCallout">
            <a:avLst>
              <a:gd name="adj1" fmla="val -167356"/>
              <a:gd name="adj2" fmla="val -107175"/>
              <a:gd name="adj3" fmla="val 16667"/>
            </a:avLst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Investig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6"/>
          <p:cNvSpPr/>
          <p:nvPr/>
        </p:nvSpPr>
        <p:spPr>
          <a:xfrm>
            <a:off x="42876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ultar con equipo de trabaj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egurar protección al niño: hospitaliz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nunciar a fiscalí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cer informe cla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ma de informe con conocimiento y autorización de autoridad correspondi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3 Rectángulo"/>
          <p:cNvSpPr/>
          <p:nvPr/>
        </p:nvSpPr>
        <p:spPr>
          <a:xfrm>
            <a:off x="1000080" y="285840"/>
            <a:ext cx="6357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o confirmado o de sospecha funda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5"/>
          <p:cNvSpPr/>
          <p:nvPr/>
        </p:nvSpPr>
        <p:spPr>
          <a:xfrm>
            <a:off x="32400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CUTIR CON EQUIPO DE TRABAJO ¡Nunca actuar solo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o alertar a la familia antes de tiempo</a:t>
            </a:r>
            <a:r>
              <a:rPr b="1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urrir a Asistente So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izar evaluación al niño por profesionales entren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sospecha persiste: denunciar entregando todos los antecedentes a fiscal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sospecha es muy vaga: mantener al niño en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3 Rectángulo"/>
          <p:cNvSpPr/>
          <p:nvPr/>
        </p:nvSpPr>
        <p:spPr>
          <a:xfrm>
            <a:off x="2801160" y="500040"/>
            <a:ext cx="365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specha vag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Times New Roman"/>
              </a:rPr>
              <a:t>Se denuncia a Carabineros de Chile e Investigacione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Times New Roman"/>
              </a:rPr>
              <a:t>Se llama a unidades especializadas: 48° Comisaría, Brigada de Delitos Sexual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Times New Roman"/>
              </a:rPr>
              <a:t>Se concurre directamente a Juzgado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Times New Roman"/>
              </a:rPr>
              <a:t>El médico tiene el deber de realizar un informe comprensible para el tribuna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Times New Roman"/>
              </a:rPr>
              <a:t>Con la reforma procesal penal existe el deber de denuncia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7667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¿</a:t>
            </a:r>
            <a:r>
              <a:rPr b="1" lang="es-CL" sz="4400" spc="-1" strike="noStrike">
                <a:solidFill>
                  <a:srgbClr val="000000"/>
                </a:solidFill>
                <a:latin typeface="Times New Roman"/>
              </a:rPr>
              <a:t>Cómo se denuncia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00"/>
                </a:solidFill>
                <a:latin typeface="Times New Roman"/>
              </a:rPr>
              <a:t>Pronóstic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213920"/>
            <a:ext cx="82296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Tanto para la víctima como para el agresor depende d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7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s-MX" sz="17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s-MX" sz="1900" spc="-1" strike="noStrike">
                <a:solidFill>
                  <a:srgbClr val="000000"/>
                </a:solidFill>
                <a:latin typeface="Times New Roman"/>
              </a:rPr>
              <a:t>La cronicida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s-MX" sz="1900" spc="-1" strike="noStrike">
                <a:solidFill>
                  <a:srgbClr val="000000"/>
                </a:solidFill>
                <a:latin typeface="Times New Roman"/>
              </a:rPr>
              <a:t>- Graveda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s-MX" sz="1900" spc="-1" strike="noStrike">
                <a:solidFill>
                  <a:srgbClr val="000000"/>
                </a:solidFill>
                <a:latin typeface="Times New Roman"/>
              </a:rPr>
              <a:t>- Intensidad del maltrato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A mayor cronicidad e intensidad peor pronóstico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La aceptación del problema por parte del maltratador y su motivación al cambio favorece su pronóstico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Para el niño depende d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- La acogida y comprensión del entorn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- De la seguridad que se le brind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- De la posibilidad de experiencias correctiva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- De rehabilitación de secuelas físicas y neuropsicológica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42960" y="1856880"/>
            <a:ext cx="4672080" cy="451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 u="sng">
                <a:solidFill>
                  <a:srgbClr val="000000"/>
                </a:solidFill>
                <a:uFillTx/>
                <a:latin typeface="Times New Roman"/>
              </a:rPr>
              <a:t>Activo:</a:t>
            </a: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 el daño ejercido es perpetuado a través de la acción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 u="sng">
                <a:solidFill>
                  <a:srgbClr val="000000"/>
                </a:solidFill>
                <a:uFillTx/>
                <a:latin typeface="Times New Roman"/>
              </a:rPr>
              <a:t>Pasivo:</a:t>
            </a: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 en que el daño es perpetuado a través de la omisión, negligencia y descuido hacia el menor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Incluye: maltrato físico, psicológico, negligencia, testigos de violencia y abuso sexual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1116000" y="549360"/>
            <a:ext cx="468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Maltrato infanti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7" descr="http://212.170.236.112/ANavegar9/2008an24_102/wp-content/blogs.dir/98/files/2008/03/maltrato.jpg"/>
          <p:cNvPicPr/>
          <p:nvPr/>
        </p:nvPicPr>
        <p:blipFill>
          <a:blip r:embed="rId1"/>
          <a:stretch/>
        </p:blipFill>
        <p:spPr>
          <a:xfrm>
            <a:off x="5572080" y="1928880"/>
            <a:ext cx="3333960" cy="357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venció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6840" y="1600200"/>
            <a:ext cx="4971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mover la responsabilidad parent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ibuir al desarrollo integral del niñ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minuir los estresores intra y extrafamiliare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e pueden precipitar los episodios de maltrat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pacitación continua de los agentes comunitarios y sociales que están en contacto con niñ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nsibilizar a la comunidad en torno al te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Picture 2" descr="http://2.bp.blogspot.com/_FdX9pb0kF6g/Sn7wAGoB1yI/AAAAAAAAANM/PoTdDXjpsCE/s320/ni%C3%B1os.jpg"/>
          <p:cNvPicPr/>
          <p:nvPr/>
        </p:nvPicPr>
        <p:blipFill>
          <a:blip r:embed="rId1"/>
          <a:stretch/>
        </p:blipFill>
        <p:spPr>
          <a:xfrm>
            <a:off x="5572080" y="2286000"/>
            <a:ext cx="3048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6" descr="Autism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00"/>
                </a:solidFill>
                <a:latin typeface="Times New Roman"/>
              </a:rPr>
              <a:t>Epidemiologí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99680" y="1428480"/>
            <a:ext cx="54291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an variabilidad dada  por definiciones, métodos de registro, legislaciones, diferencias cultural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EE.UU: 6 mil niños víctimas de homicidi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Inglaterra: 25/ 1000 &lt; 18 año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Incidencia mayor en los &lt; 6 años, sexo masculino y estratos SE bajo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6" descr="http://www.asociacionrana.org/web/es/images/stories/maltrato/maltrato-infantil-g.jpg"/>
          <p:cNvPicPr/>
          <p:nvPr/>
        </p:nvPicPr>
        <p:blipFill>
          <a:blip r:embed="rId1"/>
          <a:stretch/>
        </p:blipFill>
        <p:spPr>
          <a:xfrm>
            <a:off x="6572160" y="3714840"/>
            <a:ext cx="2571840" cy="314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684360" y="2133720"/>
            <a:ext cx="77724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1994: U. Chile para Unicef encuesta a muestra representativa de alumnos de 8° básic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6/10 niños son víctima de violencia física por sus pad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34% de ellos sufre de agresiones grav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Prevalencia en población general: 5% de las familias reconoce maltr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1619280" y="692280"/>
            <a:ext cx="230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0000"/>
                </a:solidFill>
                <a:latin typeface="Times New Roman"/>
              </a:rPr>
              <a:t>En Ch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gamon"/>
          <p:cNvPicPr/>
          <p:nvPr/>
        </p:nvPicPr>
        <p:blipFill>
          <a:blip r:embed="rId1"/>
          <a:stretch/>
        </p:blipFill>
        <p:spPr>
          <a:xfrm>
            <a:off x="6929280" y="0"/>
            <a:ext cx="1928880" cy="2071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0000"/>
                </a:solidFill>
                <a:latin typeface="Times New Roman"/>
              </a:rPr>
              <a:t>Epidemiología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6840" y="1213920"/>
            <a:ext cx="561492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900" spc="-1" strike="noStrike">
                <a:solidFill>
                  <a:srgbClr val="000000"/>
                </a:solidFill>
                <a:latin typeface="Times New Roman"/>
              </a:rPr>
              <a:t>Distribución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900" spc="-1" strike="noStrike">
                <a:solidFill>
                  <a:srgbClr val="000000"/>
                </a:solidFill>
                <a:latin typeface="Times New Roman"/>
              </a:rPr>
              <a:t>Negligencia física: 49,1%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900" spc="-1" strike="noStrike">
                <a:solidFill>
                  <a:srgbClr val="000000"/>
                </a:solidFill>
                <a:latin typeface="Times New Roman"/>
              </a:rPr>
              <a:t>Maltrato físico: 20.6%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900" spc="-1" strike="noStrike">
                <a:solidFill>
                  <a:srgbClr val="000000"/>
                </a:solidFill>
                <a:latin typeface="Times New Roman"/>
              </a:rPr>
              <a:t>Abandono emocional: 4.2%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900" spc="-1" strike="noStrike">
                <a:solidFill>
                  <a:srgbClr val="000000"/>
                </a:solidFill>
                <a:latin typeface="Times New Roman"/>
              </a:rPr>
              <a:t>Abuso sexual: 1.3%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Peak de incidencia de abuso físico desde los 4 a 8 año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Peak del maltrato emocional desde los 6 a 8 año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4" descr="38"/>
          <p:cNvPicPr/>
          <p:nvPr/>
        </p:nvPicPr>
        <p:blipFill>
          <a:blip r:embed="rId1"/>
          <a:stretch/>
        </p:blipFill>
        <p:spPr>
          <a:xfrm>
            <a:off x="6143760" y="3714840"/>
            <a:ext cx="2500200" cy="264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14680" y="0"/>
            <a:ext cx="59371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Maltrato infanti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214200" y="1571760"/>
            <a:ext cx="607248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Multideterminado por variables  culturales, macro y microsociales y factores individual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Factores individuales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-Factores de riesg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-Factores desencadenantes: crisis </a:t>
            </a: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normativas y no normativas que </a:t>
            </a: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aumentan la tensión familia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tangle 5"/>
          <p:cNvSpPr/>
          <p:nvPr/>
        </p:nvSpPr>
        <p:spPr>
          <a:xfrm>
            <a:off x="611280" y="2205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maltrato_infantil"/>
          <p:cNvPicPr/>
          <p:nvPr/>
        </p:nvPicPr>
        <p:blipFill>
          <a:blip r:embed="rId1"/>
          <a:stretch/>
        </p:blipFill>
        <p:spPr>
          <a:xfrm>
            <a:off x="6500880" y="4357800"/>
            <a:ext cx="2643120" cy="221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imes New Roman"/>
              </a:rPr>
              <a:t>Factores de riesgo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3571920" y="1499760"/>
            <a:ext cx="521496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Times New Roman"/>
              </a:rPr>
              <a:t>De los Pad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Padres maltratadores o institucionalizados durante su infanci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Patología  psiquiátrica, psicopatía, historia de conducta violenta o delictiva , depresión, alcoholismo, adicción, CI baj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Baja tolerancia al stress, rigidez, baja autoestim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Bajo nivel educaciona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Desconocimiento de las necesidades de estimulación afectiva y cognitiva del niñ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Ausencia de indicadores de apego entre el cuidador y el niñ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Percepción negativa del niñ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Falta de conciencia de conductas maltratadora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4" descr="maltrato"/>
          <p:cNvPicPr/>
          <p:nvPr/>
        </p:nvPicPr>
        <p:blipFill>
          <a:blip r:embed="rId1"/>
          <a:stretch/>
        </p:blipFill>
        <p:spPr>
          <a:xfrm>
            <a:off x="642960" y="1785960"/>
            <a:ext cx="2681280" cy="385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imes New Roman"/>
              </a:rPr>
              <a:t>Factores de riesgo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785760" y="1214280"/>
            <a:ext cx="535788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l embaraz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Embarazo no deseado, antecedentes de intento de aborto, falta de cuidado e inasistencia a los control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Embarazo de alto riesg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Depresión post part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l niñ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RN con malformaciones o prematurez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Alteración del vínculo tempran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Hospitalización prolongad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Largo número de horas de separación post part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Discapacidad física o psíquica, enfermedad crónic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Conducta difíci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No escolarizado o con bajo rendimiento escola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4" descr="61"/>
          <p:cNvPicPr/>
          <p:nvPr/>
        </p:nvPicPr>
        <p:blipFill>
          <a:blip r:embed="rId1"/>
          <a:stretch/>
        </p:blipFill>
        <p:spPr>
          <a:xfrm>
            <a:off x="285840" y="1928880"/>
            <a:ext cx="3000240" cy="3571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9T00:02:10Z</dcterms:created>
  <dc:creator>MARCELA</dc:creator>
  <dc:description/>
  <dc:language>en-US</dc:language>
  <cp:lastModifiedBy>MARCELA</cp:lastModifiedBy>
  <dcterms:modified xsi:type="dcterms:W3CDTF">2009-08-23T00:32:30Z</dcterms:modified>
  <cp:revision>133</cp:revision>
  <dc:subject/>
  <dc:title>Maltrato Infantil y Negligencia</dc:title>
</cp:coreProperties>
</file>