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18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1CE1-5430-4B9B-A11D-0A26F187B11D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B0E6-7964-4446-8EFE-D4C136922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C499-EEA3-498F-B7A9-9B6ACA646A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AC67-54EA-4586-B88E-7F7A84E8F0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1E8F-6DFD-4DD7-865B-D8A8B79D75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4718-DA09-45D3-8B2A-1A2B310A16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7E91-AA3C-43C2-B91B-7E8444ECCB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1E53-7003-4BD7-9145-D8C98EB287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D37A-E173-4EAF-9B06-7FD5E9ABB8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F31F-66F9-4D09-9419-B983EF83C3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217E-829B-4801-9A44-7D034B977F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F015-9331-4E55-A59E-98D9CD2B65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1C2B-E52C-4BDB-B255-6BF23A903B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D163-0ACC-49F7-9F09-666812E0DE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1197-129D-4A04-B200-A5E0EE541D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223E-A12C-4CBD-95C9-5E5B71E4B9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B59B-6240-4673-97DA-72BD5C8F50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EE9B-1E5A-403F-AB81-B0E7FE594E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CDFE-1450-4B8F-9A8F-54E7E09C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C8AF-131B-4F1F-B6FE-799AB5C5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DD8E-DDC8-467F-B2B8-077E41FF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7458-C3F2-4180-866E-F254C73E8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B8C3-8D94-4E7B-8CB0-E273977BD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69EA-03E4-4859-BE8F-85AE804F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A86F-9A62-46D2-BC19-963D05B0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A640-ED6C-49A3-A839-C8B3EA97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96B3-D1CA-49BD-B4F5-0C61C350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6B85-2922-451A-B8FA-3CA85587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BCF1-9FAE-4FA6-8DF5-DB7E18C1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6F52-1904-477A-BBD7-A9DA4D60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0729-7E20-47A6-AB88-B1739149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8C38-55B1-4135-90A4-E2E27EC5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0F77-B033-44ED-B9CC-95ED5936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6A4B-7058-4868-8E8B-F48BA3D6C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3A38-B5E5-4205-AE39-A36D309F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EF225-6635-4001-AA3F-03E4F0C2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664BF-ED2D-4E70-B3C9-840A753F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6AC72-A3B2-4867-B718-0A75D7F7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EAEC9-6A4E-4E40-8BAB-AD073AC9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BBAB7-3865-4276-B72D-7BA226C1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BB14-C852-4B1B-BF0B-66F53E87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DAD26-4428-4AA8-9D0A-2E0FB0DA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41819-229B-4B67-87F7-B56F152F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B27EA-C3CC-45BD-B726-9912641B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D5CBA-9CF6-4EDC-BEDF-BABA3871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96DAD-08E0-4CB7-85A7-6E2C1D97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07C22-0FB8-4974-9C11-F5E09717B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5B1F3-EEFF-4A0C-9150-F1AFC4D8E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F17A9-AC99-4B50-82B3-D04E052B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E625D-E959-4FFE-AF82-09E6C6DC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A0B63-11C2-4F18-AD88-19F5522C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9445-5FCE-410B-8F99-37A57CBF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C5D4B-7370-4254-B4C9-034EC489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FE0DF-D7CF-4714-A49C-4676D56D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55209-F5E2-4588-AD43-8A9C93B6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B0AED-E76E-4483-B63F-8BD03902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A5BF3-31FA-4B23-B1E8-241D12FA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9F7A1-B1AE-407D-B6C8-FD64B1FF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A8EA5-70AC-441A-A13B-38886F63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F6A50-5A5A-4C4A-B166-EF0215B9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B0029-131C-42DC-ADE1-C1DA50F90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D650-E377-44E1-B7CF-B860B0B3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9860-9806-4462-A2E9-B947A6DC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AE9A-81C7-4FD6-AE52-5F74AB3A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FDBB-56F8-402E-8B3D-E6287736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1795-348E-494C-817A-BED8B91C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42424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F2C0-B0C4-472A-812C-1DBD4AE1B518}" type="slidenum">
              <a:rPr b="0" lang="es-MX" sz="1200" spc="-1" strike="noStrike">
                <a:solidFill>
                  <a:srgbClr val="42424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4eae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E043-44D7-49EC-AEB8-98051EC02483}" type="slidenum">
              <a:rPr b="0" lang="es-MX" sz="1200" spc="-1" strike="noStrike">
                <a:solidFill>
                  <a:srgbClr val="d4eae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4eae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F76B-D9E1-4BC4-8E45-EB505754B68F}" type="slidenum">
              <a:rPr b="0" lang="es-MX" sz="1200" spc="-1" strike="noStrike">
                <a:solidFill>
                  <a:srgbClr val="d4eae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42424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8867-DF2B-4792-B5CC-D9DDBACBB715}" type="slidenum">
              <a:rPr b="0" lang="es-MX" sz="1200" spc="-1" strike="noStrike">
                <a:solidFill>
                  <a:srgbClr val="42424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523800"/>
            <a:ext cx="7924680" cy="2011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60040" y="5286240"/>
            <a:ext cx="78548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nstantia"/>
              </a:rPr>
              <a:t>Dra. Marcela Abufhel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nstantia"/>
              </a:rPr>
              <a:t>Curso Psiquitaría Infantil y de la Adolescenci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nstantia"/>
              </a:rPr>
              <a:t>V año Medicina 2009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5" descr="http://bp3.blogger.com/_JP5FKTWpbQY/SI0uKsCqtiI/AAAAAAAAAbg/aiArrKys-fs/s400/Nueva+imagen+(1).png"/>
          <p:cNvPicPr/>
          <p:nvPr/>
        </p:nvPicPr>
        <p:blipFill>
          <a:blip r:embed="rId2"/>
          <a:stretch/>
        </p:blipFill>
        <p:spPr>
          <a:xfrm>
            <a:off x="1571760" y="2714760"/>
            <a:ext cx="335736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s-MX" sz="4500" spc="-1" strike="noStrike">
                <a:solidFill>
                  <a:srgbClr val="464646"/>
                </a:solidFill>
                <a:latin typeface="Calibri"/>
              </a:rPr>
              <a:t>   “</a:t>
            </a:r>
            <a:r>
              <a:rPr b="0" lang="es-MX" sz="4500" spc="-1" strike="noStrike">
                <a:solidFill>
                  <a:srgbClr val="464646"/>
                </a:solidFill>
                <a:latin typeface="Calibri"/>
              </a:rPr>
              <a:t>Participación”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430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Victi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iños desprotegidos son los m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s vulnerab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r mied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r seducción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r no comprender que es anorm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r no tener quien la proteja…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víctima particip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ero… NO es respons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raicionfinal3.wmv" descr=""/>
          <p:cNvPicPr/>
          <p:nvPr/>
        </p:nvPicPr>
        <p:blipFill>
          <a:blip r:embed="rId1"/>
          <a:stretch/>
        </p:blipFill>
        <p:spPr>
          <a:xfrm>
            <a:off x="208080" y="101520"/>
            <a:ext cx="8721720" cy="654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1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4"/>
          <p:cNvSpPr/>
          <p:nvPr/>
        </p:nvSpPr>
        <p:spPr>
          <a:xfrm>
            <a:off x="468360" y="1628640"/>
            <a:ext cx="4619520" cy="47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1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Por lo tanto…..victim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1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No consult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1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Hay que detectarl0 y detener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1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Para detenerla se requiere recurrir al control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domesticviolence"/>
          <p:cNvPicPr/>
          <p:nvPr/>
        </p:nvPicPr>
        <p:blipFill>
          <a:blip r:embed="rId1"/>
          <a:stretch/>
        </p:blipFill>
        <p:spPr>
          <a:xfrm>
            <a:off x="5286240" y="1071720"/>
            <a:ext cx="3337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Isosceles Triangle 4"/>
          <p:cNvSpPr/>
          <p:nvPr/>
        </p:nvSpPr>
        <p:spPr>
          <a:xfrm>
            <a:off x="2286000" y="1428840"/>
            <a:ext cx="3357720" cy="3714840"/>
          </a:xfrm>
          <a:prstGeom prst="triangle">
            <a:avLst>
              <a:gd name="adj" fmla="val 50000"/>
            </a:avLst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2357280" y="928800"/>
            <a:ext cx="32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AGRES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7"/>
          <p:cNvSpPr/>
          <p:nvPr/>
        </p:nvSpPr>
        <p:spPr>
          <a:xfrm>
            <a:off x="500040" y="514368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VICTIMA</a:t>
            </a: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8"/>
          <p:cNvSpPr/>
          <p:nvPr/>
        </p:nvSpPr>
        <p:spPr>
          <a:xfrm>
            <a:off x="5786280" y="5143680"/>
            <a:ext cx="328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TESTIGOS SILENCIO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TERCEROS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9"/>
          <p:cNvSpPr/>
          <p:nvPr/>
        </p:nvSpPr>
        <p:spPr>
          <a:xfrm>
            <a:off x="3214800" y="3500280"/>
            <a:ext cx="150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inámica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ab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14">
            <a:hlinkClick r:id="rId1" action="ppaction://hlinksldjump"/>
          </p:cNvPr>
          <p:cNvSpPr/>
          <p:nvPr/>
        </p:nvSpPr>
        <p:spPr>
          <a:xfrm>
            <a:off x="7143840" y="5857920"/>
            <a:ext cx="571320" cy="357120"/>
          </a:xfrm>
          <a:prstGeom prst="roundRect">
            <a:avLst>
              <a:gd name="adj" fmla="val 16667"/>
            </a:avLst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464646"/>
                </a:solidFill>
                <a:latin typeface="Calibri"/>
              </a:rPr>
              <a:t>“</a:t>
            </a:r>
            <a:r>
              <a:rPr b="0" lang="es-MX" sz="5000" spc="-1" strike="noStrike">
                <a:solidFill>
                  <a:srgbClr val="464646"/>
                </a:solidFill>
                <a:latin typeface="Calibri"/>
              </a:rPr>
              <a:t>Participación”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ercer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entral para desrigidizar creencias que avalan abus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Familiar, educador, médico, juez/a, vecino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Negar, minimizar o justificar  los actos con creencias rígidas, o bien responsabiliza al niño….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VS reconocer la posibilidad del abuso, indicadores y utilizar adecuadamente su papel…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ctr">
              <a:spcBef>
                <a:spcPts val="70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cortar el círculo abusiv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Isosceles Triangle 4"/>
          <p:cNvSpPr/>
          <p:nvPr/>
        </p:nvSpPr>
        <p:spPr>
          <a:xfrm>
            <a:off x="2286000" y="2143080"/>
            <a:ext cx="3357720" cy="3714840"/>
          </a:xfrm>
          <a:prstGeom prst="triangle">
            <a:avLst>
              <a:gd name="adj" fmla="val 50000"/>
            </a:avLst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6"/>
          <p:cNvSpPr/>
          <p:nvPr/>
        </p:nvSpPr>
        <p:spPr>
          <a:xfrm>
            <a:off x="2357280" y="1467000"/>
            <a:ext cx="32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AGRES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7"/>
          <p:cNvSpPr/>
          <p:nvPr/>
        </p:nvSpPr>
        <p:spPr>
          <a:xfrm>
            <a:off x="500040" y="596736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VICTIMA</a:t>
            </a: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5786280" y="5864400"/>
            <a:ext cx="328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TESTIGOS SILENCIO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TERCEROS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9"/>
          <p:cNvSpPr/>
          <p:nvPr/>
        </p:nvSpPr>
        <p:spPr>
          <a:xfrm>
            <a:off x="3214800" y="3500280"/>
            <a:ext cx="150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inámica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ab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0">
            <a:hlinkClick r:id="rId1" action="ppaction://hlinksldjump"/>
          </p:cNvPr>
          <p:cNvSpPr/>
          <p:nvPr/>
        </p:nvSpPr>
        <p:spPr>
          <a:xfrm>
            <a:off x="3571920" y="857160"/>
            <a:ext cx="714240" cy="428760"/>
          </a:xfrm>
          <a:prstGeom prst="roundRect">
            <a:avLst>
              <a:gd name="adj" fmla="val 16667"/>
            </a:avLst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464646"/>
                </a:solidFill>
                <a:latin typeface="Calibri"/>
              </a:rPr>
              <a:t>Perfil del Agresor 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Los agresores no tienen un perfil definible, ni manifiestan conductas bizarras fuera de la situación de maltrato o abuso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gresor suele elegir víctimas que sienten que no pueden pedir ayu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Víctima tiene relación cercana al agresor (85%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iene ascendiente o poder sobre él o ell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 mayor cercanía afectiva y dependencia entre agresor y víctima….mayor confusión (“quien me ama, me daña”), sentimientos de ambivalencia y culpa, y, mayor secuela sobre el desarrollo del niño/adolescente 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464646"/>
                </a:solidFill>
                <a:latin typeface="Calibri"/>
              </a:rPr>
              <a:t>Fases del proceso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duc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nteracción sexual abus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cre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0" algn="ctr"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Se mantiene homeostasis familiar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ivulgación/devela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pres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es-CL" sz="3000" spc="-1" strike="noStrike">
                <a:solidFill>
                  <a:srgbClr val="000000"/>
                </a:solidFill>
                <a:latin typeface="Constantia"/>
              </a:rPr>
              <a:t>Crisis familiar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1619280" y="3500280"/>
            <a:ext cx="504720" cy="360360"/>
          </a:xfrm>
          <a:prstGeom prst="rightArrow">
            <a:avLst>
              <a:gd name="adj1" fmla="val 50000"/>
              <a:gd name="adj2" fmla="val 35015"/>
            </a:avLst>
          </a:prstGeom>
          <a:solidFill>
            <a:srgbClr val="da1f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1547640" y="5589720"/>
            <a:ext cx="505080" cy="360360"/>
          </a:xfrm>
          <a:prstGeom prst="rightArrow">
            <a:avLst>
              <a:gd name="adj1" fmla="val 50000"/>
              <a:gd name="adj2" fmla="val 35040"/>
            </a:avLst>
          </a:prstGeom>
          <a:solidFill>
            <a:srgbClr val="da1f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7" descr="http://constanzac.files.wordpress.com/2007/08/ninita-blog.jpg"/>
          <p:cNvPicPr/>
          <p:nvPr/>
        </p:nvPicPr>
        <p:blipFill>
          <a:blip r:embed="rId1"/>
          <a:stretch/>
        </p:blipFill>
        <p:spPr>
          <a:xfrm>
            <a:off x="6149880" y="4143240"/>
            <a:ext cx="263700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464646"/>
                </a:solidFill>
                <a:latin typeface="Calibri"/>
              </a:rPr>
              <a:t>Sintomas y efectos del ASI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Son variados y dependen de múltiples factor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Edad y etapa evolutiva del niñ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ersonalida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Nivel cogni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lación con el abusad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uración y frecuencia e intensidad del abus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Tipo de develamiento, reacción de la madre (figura protectora) y del entorn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464646"/>
                </a:solidFill>
                <a:latin typeface="Calibri"/>
              </a:rPr>
              <a:t>Sintomas y efectos del ASI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64646"/>
                </a:solidFill>
                <a:latin typeface="Constantia"/>
              </a:rPr>
              <a:t>Preescola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4720" y="1714680"/>
            <a:ext cx="4041720" cy="65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64646"/>
                </a:solidFill>
                <a:latin typeface="Constantia"/>
              </a:rPr>
              <a:t>Escola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6840" y="2357280"/>
            <a:ext cx="4040280" cy="4003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5000"/>
          </a:bodyPr>
          <a:p>
            <a:pPr marL="259200" indent="-2592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Conducta hipersexualizada e inapropiada para la edad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Ansiedad y trastorno por estrés agud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TEPT – disociació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Conductas regresivas y somatizacion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Trastornos de conduct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Trastornos ansiosos (fobias, TAS, miedo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Depresió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644720" y="2286000"/>
            <a:ext cx="4041720" cy="40752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6000"/>
          </a:bodyPr>
          <a:p>
            <a:pPr marL="261720" indent="-2617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Preocupación sexual excesiv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Agresión sexua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Ansiedad y trastornos del sueñ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Tr.  estrés agudo y TEP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Conductas regresivas y dificultades escolar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ET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Trastornos de conduct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Depresió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as intrafamiliar.wmv" descr=""/>
          <p:cNvPicPr/>
          <p:nvPr/>
        </p:nvPicPr>
        <p:blipFill>
          <a:blip r:embed="rId1"/>
          <a:stretch/>
        </p:blipFill>
        <p:spPr>
          <a:xfrm>
            <a:off x="285840" y="303120"/>
            <a:ext cx="8458200" cy="63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464646"/>
                </a:solidFill>
                <a:latin typeface="Calibri"/>
              </a:rPr>
              <a:t>Sintomas y efectos del ASI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64646"/>
                </a:solidFill>
                <a:latin typeface="Constantia"/>
              </a:rPr>
              <a:t>Adolescen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64646"/>
                </a:solidFill>
                <a:latin typeface="Constantia"/>
              </a:rPr>
              <a:t>Adult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256320" indent="-2563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Conductas autodestructuvas y de riesg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Ansiedad, depresión y TEP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ntomas  y enfermedades psicosomáticas (TCA, sueño, cefalea, DAR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uicidalidad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Aislamiento social, dificultades en vínculos relaciones intepersonal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Trastornos de personalidad borderline o antisocia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Problemas en los vincul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Revictimización: agresión en las relacion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Depresión, conductas suicidas y autoagresiva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Depresión y trastornos ansioso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Constantia"/>
              </a:rPr>
              <a:t>Relato del niño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Constantia"/>
              </a:rPr>
              <a:t>Evidencia médica</a:t>
            </a: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10 a 30% (max) lesiones en área genital o enfermedades de transmisión sexu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esiones genitales en niños sanan r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pidamente y pocas veces dejan cicatrices . </a:t>
            </a:r>
            <a:r>
              <a:rPr b="0" lang="es-CL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(</a:t>
            </a: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Adams,2008  y Pillai,2008)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Si hay heridas graves y no ha habido accidente grave, pensar en abuso sexu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464646"/>
                </a:solidFill>
                <a:latin typeface="Calibri"/>
              </a:rPr>
              <a:t>Indicadores específicos de ASI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7200" y="2071440"/>
            <a:ext cx="8229600" cy="42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mbios en la conducta habitual del niñ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íntomas y secuelas  en su desarrol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nductas hipersexualizadas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Masturbación compulsiv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reocupación excesiva por temas sexuales e imitación de coit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enguaje o gestos que no corresponden a su edad o nivel de desarrol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Juegos sexuales inapropiado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464646"/>
                </a:solidFill>
                <a:latin typeface="Calibri"/>
              </a:rPr>
              <a:t>Indicadores inespecíficos de ASI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6" name="Rounded Rectangle 4">
            <a:hlinkClick r:id="rId1" action="ppaction://hlinksldjump"/>
          </p:cNvPr>
          <p:cNvSpPr/>
          <p:nvPr/>
        </p:nvSpPr>
        <p:spPr>
          <a:xfrm>
            <a:off x="5429160" y="5715000"/>
            <a:ext cx="500040" cy="285840"/>
          </a:xfrm>
          <a:prstGeom prst="roundRect">
            <a:avLst>
              <a:gd name="adj" fmla="val 16667"/>
            </a:avLst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464646"/>
                </a:solidFill>
                <a:latin typeface="Calibri"/>
              </a:rPr>
              <a:t>Juegos sexuales </a:t>
            </a:r>
            <a:br>
              <a:rPr sz="6600"/>
            </a:br>
            <a:r>
              <a:rPr b="0" lang="es-CL" sz="3200" spc="-1" strike="noStrike">
                <a:solidFill>
                  <a:srgbClr val="464646"/>
                </a:solidFill>
                <a:latin typeface="Calibri"/>
              </a:rPr>
              <a:t>(Dra. Danya Glaser)</a:t>
            </a:r>
            <a:endParaRPr b="0" lang="en-US" sz="3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3624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Constantia"/>
              </a:rPr>
              <a:t>Lo normal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Juegan mirando y tocando el cuerpo. No introducen objetos en genita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svisten a las muñecas, pero no introducen objetos ni imitan sexo or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o hay coer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un juego consensual, entre par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648320" y="213624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Constantia"/>
              </a:rPr>
              <a:t>Anormal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Introducen objetos en genita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Imitan sexo or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 muñecas anatómicas, introducen objetos en genitales o realiza acciones de sexo or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erción y amenaz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Más de 3-5 años entre participan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jesusabigail7.wmv" descr=""/>
          <p:cNvPicPr/>
          <p:nvPr/>
        </p:nvPicPr>
        <p:blipFill>
          <a:blip r:embed="rId1"/>
          <a:stretch/>
        </p:blipFill>
        <p:spPr>
          <a:xfrm>
            <a:off x="857160" y="928800"/>
            <a:ext cx="760752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92160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2" dur="1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Title 3" descr=""/>
          <p:cNvPicPr/>
          <p:nvPr/>
        </p:nvPicPr>
        <p:blipFill>
          <a:blip r:embed="rId1"/>
          <a:stretch/>
        </p:blipFill>
        <p:spPr>
          <a:xfrm>
            <a:off x="92160" y="1133640"/>
            <a:ext cx="8717040" cy="1433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http://www.logosdictionary.org/bimbi/images/pediatra.jpg"/>
          <p:cNvPicPr/>
          <p:nvPr/>
        </p:nvPicPr>
        <p:blipFill>
          <a:blip r:embed="rId2"/>
          <a:stretch/>
        </p:blipFill>
        <p:spPr>
          <a:xfrm>
            <a:off x="2571840" y="3244680"/>
            <a:ext cx="35002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464646"/>
                </a:solidFill>
                <a:latin typeface="Calibri"/>
              </a:rPr>
              <a:t>Objetivos del tratamiento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Reintroducir la normativa social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Asegurar protección del niño/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nu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Intervenciones terapéuticas con madre y/o adulto protect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Reparación daño/secuelas del niño/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Postura ética frente a conductas abusivas: alentar o realizar denunc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Comprender la interacción y dinámica complej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Identificar conductas abusivas y nunca alentarla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Identificar conductas sanas y reforzarla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Identificar, fortalecer y apoyar a figura protectora. No dejarla sol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Alentar respeto en equipos de trabajo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onocer el campo de acción de otros profesiona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464646"/>
                </a:solidFill>
                <a:latin typeface="Calibri"/>
              </a:rPr>
              <a:t>Acción del médico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464646"/>
                </a:solidFill>
                <a:latin typeface="Calibri"/>
              </a:rPr>
              <a:t>EN CASOS DE ASI…..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1280" y="2325240"/>
            <a:ext cx="8786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nfirmado 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ospecha funda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6156360" y="2286000"/>
            <a:ext cx="2630520" cy="2143080"/>
          </a:xfrm>
          <a:prstGeom prst="wedgeRoundRectCallout">
            <a:avLst>
              <a:gd name="adj1" fmla="val -165861"/>
              <a:gd name="adj2" fmla="val 106064"/>
              <a:gd name="adj3" fmla="val 16667"/>
            </a:avLst>
          </a:prstGeom>
          <a:solidFill>
            <a:srgbClr val="2da2b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nunciar o Alentar denuncia por parte de figura protecto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8" descr="http://www.elporvenir.com.mx/upload/foto/19/6/3/full-abuso_sexual1.jpg"/>
          <p:cNvPicPr/>
          <p:nvPr/>
        </p:nvPicPr>
        <p:blipFill>
          <a:blip r:embed="rId1"/>
          <a:stretch/>
        </p:blipFill>
        <p:spPr>
          <a:xfrm>
            <a:off x="857160" y="1928880"/>
            <a:ext cx="2657520" cy="29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468360" y="22604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1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Consultar con equipo de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ff81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  <a:ea typeface="Arial"/>
              </a:rPr>
              <a:t>Coordinan equipo sociopsicole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1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Asegurar protección al niñ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ff81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  <a:ea typeface="Arial"/>
              </a:rPr>
              <a:t>Decidir hospitalización en caso de no haber figura protec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1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Denunciar a fiscal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1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Hacer informe de lo observado o escuch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1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464646"/>
                </a:solidFill>
                <a:latin typeface="Calibri"/>
              </a:rPr>
              <a:t>Caso confirmado o de sospecha fundada</a:t>
            </a:r>
            <a:endParaRPr b="0" lang="en-US" sz="4800" spc="-1" strike="noStrike">
              <a:solidFill>
                <a:srgbClr val="464646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agresor es su pad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buso de pod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raición”:  quien proteje hace dañ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Su madre no es protectora. No sospecha del abus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Est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enojada por malas notas y por cambios en su conduct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Padre instiga a separación entre madre e hij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Él es el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buen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No tiene lesiones visi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Presenta s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ntomas y éstos son los signos de alerta…esta es su forma de pedir ayu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464646"/>
                </a:solidFill>
                <a:latin typeface="Calibri"/>
              </a:rPr>
              <a:t>¿Pediría ayuda esta niña?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464646"/>
                </a:solidFill>
                <a:latin typeface="Calibri"/>
              </a:rPr>
              <a:t>EN CASOS DE ASI…..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28400" y="2325600"/>
            <a:ext cx="8429400" cy="38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ospech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AutoShape 5"/>
          <p:cNvSpPr/>
          <p:nvPr/>
        </p:nvSpPr>
        <p:spPr>
          <a:xfrm>
            <a:off x="6357960" y="3857760"/>
            <a:ext cx="2305080" cy="1214280"/>
          </a:xfrm>
          <a:prstGeom prst="wedgeRoundRectCallout">
            <a:avLst>
              <a:gd name="adj1" fmla="val -167356"/>
              <a:gd name="adj2" fmla="val -107175"/>
              <a:gd name="adj3" fmla="val 16667"/>
            </a:avLst>
          </a:prstGeom>
          <a:solidFill>
            <a:srgbClr val="2da2b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vestigar o reunir evidenc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http://1.bp.blogspot.com/_fEUQdDmnMrw/Rz4OXa0bEoI/AAAAAAAAABs/XRqJ39Yvja4/s400/violencia%5B1%5D.jpg"/>
          <p:cNvPicPr/>
          <p:nvPr/>
        </p:nvPicPr>
        <p:blipFill>
          <a:blip r:embed="rId1"/>
          <a:stretch/>
        </p:blipFill>
        <p:spPr>
          <a:xfrm>
            <a:off x="428760" y="3857760"/>
            <a:ext cx="3309840" cy="275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5"/>
          <p:cNvSpPr/>
          <p:nvPr/>
        </p:nvSpPr>
        <p:spPr>
          <a:xfrm>
            <a:off x="324000" y="1928880"/>
            <a:ext cx="822960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11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sultar con equipo de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811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  <a:ea typeface="Arial"/>
              </a:rPr>
              <a:t>Coordinan equipo sociopsico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811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  <a:ea typeface="Arial"/>
              </a:rPr>
              <a:t>¡Nunca actuar solo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ff811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  <a:ea typeface="Arial"/>
              </a:rPr>
              <a:t>Recurrir a Asistente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ff811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  <a:ea typeface="Arial"/>
              </a:rPr>
              <a:t>Realizar evaluación al niño por profesionales entrenados: psicólogos, psiquiatra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11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i sospecha persiste: denunciar entregando todos los antecedentes a fiscal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11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o alertar a familia antes de tiempo y sin asegurar protección del ni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1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1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464646"/>
                </a:solidFill>
                <a:latin typeface="Calibri"/>
              </a:rPr>
              <a:t>Caso sospechoso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Los niños inventan aquello que está en su universo familiar, y siempre en relación a su edad.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Los niños pequeños se expresan también a través de juegos, mímica y dibujo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Un relato aprendido se puede detecta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Es posible que el niño hable una vez y luego se retracte al anticipar las consecuencias de sus palabra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464646"/>
                </a:solidFill>
                <a:latin typeface="Calibri"/>
              </a:rPr>
              <a:t>Relato del niño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sposición acogedora y tranquil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 interrumpir el relato espontáne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 alarmarse frente al relat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 cuestionar su veracidad. Creerle al niño/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 culpar al niñ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egurar discreción y respeto, pero no confidencialid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unca guardarse la información, minimizarla o ignorarl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Incluir preguntas abiertas que inviten al niño a explicar lo que le pasa: ¿Dónde lo viste?    ¿dónde lo aprendiste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gistrar su relato en forma textual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464646"/>
                </a:solidFill>
                <a:latin typeface="Calibri"/>
              </a:rPr>
              <a:t>Actitud del profesional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segurarle que lo va a proteger, pero sin prometer cosas que no se cumplirá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xplicitarle que no es su culpa, </a:t>
            </a: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 la responsabilidad es siempre del adult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No preguntarle porqué no contó antes o porqué permitió que pasara, ya que eso es culparlo indirectament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Darle todo el apoyo afectivo que se pueda. Reforzando su valentía por haberlo contad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Si el niño/a devela abuso, intentar saber (sin forzarlo) cuándo y quien cometió el abuso y si había otra persona present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Encontrar un lugar de protección o ayuda y/o denunciar el hech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Constantia"/>
              </a:rPr>
              <a:t>Nunca entrevistar al niño frente a posible agres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464646"/>
                </a:solidFill>
                <a:latin typeface="Calibri"/>
              </a:rPr>
              <a:t>Actitud del profesional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464646"/>
                </a:solidFill>
                <a:latin typeface="Calibri"/>
              </a:rPr>
              <a:t>Evaluación psicológica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213624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trevistas a solas con el niño por profesionales entrenad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est de veraci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so de tests proyectiv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siones de juego libre, muñecos anatómicos, sesiones de dibujo y ar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7" name="Content Placeholder 6" descr="http://www.eltiempo.com/colombia/oriente/2008-07-07/IMAGEN/IMAGEN-4364734-1.jpg"/>
          <p:cNvPicPr/>
          <p:nvPr/>
        </p:nvPicPr>
        <p:blipFill>
          <a:blip r:embed="rId1"/>
          <a:stretch/>
        </p:blipFill>
        <p:spPr>
          <a:xfrm>
            <a:off x="4857840" y="2803680"/>
            <a:ext cx="4038480" cy="205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2039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ntentar promover denuncia por familiar protecto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i lo anterior no es posible: equipo de salud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nuncia a la fiscalía correspondien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nuncia a Carabineros de Chile e Investigacion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Se los llama o se concurre directamente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e llama a unidades especializadas: brigada de Delitos Sexua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médico tiene el deber de realizar un informe comprensible y veraz para el tribun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464646"/>
                </a:solidFill>
                <a:latin typeface="Calibri"/>
              </a:rPr>
              <a:t>Denuncia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5"/>
          <p:cNvSpPr/>
          <p:nvPr/>
        </p:nvSpPr>
        <p:spPr>
          <a:xfrm>
            <a:off x="457200" y="1903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1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Es difícil para todos los actores involuc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1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Para el niño víctima: es quien sustenta el 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1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El agresor se  va a defender y no va a admitir/confesar el ab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1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El protector va a dudar si está haciendo lo corr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1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Retractación de la víctima es muy frecuente y no implica que el abuso no ex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1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Recordar siempre que no hay reparación sin protecc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itle 3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464646"/>
                </a:solidFill>
                <a:latin typeface="Calibri"/>
              </a:rPr>
              <a:t>Denunci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http://homepages.mty.itesm.mx/al223263/imgs/familia.gif"/>
          <p:cNvPicPr/>
          <p:nvPr/>
        </p:nvPicPr>
        <p:blipFill>
          <a:blip r:embed="rId1"/>
          <a:stretch/>
        </p:blipFill>
        <p:spPr>
          <a:xfrm>
            <a:off x="1928880" y="1214280"/>
            <a:ext cx="4762440" cy="43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2182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conoce lo que pas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Hija ha cambiado: no lo entien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niña parece más cercana al padre, quien es alcohólico y cruel con la mad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adre siente que actitud de niña es una deslealtad hacia ella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adre es victimizada por el espos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adre se ha encargado de alejarl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464646"/>
                </a:solidFill>
                <a:latin typeface="Calibri"/>
              </a:rPr>
              <a:t>¿Por qué la figura protectora no protege?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464646"/>
                </a:solidFill>
                <a:latin typeface="Calibri"/>
              </a:rPr>
              <a:t>Definición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Aquel delito, que ocurre en un proceso que va desde la seducción a la interacción de contenido sexual y la instalación del secreto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motivado consciente o inconscientemente por el adulto o adolescente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que usa su poder y/o autoridad, y/o abusa de su confianza para involucrar al niño/niña en actividades sexua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El agresor puede utilizar diversos trucos y manipulaciones (regalos, amenazas, engaños o fuerza física) para conseguir la participación sexual del niño/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833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464646"/>
                </a:solidFill>
                <a:latin typeface="Calibri"/>
              </a:rPr>
              <a:t>Características del ASI</a:t>
            </a:r>
            <a:endParaRPr b="0" lang="en-US" sz="4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752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Forma de maltrato infanti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Énfasis en el “abuso”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implica un desequilibrio de pod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Puede darse sin contacto físico y/o con contacto físic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empre se considera delit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Puede ser intrafamiliar (o de conocidos) o extra familiar: tiene diferencias en expresión y secuela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Proceso: puede prolongarse por años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70% más de 1 añ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Va aumentando en frecuencia y complejidad de las conductas abusivas del agreso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agnifica sus efect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464646"/>
                </a:solidFill>
                <a:latin typeface="Calibri"/>
              </a:rPr>
              <a:t>Epidemiología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ificultades para cuantifica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ilenciamiento de las propias victim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Mecanismos de negación de la familia y equip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casas evidencias físicas (SML: 11, 49%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Chi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ERNAM: 20 mil AS/añ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tudios: alrededor de un 10% de adolescentes reporta haber sufrido 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524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Niños/niñas: ¼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524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Puede comenzar a cualquier edad: Mayor riesgo 5 a 12 año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464646"/>
                </a:solidFill>
                <a:latin typeface="Calibri"/>
              </a:rPr>
              <a:t>Dinámica del ASI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es una enfermedad es un problema social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VIOL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mo toda experiencia de violenci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una manifestación interaccion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odos los involucrados en la interacción violenta participan de ella, pero no son igualmente “responsables” de la interac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Y… si nosotros miramos a otro lado, tamb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n participam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Isosceles Triangle 4"/>
          <p:cNvSpPr/>
          <p:nvPr/>
        </p:nvSpPr>
        <p:spPr>
          <a:xfrm>
            <a:off x="2286000" y="1428840"/>
            <a:ext cx="3357720" cy="3714840"/>
          </a:xfrm>
          <a:prstGeom prst="triangle">
            <a:avLst>
              <a:gd name="adj" fmla="val 50000"/>
            </a:avLst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6"/>
          <p:cNvSpPr/>
          <p:nvPr/>
        </p:nvSpPr>
        <p:spPr>
          <a:xfrm>
            <a:off x="2357280" y="928800"/>
            <a:ext cx="32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AGRES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7"/>
          <p:cNvSpPr/>
          <p:nvPr/>
        </p:nvSpPr>
        <p:spPr>
          <a:xfrm>
            <a:off x="500040" y="514368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VICTIMA</a:t>
            </a: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8"/>
          <p:cNvSpPr/>
          <p:nvPr/>
        </p:nvSpPr>
        <p:spPr>
          <a:xfrm>
            <a:off x="5786280" y="5143680"/>
            <a:ext cx="328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TESTIGOS SILENCIO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TERCEROS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9"/>
          <p:cNvSpPr/>
          <p:nvPr/>
        </p:nvSpPr>
        <p:spPr>
          <a:xfrm>
            <a:off x="3214800" y="3500280"/>
            <a:ext cx="150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inámica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ab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ounded Rectangle 13"/>
          <p:cNvSpPr/>
          <p:nvPr/>
        </p:nvSpPr>
        <p:spPr>
          <a:xfrm>
            <a:off x="857160" y="5715000"/>
            <a:ext cx="571680" cy="357120"/>
          </a:xfrm>
          <a:prstGeom prst="roundRect">
            <a:avLst>
              <a:gd name="adj" fmla="val 16667"/>
            </a:avLst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9:46:18Z</dcterms:created>
  <dc:creator>Marcela</dc:creator>
  <dc:description/>
  <dc:language>en-US</dc:language>
  <cp:lastModifiedBy>Marcela</cp:lastModifiedBy>
  <dcterms:modified xsi:type="dcterms:W3CDTF">2009-08-23T22:19:35Z</dcterms:modified>
  <cp:revision>40</cp:revision>
  <dc:subject/>
  <dc:title>Abuso Sexual en la infancia y adolescencia</dc:title>
</cp:coreProperties>
</file>