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2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5.jpeg" ContentType="image/jpeg"/>
  <Override PartName="/ppt/media/image10.jpeg" ContentType="image/jpeg"/>
  <Override PartName="/ppt/media/image8.gif" ContentType="image/gif"/>
  <Override PartName="/ppt/media/image1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6396-6F3B-4B8F-BA14-DAA32FD62030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8517-3CD1-4251-8982-0B4EB677A4ED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0092-96A1-4292-95DC-1A353DF3FDC3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2421-7473-4050-952C-BAF0292DF9AA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E2A6-4375-4348-B5DA-01829C96C97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C32C-E135-4C1B-9033-FA2CEFC79913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B5E9-5D5A-496F-8E05-9CD15D68F144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5A35-6025-448B-9847-51AB573B32E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C05B-32B4-4FB7-9E61-859B2F36D61E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DE6E-C53A-4C25-B4DD-24A1CA71299B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93C0-A18E-4090-9E66-7F9AB76C8A6D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56E8-EC65-4574-BCFD-87F1D7FDC4C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22F5-05E8-4AA9-AAC4-F04752D450EA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E6F0-FFA8-4AFA-BB07-94EB648142FE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373B-307C-446B-9F38-A0349E61BD36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C734-141A-4D43-8EFD-0C8877BF713F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BEB9-8E3A-49C0-B3EB-729ECF1BD93D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B61A-4DE0-4974-9DB0-B02D6CDDBA43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1505-8D87-4A5C-B316-226E4142DE5A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D2A4-5BD1-426A-9EFA-89ACDE0F45BA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7D89-7C18-4F98-B9A1-2AA08C3F127F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40BD-F30C-47D7-BC4C-48A8D196354A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B2F5-90FC-4234-B9B1-A257A69451A6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34BF-D30B-4B9B-A208-36ED40223356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ACF8-3D88-4707-B298-18CF0268BDF5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D611-4976-4C90-994D-30BB0C865EF9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CEE4-66FA-423A-96E3-689DEE3934E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88C5-81EF-4450-A7CD-F63C845E3A18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73C0-A9B1-4529-9374-28C5653C4214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C2D5-6038-4234-8DE0-AD05EC2B9028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D0C9-86FE-4B9D-87F8-EF7FB945DCB0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F250-21C4-4E30-AFD9-20F4C94EABE3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93C8-04C8-454E-ACF1-F82D57AFBC53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1DE4-6390-4C0F-9AE9-386B27B26311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2A9D-66A3-4E7D-9306-48DBBBFEEA4B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847D-F738-4130-BBC3-1918CEC511A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F97F-5820-48E1-871E-EED8B7E98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7A4A-A986-4B3F-8AEF-DE10DE31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1F20-B056-45AA-9C35-B06470B17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98C4-935D-4434-BC15-4CEAC8D40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A862-2009-4037-96FA-F048AE54A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C907-F625-4807-9B9A-E039F20B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12DD-534A-48AC-9DC3-EADE6632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2731-BFFC-41B1-9F99-3A0C6C08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1A22-C609-4DD1-BB7C-ED654AA7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34B2-5A7D-4C0E-9544-D9DBABFC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F950-6469-43BD-945C-EFED5C9E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7E9E-ADE4-46CC-964F-60283EAB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12E5-A4AA-487B-8B71-66BCD8B6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8A72-45BC-461A-820A-4CE2C16A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E311-511C-4CA9-A32F-E20FEE1B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EEFA-DCC2-4B71-9045-BDBF0E284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1069-B054-4030-B4D1-91FBC9DFB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FC87-91CB-4AB3-B00E-193CEACE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C6F5-F863-42B3-AECB-F73146FE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5DD5-483B-4BDA-8630-6EF43F72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93F1-C15B-4EB8-8A7B-C77597FF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C795-BADD-444C-889C-61425384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D7B2-F433-476F-AB88-038D41E0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EF51-B6AF-4169-A273-793C18FD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CA64-4BE8-4759-8B69-C1F3A26815C8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6C6C-0196-4B57-871F-2F24445A45CC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4286160" y="5657760"/>
            <a:ext cx="46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Black"/>
              </a:rPr>
              <a:t>Dra. Marcela Matamala Bast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Black"/>
              </a:rPr>
              <a:t>Psiquiatra de Niños y Adolesc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Black"/>
              </a:rPr>
              <a:t>Universidad de Chil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0" y="50004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 Black"/>
              </a:rPr>
              <a:t>Trastorno  Adaptativ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 Black"/>
              </a:rPr>
              <a:t>En niños y adolesc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logo-u3"/>
          <p:cNvPicPr/>
          <p:nvPr/>
        </p:nvPicPr>
        <p:blipFill>
          <a:blip r:embed="rId1"/>
          <a:stretch/>
        </p:blipFill>
        <p:spPr>
          <a:xfrm>
            <a:off x="571680" y="138240"/>
            <a:ext cx="671400" cy="1218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http://th01.deviantart.com/fs10/300W/i/2006/101/4/4/Antiseptic_by_DivineError.jpg"/>
          <p:cNvPicPr/>
          <p:nvPr/>
        </p:nvPicPr>
        <p:blipFill>
          <a:blip r:embed="rId2"/>
          <a:stretch/>
        </p:blipFill>
        <p:spPr>
          <a:xfrm>
            <a:off x="714240" y="4143240"/>
            <a:ext cx="3286440" cy="235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  <a:ea typeface="Arial"/>
              </a:rPr>
              <a:t>Tipos de trastornos adaptativo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14040" y="1428840"/>
            <a:ext cx="45147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Con estado de ánimo depresivo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Con estado de ánimo ansioso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Con alteración mixta de estado de ánimo depresivo y ansioso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Con alteración de la conducta 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  <a:ea typeface="Arial"/>
              </a:rPr>
              <a:t>(violación de los derechos de los demás o de las normas y reglas sociales apropiadas para la edad)</a:t>
            </a:r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Con alteración mixta de la conducta y las emociones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No especificado </a:t>
            </a:r>
            <a:r>
              <a:rPr b="0" lang="es-CL" sz="1500" spc="-1" strike="noStrike">
                <a:solidFill>
                  <a:srgbClr val="000000"/>
                </a:solidFill>
                <a:latin typeface="Arial"/>
                <a:ea typeface="Arial"/>
              </a:rPr>
              <a:t>(quejas somáticas, aislamiento social e inhibición  académica o social)</a:t>
            </a:r>
            <a:endParaRPr b="0" lang="en-US" sz="1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4" name="3 Imagen" descr="faces[1]_0.tmp"/>
          <p:cNvPicPr/>
          <p:nvPr/>
        </p:nvPicPr>
        <p:blipFill>
          <a:blip r:embed="rId1"/>
          <a:stretch/>
        </p:blipFill>
        <p:spPr>
          <a:xfrm>
            <a:off x="5715000" y="1428840"/>
            <a:ext cx="2928960" cy="464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Arial"/>
              </a:rPr>
              <a:t>Respuesta al estres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4686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Características del event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 estreso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Características constitucionales, biológicas y psicológicas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Respuesta familiar, escolar y socia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Evento inocuo para algunos, genera patología en otro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Ante un mismo evento se puede responder con síntomas depresivos, somáticos, ansiosos y conductual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Picture 2" descr="http://www.juniorpadres.com/n7/hospitalizacion.jpg"/>
          <p:cNvPicPr/>
          <p:nvPr/>
        </p:nvPicPr>
        <p:blipFill>
          <a:blip r:embed="rId1"/>
          <a:stretch/>
        </p:blipFill>
        <p:spPr>
          <a:xfrm>
            <a:off x="5429160" y="1500120"/>
            <a:ext cx="3071880" cy="485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cerca del estresor…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13880" y="1571760"/>
            <a:ext cx="40719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Único o múltipl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Agudo, persistente o recurrent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Personal, familia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Normativo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L" sz="1500" spc="-1" strike="noStrike">
                <a:solidFill>
                  <a:srgbClr val="000000"/>
                </a:solidFill>
                <a:latin typeface="Arial"/>
                <a:ea typeface="Arial"/>
              </a:rPr>
              <a:t>experiencias comunes a todos los niños por el desarroll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6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No normativas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s-CL" sz="1500" spc="-1" strike="noStrike">
                <a:solidFill>
                  <a:srgbClr val="000000"/>
                </a:solidFill>
                <a:latin typeface="Arial"/>
                <a:ea typeface="Arial"/>
              </a:rPr>
              <a:t>particular  para cada individuo</a:t>
            </a:r>
            <a:endParaRPr b="0" lang="en-US" sz="1500" spc="-1" strike="noStrike">
              <a:solidFill>
                <a:srgbClr val="000000"/>
              </a:solidFill>
              <a:latin typeface="Arial Black"/>
            </a:endParaRPr>
          </a:p>
          <a:p>
            <a:pPr lvl="1" marL="739800" indent="-285840">
              <a:lnSpc>
                <a:spcPct val="6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  <a:ea typeface="Arial"/>
              </a:rPr>
              <a:t>Agudo </a:t>
            </a:r>
            <a:endParaRPr b="0" lang="en-US" sz="1500" spc="-1" strike="noStrike">
              <a:solidFill>
                <a:srgbClr val="000000"/>
              </a:solidFill>
              <a:latin typeface="Arial Black"/>
            </a:endParaRPr>
          </a:p>
          <a:p>
            <a:pPr lvl="1" marL="739800" indent="-285840">
              <a:lnSpc>
                <a:spcPct val="6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  <a:ea typeface="Arial"/>
              </a:rPr>
              <a:t>Crónico</a:t>
            </a:r>
            <a:endParaRPr b="0" lang="en-US" sz="1500" spc="-1" strike="noStrike">
              <a:solidFill>
                <a:srgbClr val="000000"/>
              </a:solidFill>
              <a:latin typeface="Arial Black"/>
            </a:endParaRPr>
          </a:p>
          <a:p>
            <a:pPr lvl="1" marL="739800" indent="-28584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 Black"/>
            </a:endParaRPr>
          </a:p>
          <a:p>
            <a:pPr lvl="1" marL="739800" indent="-28584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* La red de apoyo social (familia), puede ser factor protector, mantenedor o agravante del trastorno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39800" indent="-285840">
              <a:lnSpc>
                <a:spcPct val="6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0" name="Picture 2" descr="http://estaticos02.cache.el-mundo.net/elmundo/imagenes/2007/09/07/1189172642_0.jpg"/>
          <p:cNvPicPr/>
          <p:nvPr/>
        </p:nvPicPr>
        <p:blipFill>
          <a:blip r:embed="rId1"/>
          <a:stretch/>
        </p:blipFill>
        <p:spPr>
          <a:xfrm>
            <a:off x="5643720" y="2000160"/>
            <a:ext cx="2857320" cy="392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6 Rectángulo"/>
          <p:cNvSpPr/>
          <p:nvPr/>
        </p:nvSpPr>
        <p:spPr>
          <a:xfrm>
            <a:off x="4857840" y="1500120"/>
            <a:ext cx="3500280" cy="5143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5 Rectángulo"/>
          <p:cNvSpPr/>
          <p:nvPr/>
        </p:nvSpPr>
        <p:spPr>
          <a:xfrm>
            <a:off x="571680" y="1500120"/>
            <a:ext cx="3571560" cy="5143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cerca del estresor…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6760" y="1642680"/>
            <a:ext cx="3429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es-CL" sz="2800" spc="-1" strike="noStrike">
                <a:solidFill>
                  <a:srgbClr val="000000"/>
                </a:solidFill>
                <a:latin typeface="Arial Black"/>
              </a:rPr>
              <a:t>Crisis      normativas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Ingreso al colegi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Nacimiento de un herman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Fallecimiento de un abuel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00720" y="1500120"/>
            <a:ext cx="371448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Arial Black"/>
              </a:rPr>
              <a:t>Crisis No normativas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Separació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Enfermedad crónica o Muerte de uno o ambos padr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Maltrato infanti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Abuso sexual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Disfunción familiar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Enfermedad crónica del niño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Accident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Hospitalizacion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Problemas escolares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  <a:ea typeface="Arial"/>
              </a:rPr>
              <a:t>Diagnóstico diferencia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14040" y="1784520"/>
            <a:ext cx="3800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Reacción normal a situaciones estresant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Duelo norma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Trastorno por estrés agudo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Trastorno por estrés post traumático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Descompensaciones de pacientes con desarrollo anormal de personalidad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Trastorno Ansioso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Trastorno Depresivo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Trastorno de conduct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Picture 5" descr="http://www.psicodiagnosis.es/images/depre_460.jpg"/>
          <p:cNvPicPr/>
          <p:nvPr/>
        </p:nvPicPr>
        <p:blipFill>
          <a:blip r:embed="rId1"/>
          <a:stretch/>
        </p:blipFill>
        <p:spPr>
          <a:xfrm>
            <a:off x="4857840" y="1857240"/>
            <a:ext cx="3666960" cy="4071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  <a:ea typeface="Arial"/>
              </a:rPr>
              <a:t>Tratamiento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00720" y="1784520"/>
            <a:ext cx="418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Realizado por el profesional que realiza la 1ª atención (médico general, pediatra, psicolólogo, etc.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Educación de los padr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Fomentar expresión emocional en el niño o adolescent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Trastorno de gran intensidad, persistente o se agrava, derivar a psiquiatría infantil y de la adolescencia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Picture 5" descr="http://www.kindsein.com/cgi-bin/get_img?NrImage=2&amp;NrArticle=605"/>
          <p:cNvPicPr/>
          <p:nvPr/>
        </p:nvPicPr>
        <p:blipFill>
          <a:blip r:embed="rId1"/>
          <a:stretch/>
        </p:blipFill>
        <p:spPr>
          <a:xfrm>
            <a:off x="642960" y="2143080"/>
            <a:ext cx="3143160" cy="342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  <a:ea typeface="Arial"/>
              </a:rPr>
              <a:t>Tratamiento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Psicoterapia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98520" indent="-3322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Relación médico paciente cálida y acogedor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98520" indent="-3322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Tomar en cuenta los síntomas y edad del pacient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98520" indent="-332280" algn="just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Preescolares predominio de técnicas no verbales (dibujo y juego), a otras edades técnicas verbal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98520" indent="-3322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Postura activa ,directiva y empátic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98520" indent="-332280" algn="just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Facilitar, contener y respetar las expresión emocional del niño o adolescente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98520" indent="-3322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Legitimar sentimientos como rabia, temor y tristez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98520" indent="-332280" algn="just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Establecer relación temporal entre la situación de estrés y la expresión emocional actual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98520" indent="-3322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Evitar sobreprotección –sobre involucració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98520" indent="-3322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98520" indent="-3322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98520" indent="-332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4" name="Picture 6" descr="http://tbn0.google.com/images?q=tbn:j-7e1zVDbpkL4M:http://www.andreacarrillo.com/wp-content/uploads/2008/05/duelo21.jpg"/>
          <p:cNvPicPr/>
          <p:nvPr/>
        </p:nvPicPr>
        <p:blipFill>
          <a:blip r:embed="rId1"/>
          <a:stretch/>
        </p:blipFill>
        <p:spPr>
          <a:xfrm>
            <a:off x="7358040" y="642960"/>
            <a:ext cx="1428840" cy="180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  <a:ea typeface="Arial"/>
              </a:rPr>
              <a:t>Tratamiento sintomático…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785840" y="1571400"/>
            <a:ext cx="3900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En caso de síntomas que impidan el funcionamiento del niño se indicarán ansiolíticos. Por tiempo breve (1 semana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Antidepresivos tienen indicación limitada , por latencia en acción y duración breve de la mayoría de los trastornos adaptativo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Picture 5" descr="http://www.douglastilley.com/IMAGES/AA018255-4.JPG"/>
          <p:cNvPicPr/>
          <p:nvPr/>
        </p:nvPicPr>
        <p:blipFill>
          <a:blip r:embed="rId1"/>
          <a:stretch/>
        </p:blipFill>
        <p:spPr>
          <a:xfrm>
            <a:off x="1214280" y="1857240"/>
            <a:ext cx="2714760" cy="3786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  <a:ea typeface="Arial"/>
              </a:rPr>
              <a:t>Con los padres…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428480"/>
            <a:ext cx="44625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Ayudar a entender lo que le pasa al niño: sentimientos de angustia, temor tristeza y rabi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Favorecer y estimular respuestas sana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Minimizar respuestas problemáticas o desadaptativa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Papel protector de situaciones estresantes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Picture 8" descr="http://www.elprogresohispano.com/noticias/243_educacion.jpg"/>
          <p:cNvPicPr/>
          <p:nvPr/>
        </p:nvPicPr>
        <p:blipFill>
          <a:blip r:embed="rId1"/>
          <a:stretch/>
        </p:blipFill>
        <p:spPr>
          <a:xfrm>
            <a:off x="5000760" y="2071800"/>
            <a:ext cx="3214440" cy="380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Arial"/>
              </a:rPr>
              <a:t>Pronóstico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214280"/>
            <a:ext cx="447192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Oportunidad de tratamiento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Reversibilidad de los síntoma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Apoyo familia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Gravedad de la sintomatologí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Persistencia de factores estresant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Presencia de comorbilidad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*Generalmente resolución   completa continuando desarrollo norma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Picture 2" descr="http://clearsantodomingo.files.wordpress.com/2008/05/sun.jpg"/>
          <p:cNvPicPr/>
          <p:nvPr/>
        </p:nvPicPr>
        <p:blipFill>
          <a:blip r:embed="rId1"/>
          <a:stretch/>
        </p:blipFill>
        <p:spPr>
          <a:xfrm>
            <a:off x="4929120" y="1357200"/>
            <a:ext cx="4000680" cy="485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Arial"/>
              </a:rPr>
              <a:t>¿Qué es un Trastorno Adaptativo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28400" y="1571400"/>
            <a:ext cx="46861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Trastornos de adaptación o trastornos reactivos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Uno de los diagnósticos más frecuentes en Psiquiatría de niños y adolescente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Respuestas de intensidad patológica frente a un acontecimiento estresante identificabl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Sobrepasa la capacidad del individuo para su edad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Experiencias potencialmente perturbadora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Picture 6" descr="http://2.bp.blogspot.com/_59isc3X5Ehk/R-Z-lYTsbII/AAAAAAAAAuE/RnLgXP9mDCI/s400/ni%C3%B1o+bu.jpg"/>
          <p:cNvPicPr/>
          <p:nvPr/>
        </p:nvPicPr>
        <p:blipFill>
          <a:blip r:embed="rId1"/>
          <a:stretch/>
        </p:blipFill>
        <p:spPr>
          <a:xfrm>
            <a:off x="5286240" y="1643040"/>
            <a:ext cx="3429000" cy="492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1714680"/>
            <a:ext cx="9144000" cy="19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 Black"/>
                <a:ea typeface="Arial"/>
              </a:rPr>
              <a:t>Duelo</a:t>
            </a:r>
            <a:br>
              <a:rPr sz="4800"/>
            </a:br>
            <a:r>
              <a:rPr b="0" lang="es-ES_tradnl" sz="4800" spc="-1" strike="noStrike">
                <a:solidFill>
                  <a:srgbClr val="000000"/>
                </a:solidFill>
                <a:latin typeface="Arial Black"/>
                <a:ea typeface="Arial"/>
              </a:rPr>
              <a:t>En niños y adolescentes</a:t>
            </a:r>
            <a:br>
              <a:rPr sz="4300"/>
            </a:br>
            <a:br>
              <a:rPr sz="4300"/>
            </a:br>
            <a:r>
              <a:rPr b="0" lang="es-CL" sz="4300" spc="-1" strike="noStrike">
                <a:solidFill>
                  <a:srgbClr val="0044ac"/>
                </a:solidFill>
                <a:latin typeface="Arial Black"/>
                <a:ea typeface="Arial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Picture 4" descr="logo-u3"/>
          <p:cNvPicPr/>
          <p:nvPr/>
        </p:nvPicPr>
        <p:blipFill>
          <a:blip r:embed="rId1"/>
          <a:stretch/>
        </p:blipFill>
        <p:spPr>
          <a:xfrm>
            <a:off x="571680" y="138240"/>
            <a:ext cx="671400" cy="1218960"/>
          </a:xfrm>
          <a:prstGeom prst="rect">
            <a:avLst/>
          </a:prstGeom>
          <a:ln w="0">
            <a:noFill/>
          </a:ln>
        </p:spPr>
      </p:pic>
      <p:sp>
        <p:nvSpPr>
          <p:cNvPr id="156" name="4 Rectángulo"/>
          <p:cNvSpPr/>
          <p:nvPr/>
        </p:nvSpPr>
        <p:spPr>
          <a:xfrm>
            <a:off x="4214880" y="5657760"/>
            <a:ext cx="585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Black"/>
              </a:rPr>
              <a:t>Dra. Marcela Matamala Bast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Black"/>
              </a:rPr>
              <a:t>Psiquiatra de Niños y Adolesc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Black"/>
              </a:rPr>
              <a:t>Universidad de Chil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6" descr="http://static.guim.co.uk/sys-images/Guardian/Pix/pictures/2008/12/16/1229440558030/Gallery-kennedy-family-Me-012.jpg"/>
          <p:cNvPicPr/>
          <p:nvPr/>
        </p:nvPicPr>
        <p:blipFill>
          <a:blip r:embed="rId2"/>
          <a:stretch/>
        </p:blipFill>
        <p:spPr>
          <a:xfrm>
            <a:off x="785880" y="3429000"/>
            <a:ext cx="2857320" cy="32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  <a:ea typeface="Arial"/>
              </a:rPr>
              <a:t>Concepto de duel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914400" y="1571760"/>
            <a:ext cx="43718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Pérdida irreversibl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Muerte de personas significativas conectadas por vínculos afectivo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Extendido  a otras pérdidas: de funciones y órganos, del ciclo vital, trabajo y la propia muert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Duelo normal: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Todas las personas que sufren pérdidas tienen procesos de duelo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El duelo tiene períodos de angustia y depresión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Influencia cultural en su manifestación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Picture 5" descr="http://usuarios.lycos.es/vivirlaperdida/IMAGES/cementerio.jpg"/>
          <p:cNvPicPr/>
          <p:nvPr/>
        </p:nvPicPr>
        <p:blipFill>
          <a:blip r:embed="rId1"/>
          <a:stretch/>
        </p:blipFill>
        <p:spPr>
          <a:xfrm>
            <a:off x="5500800" y="1571760"/>
            <a:ext cx="3214440" cy="471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  <a:ea typeface="Arial"/>
              </a:rPr>
              <a:t>Manifestaciones del duelo norma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1213920"/>
            <a:ext cx="53290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Sentimientos, sensaciones físicas, cogniciones, percepciones y conductas, después de una pérdida significativa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No hay cambios significativos en la autoestima de la persona que vive el duelo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Funcionamiento social y ocupacional puede alterarse en forma leve y transitoria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Evaluación realista de la persona perdida, sin idealizaciones patológicas ni irreales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Alteraciones neurovegetativas transitorias y alteraciones de la sensopercepción breves.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Malestar intenso disminuye en 6-12 semanas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La ideación suicida es rara o transitoria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Picture 7" descr="http://img.xatakafoto.com/2008/05/20080524_Duelo2.jpg"/>
          <p:cNvPicPr/>
          <p:nvPr/>
        </p:nvPicPr>
        <p:blipFill>
          <a:blip r:embed="rId1"/>
          <a:stretch/>
        </p:blipFill>
        <p:spPr>
          <a:xfrm>
            <a:off x="6000840" y="1643040"/>
            <a:ext cx="3000240" cy="4405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76212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  <a:ea typeface="Arial"/>
              </a:rPr>
              <a:t>Etapas del duelo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Kubler Ross 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611280" y="1557360"/>
            <a:ext cx="302256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Neg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Ra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Negoci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Depre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Acep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11" descr="http://mikel.agirregabiria.net/2005/anger.jpg"/>
          <p:cNvPicPr/>
          <p:nvPr/>
        </p:nvPicPr>
        <p:blipFill>
          <a:blip r:embed="rId1"/>
          <a:stretch/>
        </p:blipFill>
        <p:spPr>
          <a:xfrm>
            <a:off x="6500880" y="2000160"/>
            <a:ext cx="1928880" cy="1548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" descr="http://www.defence.gov.au/defencemagazine/editions/011104/images/Depression_horiz3.jpg"/>
          <p:cNvPicPr/>
          <p:nvPr/>
        </p:nvPicPr>
        <p:blipFill>
          <a:blip r:embed="rId2"/>
          <a:stretch/>
        </p:blipFill>
        <p:spPr>
          <a:xfrm>
            <a:off x="4714920" y="3000240"/>
            <a:ext cx="1785960" cy="1866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"/>
          <p:cNvSpPr/>
          <p:nvPr/>
        </p:nvSpPr>
        <p:spPr>
          <a:xfrm>
            <a:off x="76212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  <a:ea typeface="Arial"/>
              </a:rPr>
              <a:t>Tareas del due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4643280" y="1523880"/>
            <a:ext cx="4143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Aceptar la realidad de la pérd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Elaborar las emociones y el dolor de la pérd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Adaptarse a un ambiente en que la persona fallecida está aus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Reubicar emocionalmente al fallecido y continuar vivi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6" descr="http://www.conelpapa.com/seriesdetelevision/hab_clip_image002_0000.jpg"/>
          <p:cNvPicPr/>
          <p:nvPr/>
        </p:nvPicPr>
        <p:blipFill>
          <a:blip r:embed="rId1"/>
          <a:stretch/>
        </p:blipFill>
        <p:spPr>
          <a:xfrm>
            <a:off x="785880" y="1643040"/>
            <a:ext cx="3552840" cy="4848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  <a:ea typeface="Arial"/>
              </a:rPr>
              <a:t>Duelo patológ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857160" y="1341360"/>
            <a:ext cx="784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6617160" y="582840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7" descr="http://www.agencianova.com/data/fotos2/48596_DUELO_Y_DEPRESIÓN.jpg"/>
          <p:cNvPicPr/>
          <p:nvPr/>
        </p:nvPicPr>
        <p:blipFill>
          <a:blip r:embed="rId1"/>
          <a:stretch/>
        </p:blipFill>
        <p:spPr>
          <a:xfrm>
            <a:off x="2214720" y="1571760"/>
            <a:ext cx="4714560" cy="32860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8760" y="4857480"/>
            <a:ext cx="8229600" cy="26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Definición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: “Intensificación del duelo al nivel en que la persona está desbordada, recurre a conductas desadaptativas, o permanece inacabablemente en este estado sin avanzar en el proceso de duelo hacia su resolución”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No existe como diagnóstico en DSM IV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285840" y="1000080"/>
            <a:ext cx="6572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Puede no estar relacionado temporalmente a la pérd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La persona en duelo puede desarrollar sentimientos de  auto devaluación o culpa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inten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Hay alteración funcional signific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La persona muerta es idealizada o distorsio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Pueden presentarse molestias vegetativas persist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Ideación suicida comú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Varieda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Duelo cr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Duelo retra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Duelo exag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Duelo enmasca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Mix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42876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  <a:ea typeface="Arial"/>
              </a:rPr>
              <a:t>Duelo patológ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6" descr="http://tbn0.google.com/images?q=tbn:254xzZKYnxvm0M:http://www.boloncol.com/images/stories/boletin23/imag05/tristeza.jpg"/>
          <p:cNvPicPr/>
          <p:nvPr/>
        </p:nvPicPr>
        <p:blipFill>
          <a:blip r:embed="rId1"/>
          <a:stretch/>
        </p:blipFill>
        <p:spPr>
          <a:xfrm>
            <a:off x="6715080" y="4357800"/>
            <a:ext cx="2143080" cy="250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76212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uelo en niñ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684360" y="1700280"/>
            <a:ext cx="5459400" cy="47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El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concepto de muert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 evoluciona con el desarrollo, desde punto de vista cognitivo y emo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Niños pequeños poseen pensamiento animístico y mág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El desarrollo del Concepto de Muerte requiere el entendimiento e integración de los siguientes  concept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- Irreversibilidad: entender la muerte como fenómeno perman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- Implica cese total de las fun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- Universalidad: es un fenómeno natural, parte del ciclo vi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- Causalidad: Producida por uno o más fact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5" descr="http://groups.msn.com/_Secure/0TgAAAIAXRpq5Mb6DokTWw2yqX9qDaEMHeAdZIn4hKJjblpj*ETDZBU8p*mkdOVHwSSzAFaLZbBFKs0lVqDli2qL!UH*8QHV1*m7mzbrNJqKAU91O05wcTQ/NiñoyMuerte27.jpg"/>
          <p:cNvPicPr/>
          <p:nvPr/>
        </p:nvPicPr>
        <p:blipFill>
          <a:blip r:embed="rId1"/>
          <a:stretch/>
        </p:blipFill>
        <p:spPr>
          <a:xfrm>
            <a:off x="6286680" y="2500200"/>
            <a:ext cx="2571480" cy="2714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uelo en niñ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28400" y="1428480"/>
            <a:ext cx="5257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Se describen 3 etapas en su desarrollo: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Hasta los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 años los niños viven la muerte como una separación, como dormir, no es un acontecimiento final irreversible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Entre los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5 - 8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 años se produce una “personificación” de la muerte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Alrededor de los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 años se consolida concepto de irreversibilidad, con lo cual se desarrolla concepto realista de la muerte.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uerte es universa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das las funciones de la vida terminan al morir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s permanente e irreversible 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El desarrollo emocional continúa durante toda la vida y la significación de la muerte depende de etapa del ciclo vital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Picture 5" descr="http://img189.echo.cx/img189/1720/ninos9pq.png"/>
          <p:cNvPicPr/>
          <p:nvPr/>
        </p:nvPicPr>
        <p:blipFill>
          <a:blip r:embed="rId1"/>
          <a:stretch/>
        </p:blipFill>
        <p:spPr>
          <a:xfrm>
            <a:off x="6072120" y="3571920"/>
            <a:ext cx="2786040" cy="2857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  <a:ea typeface="Arial"/>
              </a:rPr>
              <a:t>Factores determinantes del duel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611496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Quién era la persona fallecida y el rol que cumplía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La naturaleza del apego o tipo de vínculo que poseían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Tipo de muerte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Variables de personalidad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Variables sociale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Otros tipos de estrés simultáneo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8" name="Picture 5" descr="http://us.123rf.com/400wm/400/400/sarahann/sarahann0706/sarahann070600025/1118946.jpg"/>
          <p:cNvPicPr/>
          <p:nvPr/>
        </p:nvPicPr>
        <p:blipFill>
          <a:blip r:embed="rId1"/>
          <a:stretch/>
        </p:blipFill>
        <p:spPr>
          <a:xfrm>
            <a:off x="5072040" y="3357720"/>
            <a:ext cx="3809880" cy="292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Arial"/>
              </a:rPr>
              <a:t>¿Qué es un Trastorno Adaptativo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57760" y="1856880"/>
            <a:ext cx="48290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Factores estresantes: Únicos-múltipl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Curso: breve recurrente o persistent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Intensidad : leve o sever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Deterioro significativo en actividad familiar, social y escolar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Relación temporal entre evento estresor y la respuesta     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8" name="Picture 2" descr="http://www.institutosantateresadejesus.org/retard1.jpg"/>
          <p:cNvPicPr/>
          <p:nvPr/>
        </p:nvPicPr>
        <p:blipFill>
          <a:blip r:embed="rId1"/>
          <a:stretch/>
        </p:blipFill>
        <p:spPr>
          <a:xfrm>
            <a:off x="428760" y="1857240"/>
            <a:ext cx="3143160" cy="4071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Arial"/>
              </a:rPr>
              <a:t>Consideraciones especia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6840" y="1356840"/>
            <a:ext cx="49719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La muerte en los niños activa numerosas ansiedad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Los niños son muy susceptibles a la alteración de la dinámica familia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Pueden sentirse responsables de la muert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Se resienten por el tiempo dedicado a la persona moribunda, luego sienten culp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Se irritan con sus figuras cercanas por no haber impedido que ocurriera la muert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1" name="Picture 6" descr="http://farm4.static.flickr.com/3270/2318024073_ff0e03dcb9.jpg?v=0"/>
          <p:cNvPicPr/>
          <p:nvPr/>
        </p:nvPicPr>
        <p:blipFill>
          <a:blip r:embed="rId1"/>
          <a:stretch/>
        </p:blipFill>
        <p:spPr>
          <a:xfrm>
            <a:off x="5857920" y="1285920"/>
            <a:ext cx="2857320" cy="471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Arial"/>
              </a:rPr>
              <a:t>¿Qué Hacer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42920" y="1071360"/>
            <a:ext cx="54007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Los niños pueden presentar gran ansiedad, aún sin un concepto total de muerte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No tratar de explicar un concepto que está fuera del nivel de comprensión para la edad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No intentar la tarea de ahorrar el dolor de la pérdida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yudar a expresar el dolor de una manera apropiada al nivel de desarrollo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Compartir el dolor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Tranquilizar al niño sobre la continuidad de sus relaciones con las otras personas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Dejarlos participar en los rituales de despedida.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4" name="Picture 5" descr="http://www.vivirlaperdida.com/IMAGES/cementerio2.jpg"/>
          <p:cNvPicPr/>
          <p:nvPr/>
        </p:nvPicPr>
        <p:blipFill>
          <a:blip r:embed="rId1"/>
          <a:stretch/>
        </p:blipFill>
        <p:spPr>
          <a:xfrm>
            <a:off x="5786280" y="3500280"/>
            <a:ext cx="3143520" cy="281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  <a:ea typeface="Arial"/>
              </a:rPr>
              <a:t>Terapia en el duel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142640"/>
            <a:ext cx="5043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Su objetivo es identificar y resolver los conflictos que imposibilitan la realización de las tareas correspondiente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Implica experimentar pensamientos y sentimientos que el paciente ha estado evitand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El terapeuta proporciona el apoyo y da permiso para elaborar el duel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Picture 5" descr="http://www.funecanarias.es/garbage/72/728379/big_6583712_0_306-397.jpg"/>
          <p:cNvPicPr/>
          <p:nvPr/>
        </p:nvPicPr>
        <p:blipFill>
          <a:blip r:embed="rId1"/>
          <a:stretch/>
        </p:blipFill>
        <p:spPr>
          <a:xfrm>
            <a:off x="5643720" y="2357280"/>
            <a:ext cx="2914560" cy="378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  <a:ea typeface="Arial"/>
              </a:rPr>
              <a:t>¿Qué evitar decir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1285920"/>
            <a:ext cx="590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ra la voluntad de Dios” o “Dios tiene su plan”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    “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Ahora está en un lugar mejor”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ios necesitaba un ángel”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odo sucede por una razón”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“Eres joven, puedes tener más hijos”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“¿No estás agradecida de tener otros hijos más?”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“El tiempo lo cura todo”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ienes que ser fuerte por tu (esposa, marido, hijos, padre, madre)”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“A tu hijo/esposo/padre no le gustaría que estuvieras triste”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“¿Todavía no lo superas?”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“Por lo menos no fue tu hijo mayor”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“Por lo menos ya no está sufriendo”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“No deberías estar triste, fue para mejor”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“Puedes intentar de nuevo”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“Por lo menos tuvo una vida buena”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0" name="Picture 5" descr="http://www.psicodiagnosis.es/images/9_460.jpg"/>
          <p:cNvPicPr/>
          <p:nvPr/>
        </p:nvPicPr>
        <p:blipFill>
          <a:blip r:embed="rId1"/>
          <a:stretch/>
        </p:blipFill>
        <p:spPr>
          <a:xfrm>
            <a:off x="5857920" y="4286160"/>
            <a:ext cx="3071880" cy="2400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  <a:ea typeface="Arial"/>
              </a:rPr>
              <a:t>¿Cuándo ha acabado el duelo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50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Cuando la persona es capaz de pensar en el fallecido sin dolor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Cuando la persona recupera el interés en la vida propia, la sensación de esperanza, siente gratificación y elabora planes para su futuro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Picture 7" descr="escanear0086oc3.jpg"/>
          <p:cNvPicPr/>
          <p:nvPr/>
        </p:nvPicPr>
        <p:blipFill>
          <a:blip r:embed="rId1"/>
          <a:stretch/>
        </p:blipFill>
        <p:spPr>
          <a:xfrm>
            <a:off x="5500800" y="1714680"/>
            <a:ext cx="3357360" cy="442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 Black"/>
              </a:rPr>
              <a:t>Gracias……Preguntas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5" name="Picture 4" descr="http://farm4.static.flickr.com/3554/3593791605_d794b10871_o.jpg"/>
          <p:cNvPicPr/>
          <p:nvPr/>
        </p:nvPicPr>
        <p:blipFill>
          <a:blip r:embed="rId1"/>
          <a:stretch/>
        </p:blipFill>
        <p:spPr>
          <a:xfrm>
            <a:off x="1643040" y="1643040"/>
            <a:ext cx="6019920" cy="4476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  <a:ea typeface="Arial"/>
              </a:rPr>
              <a:t>Epidemiologí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714560" y="1500120"/>
            <a:ext cx="3971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  <a:ea typeface="Arial"/>
              </a:rPr>
              <a:t>Se presentan a cualquier edad y en ambos sexos</a:t>
            </a: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  <a:ea typeface="Arial"/>
              </a:rPr>
              <a:t>Prevalencia:</a:t>
            </a: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  <a:ea typeface="Arial"/>
              </a:rPr>
              <a:t>Hospital Roberto del Río 1998:</a:t>
            </a: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  <a:ea typeface="Arial"/>
              </a:rPr>
              <a:t>-Motivo de consulta más frecuente en Servicio de Psiquiatría Infantil: </a:t>
            </a: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Arial"/>
                <a:ea typeface="Arial"/>
              </a:rPr>
              <a:t>     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  <a:ea typeface="Arial"/>
              </a:rPr>
              <a:t>33%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 del total de consulta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3980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Arial"/>
                <a:ea typeface="Arial"/>
              </a:rPr>
              <a:t>25,6%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 en hombre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3980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Arial"/>
                <a:ea typeface="Arial"/>
              </a:rPr>
              <a:t>27,5%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 en mujere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3980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Arial"/>
                <a:ea typeface="Arial"/>
              </a:rPr>
              <a:t>6,7%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 comorbilidad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Picture 2" descr="http://fundacionannavazquez.files.wordpress.com/2007/08/330.jpg"/>
          <p:cNvPicPr/>
          <p:nvPr/>
        </p:nvPicPr>
        <p:blipFill>
          <a:blip r:embed="rId1"/>
          <a:stretch/>
        </p:blipFill>
        <p:spPr>
          <a:xfrm>
            <a:off x="1000080" y="1643040"/>
            <a:ext cx="3500640" cy="46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  <a:ea typeface="Arial"/>
              </a:rPr>
              <a:t>¿En qué momento se presenta 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85520" y="1285920"/>
            <a:ext cx="38574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406800" indent="-339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Entre los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3 meses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posterior a la exposición al estresor , hasta los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6 meses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posterior a la desaparición de este o sus consecuencia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406800" indent="-339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406800" indent="-339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Si persiste por mas de 6 meses debe reevaluarse y podría ser un Trastorno adaptativo crónico (puede afectar el desarrollo psicológico del niño/adolescente)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406800" indent="-339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" name="Picture 5" descr="http://2.bp.blogspot.com/_iVIFaTzqvV0/R1w7gT1ilwI/AAAAAAAAAAs/ZNgjMroeksI/s320/_42641561_estresspl.jpg"/>
          <p:cNvPicPr/>
          <p:nvPr/>
        </p:nvPicPr>
        <p:blipFill>
          <a:blip r:embed="rId1"/>
          <a:stretch/>
        </p:blipFill>
        <p:spPr>
          <a:xfrm>
            <a:off x="5072040" y="1714680"/>
            <a:ext cx="3286080" cy="471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  <a:ea typeface="Arial"/>
              </a:rPr>
              <a:t>Características del trastorno adaptativ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14040" y="1784520"/>
            <a:ext cx="3871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Arial"/>
              </a:rPr>
              <a:t>Formas de expresión variadas.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Arial"/>
              </a:rPr>
              <a:t>Con frecuencia coexiste sintomatología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Arial"/>
              </a:rPr>
              <a:t>depresiva, ansiosa, conductual somática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Arial"/>
              </a:rPr>
              <a:t>Generalmente desarrollo normal previo.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Picture 6" descr="http://2.bp.blogspot.com/_Ti_EM1H5nCo/SNS4cLW7HLI/AAAAAAAAD5M/CUg0kkdeiXU/s400/21224.jpg"/>
          <p:cNvPicPr/>
          <p:nvPr/>
        </p:nvPicPr>
        <p:blipFill>
          <a:blip r:embed="rId1"/>
          <a:stretch/>
        </p:blipFill>
        <p:spPr>
          <a:xfrm>
            <a:off x="5143680" y="22860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0044ac"/>
                </a:solidFill>
                <a:latin typeface="Arial Black"/>
              </a:rPr>
              <a:t>       </a:t>
            </a:r>
            <a:r>
              <a:rPr b="0" lang="es-CL" sz="5400" spc="-1" strike="noStrike">
                <a:solidFill>
                  <a:srgbClr val="000000"/>
                </a:solidFill>
                <a:latin typeface="Arial"/>
                <a:ea typeface="Arial"/>
              </a:rPr>
              <a:t>Etiología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Rectangle 4"/>
          <p:cNvSpPr/>
          <p:nvPr/>
        </p:nvSpPr>
        <p:spPr>
          <a:xfrm flipV="1" rot="10807200">
            <a:off x="999720" y="1429920"/>
            <a:ext cx="2714760" cy="20001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Estres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5429160" y="1428840"/>
            <a:ext cx="2857680" cy="20001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Vulner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indiv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11 Rectángulo"/>
          <p:cNvSpPr/>
          <p:nvPr/>
        </p:nvSpPr>
        <p:spPr>
          <a:xfrm>
            <a:off x="1143000" y="4000680"/>
            <a:ext cx="214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T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Du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12 Rectángulo"/>
          <p:cNvSpPr/>
          <p:nvPr/>
        </p:nvSpPr>
        <p:spPr>
          <a:xfrm>
            <a:off x="5929200" y="3429000"/>
            <a:ext cx="257184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Intrínsec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emperamento -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xperiencias tempran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xtrínse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isfunción familiar- Red de apoyo Insuficiente-Tipo de cria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http://www.sld.cu/galerias/imagen/saludvida/jovenes/ninoproblema.gif"/>
          <p:cNvPicPr/>
          <p:nvPr/>
        </p:nvPicPr>
        <p:blipFill>
          <a:blip r:embed="rId1"/>
          <a:stretch/>
        </p:blipFill>
        <p:spPr>
          <a:xfrm>
            <a:off x="3214800" y="3500280"/>
            <a:ext cx="2714400" cy="2786400"/>
          </a:xfrm>
          <a:prstGeom prst="rect">
            <a:avLst/>
          </a:prstGeom>
          <a:ln w="0">
            <a:noFill/>
          </a:ln>
        </p:spPr>
      </p:pic>
      <p:sp>
        <p:nvSpPr>
          <p:cNvPr id="114" name="15 Cruz"/>
          <p:cNvSpPr/>
          <p:nvPr/>
        </p:nvSpPr>
        <p:spPr>
          <a:xfrm>
            <a:off x="4214880" y="2071800"/>
            <a:ext cx="628560" cy="557280"/>
          </a:xfrm>
          <a:prstGeom prst="plus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  <a:ea typeface="Arial"/>
              </a:rPr>
              <a:t>Trastorno adaptativo DSM I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85520" y="1356840"/>
            <a:ext cx="442908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Se habla de “trastorno” ya que hay  una respuesta </a:t>
            </a:r>
            <a:r>
              <a:rPr b="1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de más intensidad 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a la esperada por la naturaleza del estresor, o </a:t>
            </a:r>
            <a:r>
              <a:rPr b="1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mayor incapacidad 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social, educacional o laboral que la esperada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 se emplea esta categoría si el trastorno reúne los criterios de una patología específica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 se hace este diagnóstico si los síntomas representan una reacción de duelo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-342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  <a:ea typeface="Arial"/>
              </a:rPr>
              <a:t>La severidad de la </a:t>
            </a:r>
            <a:r>
              <a:rPr b="1" lang="es-MX" sz="2200" spc="-1" strike="noStrike">
                <a:solidFill>
                  <a:srgbClr val="000000"/>
                </a:solidFill>
                <a:latin typeface="Arial"/>
                <a:ea typeface="Arial"/>
              </a:rPr>
              <a:t>reacción no puede predecirse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  <a:ea typeface="Arial"/>
              </a:rPr>
              <a:t> por la intensidad del estresor (variable individual)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411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786280" y="1981080"/>
            <a:ext cx="2671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8" name="Picture 6" descr="http://www.pediatradefamilia.com.ar/imagenes/hermanitas.jpg"/>
          <p:cNvPicPr/>
          <p:nvPr/>
        </p:nvPicPr>
        <p:blipFill>
          <a:blip r:embed="rId1"/>
          <a:stretch/>
        </p:blipFill>
        <p:spPr>
          <a:xfrm>
            <a:off x="5715000" y="2286000"/>
            <a:ext cx="3214800" cy="32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072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  <a:ea typeface="Arial"/>
              </a:rPr>
              <a:t>Trastorno adaptativo DSM I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1785600"/>
            <a:ext cx="4429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Entre el evento desencadenante y la respuesta del individuo hay una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relación temporal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Los síntomas se desarrollan hasta 3 meses después de producido el evento estresante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Se espera que los síntomas se resuelvan a los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6 meses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de terminado este evento (a menos que se trate de estresor crónico)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Los eventos desencadenantes pueden ser de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muy variada naturaleza,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 únicos o múltiples, aislados o crónico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El evento desencadenante puede ser la respuesta a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crisis del desarrollo o a eventos inesperado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Picture 7" descr="http://2.bp.blogspot.com/_JP5FKTWpbQY/SgeNqqK-nxI/AAAAAAAABMc/iPrSadJTMdA/s400/secondaryImage_52.jpg"/>
          <p:cNvPicPr/>
          <p:nvPr/>
        </p:nvPicPr>
        <p:blipFill>
          <a:blip r:embed="rId1"/>
          <a:stretch/>
        </p:blipFill>
        <p:spPr>
          <a:xfrm>
            <a:off x="5000760" y="2143080"/>
            <a:ext cx="3809880" cy="3286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23:39:08Z</dcterms:created>
  <dc:creator>MARCELA</dc:creator>
  <dc:description/>
  <dc:language>en-US</dc:language>
  <cp:lastModifiedBy>MARCELA</cp:lastModifiedBy>
  <dcterms:modified xsi:type="dcterms:W3CDTF">2009-08-10T02:39:17Z</dcterms:modified>
  <cp:revision>98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321033</vt:lpwstr>
  </property>
</Properties>
</file>