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3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12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3.png" ContentType="image/png"/>
  <Override PartName="/ppt/media/image36.jpeg" ContentType="image/jpeg"/>
  <Override PartName="/ppt/media/image40.jpeg" ContentType="image/jpeg"/>
  <Override PartName="/ppt/media/image44.png" ContentType="image/png"/>
  <Override PartName="/ppt/media/image42.jpeg" ContentType="image/jpeg"/>
  <Override PartName="/ppt/media/image39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E62-01EA-4936-86A4-2AA813DA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BFCF-5163-4C76-841D-03485102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C67-8C2D-4ACA-8B2E-82663DBC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9E8-A130-4208-9D14-E73948FD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FE77-83A8-475C-95E1-CBB4E51E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6A59-EAAA-4D1B-B9F0-6B1CC6AF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1D29-5CDC-4C0E-86A0-C8C77354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25BF-9C9F-47D8-83E0-7AD3F821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08D3-D441-468F-BC1B-9AD70895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5FE5-9D70-4030-AE37-FB724C54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5C6F-C662-4805-A1B3-DC4541BE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362-FA48-479D-873A-E2C6DE6C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6790-1F55-4B3D-A1FB-E878E574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E4AB-163B-464D-B43C-FB15F322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62BD-7D96-4636-B52E-BCEFBBA7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02B0-AC3F-467F-9A9A-79DA2A5A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C375-10BA-4B8D-8B64-48C46FA3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081B-7803-4512-81A1-171AAB96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094B6-A240-49E0-B53E-9A7BF885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443BB-E9D6-4297-8EB4-65C5E8E4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8A11C-7F4F-466E-8C9B-CEFBDC96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F0194-6620-4F04-AD23-D4B02EF5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E3B-BC9B-4346-AA8C-19FBDEB0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9EFA2-25A4-4771-8656-A4703AC8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EACDB-3775-41F7-A9B3-044DAD6D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73AEC-2904-44D1-BB11-9A6587D4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34B42-AA4B-4B99-9D25-28C223BE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8D357-4FAD-4738-90E3-6A1F0C4C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6F50-123D-4F0A-A31C-855CCF84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9ADEE-20BB-4B77-811B-0E6E6E62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02817-2800-4503-8AD6-B91C44AC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0394B-9E3C-40B2-9004-2ABBAABD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FFD9B-6835-45FA-BA55-9A47E768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323-C197-4635-A279-83BD3067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6B3B5-2B0A-43D6-8E8E-4A4E9CC2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8BAA2-E898-46CB-A953-17CC62DA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CA5DC-8FF0-44E1-BD73-C452A2A5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135D7-7545-415A-9E3F-BBCB50C0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DCAB5-FD29-49B6-97A5-E3D9A5C2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159D5-2CF9-44EB-901A-5F3BB4C0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6FF8B-5A43-4E84-9631-83761A95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F0D37-024D-4966-BDCB-D07C8798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344BE-D426-4498-87E4-A11CA34F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3B697-D13D-4C71-9CF2-20346E16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D9D-AE4B-4363-93A6-9756E4BB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5E48A-24FA-4712-B78C-03406574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BC99B-EA8C-4DC1-8661-6BD27223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0B7FA-CDF3-4017-A4C3-99DEC240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D3C07-68C8-4AAB-844D-1D198AE9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7FA0F-3038-45F5-9D20-22F5F3CE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92D1C-295E-441C-8A29-92014C7A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04F76-B268-42B2-A5B4-B04CBA77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62793-2743-4322-AC31-E07FBE71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75EF9-1F51-4F47-85F8-8E936CF2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10536-4C69-413C-BA88-BC76E0E6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A8B-AD6E-4645-85B0-80CE955B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92004-6784-4762-95A0-BB69A47F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DBCA7-98B3-4001-B940-849043A6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45FFC-8992-45C5-81E1-5F9D2DEF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7B07E-54D4-47F4-BE19-5EB71691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17476-64FF-40ED-85A1-1DDC4A11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1C80B-F5F6-4959-9B70-F8B86855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F68D1-3E67-4D54-9DE2-B80D144F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B8AE0-2696-4162-99E8-9CA45166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0D3F8-0067-470C-B3D4-870BEB22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69EB9-E572-4D2E-A00C-229D2C86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C583-ACA8-45B1-83E4-F8CAE61C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C5DAB-9D67-4E7D-BA25-7228CEC4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E49F1-CD0A-4DA9-8F1B-C9834C7D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DCF2D-25A9-4614-9FBE-5DA33557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BF3E2-B0DB-4D9E-A01A-C44FB931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68BDE-6649-4401-8DC6-2D3C86B7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1A6FE-45E1-4C39-9A31-4A7817EB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8C3D1-26F4-46A6-AF1F-C9B6BB58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2F0D2-69DC-4160-84F9-9327C603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9D2FA-32F8-4468-8675-ACA3FD43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A4718-6355-44C4-BE6D-C074DA8D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D19-1199-4952-9951-DACA14C6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49CE6-BC0F-4538-962A-82F80F4A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67DE5-FAF9-4E03-B810-C8AD4861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FB3C0-D30F-4F29-96E9-A5E7FBB1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57F36-08FC-4B28-91A0-9997A7E9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67399-85D0-4237-9180-E45D5867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A0853-41A8-4ED5-94FC-85B24FCE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58E48-FC7B-4163-B6F0-ACE020FB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AEF8E-ACAB-4995-8DA1-2535121A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E9E0B-F54B-413A-9D7F-652E9A0E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7BA95-CC47-49A6-89B7-7B8BDF98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F5E-FFB5-47C5-A686-40FF6968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F7FE9-C759-4AA0-8026-28971304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B5484-FD4D-470D-88D2-FE9B36DA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73134-F5BC-494C-B03E-C5CC2E38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06A72-03B1-4302-BE41-377A0DE6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24ED5-C8E4-4AB7-B166-36E6431D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98DA5-A7E9-4F33-8FBB-A89CB180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9947D-6B18-43CA-BD0C-89FD7535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9947-004F-4C64-9ED8-131CFDBDEE5B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159A-452F-4A51-86FE-2E135FDB4591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22F0-1B40-467B-B1C7-316B7CB43937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E869-ED43-4B4D-9BFC-CB93BD38BD9C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43DD-BB3C-4EF6-A93F-989CBA1CEDB8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984000" y="6315480"/>
            <a:ext cx="13474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BB66-266F-4255-A360-C5E5EDCD5BDD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984000" y="6315480"/>
            <a:ext cx="13474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E544-BBCC-4B18-AED5-FC2DED34A3C7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3B67-A164-4F4A-9210-2233902B384F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marceabufhele@gmail.co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066680" y="491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696464"/>
                </a:solidFill>
                <a:latin typeface="Perpetua"/>
              </a:rPr>
              <a:t>V Año Medicina 200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696464"/>
                </a:solidFill>
                <a:latin typeface="Perpetua"/>
              </a:rPr>
              <a:t>Sede Nor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696464"/>
                </a:solidFill>
                <a:latin typeface="Perpetua"/>
              </a:rPr>
              <a:t>Clínica Psiquiátrica Universitar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071360" y="1356840"/>
            <a:ext cx="7086600" cy="18608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Franklin Gothic Book"/>
              </a:rPr>
              <a:t>Curso Psiquiatría Infantil y de la Adolescenc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359" name="Object 4"/>
          <p:cNvGraphicFramePr/>
          <p:nvPr/>
        </p:nvGraphicFramePr>
        <p:xfrm>
          <a:off x="3714840" y="0"/>
          <a:ext cx="102528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0"/>
                    <a:ext cx="10252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42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Agradecimientos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99680" y="1356840"/>
            <a:ext cx="81104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A nuestros paciente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Quienes han sido muy generosos y nos han permitido filmar sesiones de entrevist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es hemos prometido que su uso será exclusivamente profesional y docente. Queremos pedir que se mantenga confidencialida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A los becados y profesionales docentes de la unidad de psiquiatría infantil  CPU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or su tiempo y motivación a colaborar en docenci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A ustedes: por sus deseos de aprender … y motivarnos a hacer una mejor docenci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Al final del curso, les pediremos…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90" name="Picture 4" descr="m4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28890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7"/>
          <p:cNvSpPr/>
          <p:nvPr/>
        </p:nvSpPr>
        <p:spPr>
          <a:xfrm>
            <a:off x="428760" y="4929120"/>
            <a:ext cx="824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34817"/>
                </a:solidFill>
                <a:latin typeface="Tahoma"/>
              </a:rPr>
              <a:t>…</a:t>
            </a:r>
            <a:r>
              <a:rPr b="1" lang="es-CL" sz="4400" spc="-1" strike="noStrike">
                <a:solidFill>
                  <a:srgbClr val="d34817"/>
                </a:solidFill>
                <a:latin typeface="Tahoma"/>
              </a:rPr>
              <a:t>una evaluación del proceso docent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Bibliografía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42960" y="1643040"/>
            <a:ext cx="79675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Psicopatología Infantil y del Adolescente”, de Almonte, Montt y Correa, publicado por Editorial Mediterráneo 2003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Perpetua"/>
              </a:rPr>
              <a:t>Capítulos indicados en el programa.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Apuntes adicionales de docent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Perpetua"/>
              </a:rPr>
              <a:t>Indicados en el programa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Apuntes Psicología evolutiva de 2° Año de Medicina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mafalda"/>
          <p:cNvPicPr/>
          <p:nvPr/>
        </p:nvPicPr>
        <p:blipFill>
          <a:blip r:embed="rId1"/>
          <a:stretch/>
        </p:blipFill>
        <p:spPr>
          <a:xfrm>
            <a:off x="755640" y="142920"/>
            <a:ext cx="7095960" cy="5324400"/>
          </a:xfrm>
          <a:prstGeom prst="rect">
            <a:avLst/>
          </a:prstGeom>
          <a:ln w="0">
            <a:noFill/>
          </a:ln>
        </p:spPr>
      </p:pic>
      <p:sp>
        <p:nvSpPr>
          <p:cNvPr id="395" name="2 CuadroTexto"/>
          <p:cNvSpPr/>
          <p:nvPr/>
        </p:nvSpPr>
        <p:spPr>
          <a:xfrm>
            <a:off x="928800" y="52149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d34817"/>
                </a:solidFill>
                <a:latin typeface="Tahoma"/>
              </a:rPr>
              <a:t>Y que disfruten el curso…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295280" y="3543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Perpetua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Franklin Gothic Book"/>
              </a:rPr>
              <a:t>Psiquiatría de niños y adolescentes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ChildrenSeeChildrenDo.wmv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864396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501040" cy="1082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Psiquiatría Infantil y del adolescent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71680" y="1642680"/>
            <a:ext cx="8115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Especialidad primaria de la medicina cuyo campo de acción es prevención, diagnóstico, tratamiento y rehabilitación de enfermedades mentales del niño y adolescent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Prevención: promoción y fomento de salud mental y </a:t>
            </a:r>
            <a:r>
              <a:rPr b="1" lang="es-CL" sz="2200" spc="-1" strike="noStrike">
                <a:solidFill>
                  <a:srgbClr val="000000"/>
                </a:solidFill>
                <a:latin typeface="Perpetua"/>
              </a:rPr>
              <a:t>desarrollo</a:t>
            </a: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 san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ociendo factores de riesgo y de protección. Factores de Resilienci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iagnóstico, tratamiento y rehabilitación de las patologías mentales y problemas de salud mental que pueden alterar el </a:t>
            </a:r>
            <a:r>
              <a:rPr b="1" lang="es-CL" sz="2200" spc="-1" strike="noStrike">
                <a:solidFill>
                  <a:srgbClr val="000000"/>
                </a:solidFill>
                <a:latin typeface="Perpetua"/>
              </a:rPr>
              <a:t>desarrollo</a:t>
            </a: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 normal y sano de niños y adolescen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mparte campo con neurología infantil y pediatrí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Desarrollo biopsicosoci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28400" y="164304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Adquisición de una identidad biológica, psicológica y social que equilibre las necesidades del individuo con las del contexto social en el que está inserto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Proceso de inducción sucesiva y recíproca entre diferentes sistemas (genética, neurobiología, ambiente familiar, sociocultural, entre otros) que conducen a la construcción  de una persona que es simultáneamente un </a:t>
            </a:r>
            <a:r>
              <a:rPr b="0" i="1" lang="es-ES" sz="2600" spc="-1" strike="noStrike">
                <a:solidFill>
                  <a:srgbClr val="d34817"/>
                </a:solidFill>
                <a:latin typeface="Perpetua"/>
              </a:rPr>
              <a:t>“organismo, un yo y un miembro de la sociedad”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Desarrollo biopsicosoci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¿Por qué es necesario conocer el desarrollo normal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Permite diferenciar conductas normales y patológic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Permite impulsar aspectos preventivos que fomenten desarrollo integral del niñ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Distintos logros en distintos periodos evolutiv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Bebé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, preescolar, escolar, adolescencia, adultez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Integración de distintos context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dividual, familiar, escolar, social, cultur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d34817"/>
                </a:solidFill>
                <a:latin typeface="Franklin Gothic Book"/>
              </a:rPr>
              <a:t>¿Qué tipos de problemas aborda la Psiquiatría del niño y adolescente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lteración o desviación del desarrollo psicológico/psiquiátrico integral de niños y adolescen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fermedades psiquiátricas de inicio en la infancia/adolescenci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fermedades psiquiátricas que se inician a cualquier edad y también en infancia/adolescenci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íntomas psicológicos originados por situaciones vitales y contextuales que afectan al niño/adolescen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íntomas psicológicos que acompañan a enfermedades orgánic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4296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Objetivo del curso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57120" y="1447560"/>
            <a:ext cx="43070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536400" indent="-22392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Perpetua"/>
              </a:rPr>
              <a:t>Formar al futuro médico en los conocimientos y habilidades básicas de la disciplina: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Perpetua"/>
              </a:rPr>
              <a:t>Desempeñar un rol educativo y preventivo de la salud mental del niño y su familia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Perpetua"/>
              </a:rPr>
              <a:t>Diagnóstico y manejo inicial de la patología de la especialidad de consulta más frecuente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3" name="Picture 11" descr="life"/>
          <p:cNvPicPr/>
          <p:nvPr/>
        </p:nvPicPr>
        <p:blipFill>
          <a:blip r:embed="rId1"/>
          <a:stretch/>
        </p:blipFill>
        <p:spPr>
          <a:xfrm>
            <a:off x="4673520" y="1928880"/>
            <a:ext cx="4316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d34817"/>
                </a:solidFill>
                <a:latin typeface="Franklin Gothic Book"/>
              </a:rPr>
              <a:t>Relevancia de psiquiatría infantil en Chil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Edad Adult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36% de la población tenía un trastorno psiquiátrico por lo menos 1 vez en la vid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22,6% refería 1 trastorno en los últimos 6 me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erpetua"/>
              </a:rPr>
              <a:t>Estudio Chileno de prevalencia de patología psiquiátrica. Vicente B., Rioseco P., Saldivia S., Kohn R., Torres S. Rev. Med. Chile. V.130, N°5, Mayo 2002. 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lvl="2" marL="272880" indent="-2728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iños y Adolescent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valencia:  24,2% en escolares y 22,3% en niños mayores de 10 añ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erpetua"/>
              </a:rPr>
              <a:t>Toledo V., De la Barra F., López C., George M., Rodríguez J. en Psicopatología Infantil y de la Adolescencia de Almonte C., Montt M.E., Correa A. Editorial Mediterráneo. 2003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CL" sz="3600" spc="-1" strike="noStrike">
                <a:solidFill>
                  <a:srgbClr val="d34817"/>
                </a:solidFill>
                <a:latin typeface="Franklin Gothic Book"/>
              </a:rPr>
              <a:t> </a:t>
            </a:r>
            <a:r>
              <a:rPr b="0" lang="es-CL" sz="3600" spc="-1" strike="noStrike">
                <a:solidFill>
                  <a:srgbClr val="d34817"/>
                </a:solidFill>
                <a:latin typeface="Franklin Gothic Book"/>
              </a:rPr>
              <a:t>¿Qué tiene de diferente la Psiquiatría infantil y de la adolescencia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714240" y="178596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os síntomas se producen en un ser en </a:t>
            </a: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desarroll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importancia del</a:t>
            </a: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 context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or lo tanto…..su importante rol </a:t>
            </a: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preventiv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1" name="5 Marcador de contenido" descr="untitled.bmp"/>
          <p:cNvPicPr/>
          <p:nvPr/>
        </p:nvPicPr>
        <p:blipFill>
          <a:blip r:embed="rId1"/>
          <a:stretch/>
        </p:blipFill>
        <p:spPr>
          <a:xfrm>
            <a:off x="4951440" y="178596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d34817"/>
                </a:solidFill>
                <a:latin typeface="Franklin Gothic Book"/>
              </a:rPr>
              <a:t>Para analizar las conductas de los niños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500040" y="1773360"/>
            <a:ext cx="431964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ocer el desarrollo normal del ni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nalizar el contexto en que se produce la conduc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ocer intensidad y características de la conduc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terminar incapacidad que produ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4" name="5 Marcador de contenido" descr="niños.jpg"/>
          <p:cNvPicPr/>
          <p:nvPr/>
        </p:nvPicPr>
        <p:blipFill>
          <a:blip r:embed="rId1"/>
          <a:stretch/>
        </p:blipFill>
        <p:spPr>
          <a:xfrm>
            <a:off x="5238720" y="2000160"/>
            <a:ext cx="35877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d34817"/>
                </a:solidFill>
                <a:latin typeface="Franklin Gothic Book"/>
              </a:rPr>
              <a:t>¿Cómo diferenciar una conducta normal de un trastorno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933800" y="164304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Frecuencia inusu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o acorde a edad de desarrollo del niño o adolescen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Ocurre en más de un contexto o ambien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Grado de discapacidad funcional que produce (severidad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iempo de dura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7" name="Picture 10" descr="nautico"/>
          <p:cNvPicPr/>
          <p:nvPr/>
        </p:nvPicPr>
        <p:blipFill>
          <a:blip r:embed="rId1"/>
          <a:stretch/>
        </p:blipFill>
        <p:spPr>
          <a:xfrm>
            <a:off x="1071720" y="1770120"/>
            <a:ext cx="34290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Análisis de la psicopatologí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9" name="6 CuadroTexto"/>
          <p:cNvSpPr/>
          <p:nvPr/>
        </p:nvSpPr>
        <p:spPr>
          <a:xfrm>
            <a:off x="214200" y="1643040"/>
            <a:ext cx="1071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NIÑO/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D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7 CuadroTexto"/>
          <p:cNvSpPr/>
          <p:nvPr/>
        </p:nvSpPr>
        <p:spPr>
          <a:xfrm>
            <a:off x="2143080" y="1643040"/>
            <a:ext cx="1643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8 CuadroTexto"/>
          <p:cNvSpPr/>
          <p:nvPr/>
        </p:nvSpPr>
        <p:spPr>
          <a:xfrm>
            <a:off x="4786200" y="1643040"/>
            <a:ext cx="13575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NTEX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9 CuadroTexto"/>
          <p:cNvSpPr/>
          <p:nvPr/>
        </p:nvSpPr>
        <p:spPr>
          <a:xfrm>
            <a:off x="7000920" y="1643040"/>
            <a:ext cx="1357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INTOM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5" descr="mafalda%20sulla%20sedia"/>
          <p:cNvPicPr/>
          <p:nvPr/>
        </p:nvPicPr>
        <p:blipFill>
          <a:blip r:embed="rId1"/>
          <a:stretch/>
        </p:blipFill>
        <p:spPr>
          <a:xfrm>
            <a:off x="303120" y="2492280"/>
            <a:ext cx="971640" cy="1317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4" descr="manolito"/>
          <p:cNvPicPr/>
          <p:nvPr/>
        </p:nvPicPr>
        <p:blipFill>
          <a:blip r:embed="rId2"/>
          <a:stretch/>
        </p:blipFill>
        <p:spPr>
          <a:xfrm>
            <a:off x="250920" y="4149720"/>
            <a:ext cx="1155600" cy="1441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familia"/>
          <p:cNvPicPr/>
          <p:nvPr/>
        </p:nvPicPr>
        <p:blipFill>
          <a:blip r:embed="rId3"/>
          <a:stretch/>
        </p:blipFill>
        <p:spPr>
          <a:xfrm>
            <a:off x="4857840" y="2143080"/>
            <a:ext cx="1123920" cy="9698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5" descr="profesor"/>
          <p:cNvPicPr/>
          <p:nvPr/>
        </p:nvPicPr>
        <p:blipFill>
          <a:blip r:embed="rId4"/>
          <a:stretch/>
        </p:blipFill>
        <p:spPr>
          <a:xfrm>
            <a:off x="4857840" y="4000680"/>
            <a:ext cx="1428840" cy="10220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0" descr="mafalda_amici"/>
          <p:cNvPicPr/>
          <p:nvPr/>
        </p:nvPicPr>
        <p:blipFill>
          <a:blip r:embed="rId5"/>
          <a:stretch/>
        </p:blipFill>
        <p:spPr>
          <a:xfrm>
            <a:off x="4786200" y="5143680"/>
            <a:ext cx="1776600" cy="9284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8" descr="dinero"/>
          <p:cNvPicPr/>
          <p:nvPr/>
        </p:nvPicPr>
        <p:blipFill>
          <a:blip r:embed="rId6"/>
          <a:stretch/>
        </p:blipFill>
        <p:spPr>
          <a:xfrm>
            <a:off x="5143680" y="3214800"/>
            <a:ext cx="793440" cy="676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http://blog.educastur.es/dcmo/files/2008/10/dibujo-de-corteza-cerebral.jpg"/>
          <p:cNvPicPr/>
          <p:nvPr/>
        </p:nvPicPr>
        <p:blipFill>
          <a:blip r:embed="rId7"/>
          <a:stretch/>
        </p:blipFill>
        <p:spPr>
          <a:xfrm>
            <a:off x="2214720" y="2071800"/>
            <a:ext cx="1373040" cy="11635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5" descr="garfield"/>
          <p:cNvPicPr/>
          <p:nvPr/>
        </p:nvPicPr>
        <p:blipFill>
          <a:blip r:embed="rId8"/>
          <a:stretch/>
        </p:blipFill>
        <p:spPr>
          <a:xfrm>
            <a:off x="2286000" y="3338640"/>
            <a:ext cx="857160" cy="1162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6" descr="bbarrosoir"/>
          <p:cNvPicPr/>
          <p:nvPr/>
        </p:nvPicPr>
        <p:blipFill>
          <a:blip r:embed="rId9"/>
          <a:stretch/>
        </p:blipFill>
        <p:spPr>
          <a:xfrm>
            <a:off x="2286000" y="4357800"/>
            <a:ext cx="1228680" cy="12110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2" descr="20051214183134-rayo"/>
          <p:cNvPicPr/>
          <p:nvPr/>
        </p:nvPicPr>
        <p:blipFill>
          <a:blip r:embed="rId10"/>
          <a:stretch/>
        </p:blipFill>
        <p:spPr>
          <a:xfrm>
            <a:off x="7072200" y="2214720"/>
            <a:ext cx="1117800" cy="1295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0" descr="illustration_02"/>
          <p:cNvPicPr/>
          <p:nvPr/>
        </p:nvPicPr>
        <p:blipFill>
          <a:blip r:embed="rId11"/>
          <a:stretch/>
        </p:blipFill>
        <p:spPr>
          <a:xfrm>
            <a:off x="7143840" y="3857760"/>
            <a:ext cx="1730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l diagnóstico en Psiquiatría Infantil es (principalmente) clínic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14400" y="1643040"/>
            <a:ext cx="374976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quiere de una cuidadosa historia clínica y examen ment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36" name="5 Marcador de contenido" descr="niños jugando.bmp"/>
          <p:cNvPicPr/>
          <p:nvPr/>
        </p:nvPicPr>
        <p:blipFill>
          <a:blip r:embed="rId1"/>
          <a:stretch/>
        </p:blipFill>
        <p:spPr>
          <a:xfrm>
            <a:off x="5351400" y="1685880"/>
            <a:ext cx="2914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5" descr="padres"/>
          <p:cNvPicPr/>
          <p:nvPr/>
        </p:nvPicPr>
        <p:blipFill>
          <a:blip r:embed="rId1"/>
          <a:stretch/>
        </p:blipFill>
        <p:spPr>
          <a:xfrm>
            <a:off x="2195640" y="1989000"/>
            <a:ext cx="4752720" cy="344016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24"/>
          <p:cNvSpPr/>
          <p:nvPr/>
        </p:nvSpPr>
        <p:spPr>
          <a:xfrm>
            <a:off x="2700360" y="115920"/>
            <a:ext cx="433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Y la información se obtiene (principalmente) de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Y de otras fuentes</a:t>
            </a: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41" name="6 Marcador de contenido" descr="profesores.gif"/>
          <p:cNvPicPr/>
          <p:nvPr/>
        </p:nvPicPr>
        <p:blipFill>
          <a:blip r:embed="rId1"/>
          <a:stretch/>
        </p:blipFill>
        <p:spPr>
          <a:xfrm>
            <a:off x="571680" y="1571760"/>
            <a:ext cx="2781000" cy="38764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pediatra"/>
          <p:cNvPicPr/>
          <p:nvPr/>
        </p:nvPicPr>
        <p:blipFill>
          <a:blip r:embed="rId2"/>
          <a:stretch/>
        </p:blipFill>
        <p:spPr>
          <a:xfrm>
            <a:off x="5715000" y="1000080"/>
            <a:ext cx="2238480" cy="27972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0" descr="Resource2"/>
          <p:cNvPicPr/>
          <p:nvPr/>
        </p:nvPicPr>
        <p:blipFill>
          <a:blip r:embed="rId3"/>
          <a:stretch/>
        </p:blipFill>
        <p:spPr>
          <a:xfrm>
            <a:off x="6215040" y="4146480"/>
            <a:ext cx="2805120" cy="2216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C:\Users\usuario\Pictures\Abuelos2.jpg"/>
          <p:cNvPicPr/>
          <p:nvPr/>
        </p:nvPicPr>
        <p:blipFill>
          <a:blip r:embed="rId4"/>
          <a:stretch/>
        </p:blipFill>
        <p:spPr>
          <a:xfrm>
            <a:off x="3571920" y="4071960"/>
            <a:ext cx="22096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Procedimientos diagnóstico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trevista clínica al niño y a los padr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Historia dificultades actual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Historia del desarroll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amen ment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amen neurológico y fís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ploración familia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forme escola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psicológic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fonoaudiológica y T.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por asistente social</a:t>
            </a: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terconsulta a otros especialista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boratorio y radiología: hormonas tiroídeas, EEG, TAC, RNM; Spec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ntrevista a niños y adolescent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71680" y="1447560"/>
            <a:ext cx="409248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 actitud cálida y empática,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reguntar si sabe por qué viene a la consult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499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Hablar sobre áreas de interés del niño, acercándose discretamente al área problemátic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499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Niño pequeño: se puede jugar con el niño, dibujar con él, o dejarlo dibujar en forma libr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499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Mientras se interactúa se va realizando examen mental del niñ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51" name="Picture 6" descr="2005"/>
          <p:cNvPicPr/>
          <p:nvPr/>
        </p:nvPicPr>
        <p:blipFill>
          <a:blip r:embed="rId1"/>
          <a:stretch/>
        </p:blipFill>
        <p:spPr>
          <a:xfrm>
            <a:off x="4933800" y="2300400"/>
            <a:ext cx="37497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Características generales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760" y="1571400"/>
            <a:ext cx="846432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Perpetua"/>
              </a:rPr>
              <a:t>Este curso está organizado con la colaboración de las </a:t>
            </a: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unidades docentes Norte, Oriente y Sur</a:t>
            </a:r>
            <a:r>
              <a:rPr b="0" lang="es-ES_tradnl" sz="2800" spc="-1" strike="noStrike">
                <a:solidFill>
                  <a:srgbClr val="000000"/>
                </a:solidFill>
                <a:latin typeface="Perpetua"/>
              </a:rPr>
              <a:t> de la Universidad de Chi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Impartiéndose un programa común para todos los campus de la Facultad de Medicina de la Universidad de Chil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Perpetua"/>
              </a:rPr>
              <a:t>Se ha realizado un esfuerzo por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Privilegiar las temáticas relevantes para el médico general, considerando el escaso tiempo disponib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Privilegiar las actividades práctica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ntrevista a niños y adolescent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99680" y="1447560"/>
            <a:ext cx="416412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 mayor edad mayor uso de técnicas verbales de comunicació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decuar lenguaje a nivel de desarrollo del niñ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dolescentes: darles espacio, entrevistarlo sol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Nunca entrevistar solo a los padr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Siempre preguntar en que le gustaría recibir ayuda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54" name="4 Marcador de contenido" descr="adolescentes.jpg"/>
          <p:cNvPicPr/>
          <p:nvPr/>
        </p:nvPicPr>
        <p:blipFill>
          <a:blip r:embed="rId1"/>
          <a:stretch/>
        </p:blipFill>
        <p:spPr>
          <a:xfrm>
            <a:off x="4933800" y="1477800"/>
            <a:ext cx="37497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ntrevista a los padr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14200" y="1447560"/>
            <a:ext cx="47865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Perpetua"/>
              </a:rPr>
              <a:t>Motivo de consulta - anamnes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80320" indent="-321840">
              <a:lnSpc>
                <a:spcPct val="90000"/>
              </a:lnSpc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Desde cuándo se produce la conducta que les preocup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38440" indent="-321840">
              <a:lnSpc>
                <a:spcPct val="90000"/>
              </a:lnSpc>
              <a:spcBef>
                <a:spcPts val="499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¿Desde “siempre” o desde un determinado momento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80320" indent="-321840">
              <a:lnSpc>
                <a:spcPct val="90000"/>
              </a:lnSpc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En qué contexto se produc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80320" indent="-321840">
              <a:lnSpc>
                <a:spcPct val="90000"/>
              </a:lnSpc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A qué lo atribuyen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80320" indent="-321840">
              <a:lnSpc>
                <a:spcPct val="90000"/>
              </a:lnSpc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Qué soluciones han intentado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80320" indent="-321840">
              <a:lnSpc>
                <a:spcPct val="90000"/>
              </a:lnSpc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Por qué consultan ahor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80320" indent="-321840">
              <a:lnSpc>
                <a:spcPct val="90000"/>
              </a:lnSpc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Qué esperan de la consulta?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5072040" y="1447920"/>
            <a:ext cx="39290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00"/>
                </a:solidFill>
                <a:uFillTx/>
                <a:latin typeface="Perpetua"/>
              </a:rPr>
              <a:t>Historia del desarroll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mbarazo- part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emperamento-Vincul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esarrollo psicomot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esarrollo evolutivo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Lactan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reescola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Escola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dolescenci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ntecedentes médicos y psiquiátrico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ersonales y familia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34817"/>
                </a:solidFill>
                <a:latin typeface="Franklin Gothic Book"/>
              </a:rPr>
              <a:t>Examen mental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28592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Apariencia gener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ntacto y actitu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nciencia y orientación TE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Sensopercep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sicomotricidad -conducta motor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nguaj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ensamiento –cognición- Estimación CI – juicio realid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60" name="4 Marcador de contenido" descr="examen mental.bmp"/>
          <p:cNvPicPr/>
          <p:nvPr/>
        </p:nvPicPr>
        <p:blipFill>
          <a:blip r:embed="rId1"/>
          <a:stretch/>
        </p:blipFill>
        <p:spPr>
          <a:xfrm>
            <a:off x="5643720" y="1071720"/>
            <a:ext cx="2185920" cy="21859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Afectivid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nciencia enfermed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lación consigo mism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lación con otr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xploración Famili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Funcionalidad familiar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omueve desarrollo de todos sus miembr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dultos (padres) cuidan y protegen a niños (hijo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oporciona satisfacción de necesidades nutricias y normativ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64" name="4 Marcador de contenido" descr="familia.jpg"/>
          <p:cNvPicPr/>
          <p:nvPr/>
        </p:nvPicPr>
        <p:blipFill>
          <a:blip r:embed="rId1"/>
          <a:stretch/>
        </p:blipFill>
        <p:spPr>
          <a:xfrm>
            <a:off x="5397480" y="1743120"/>
            <a:ext cx="2540160" cy="19000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ubsistema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6120" indent="-273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yug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6120" indent="-273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arent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6120" indent="-273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arento-fili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6120" indent="-273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Fratern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xploración Familiar: rol parent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67" name="Picture 4" descr="student_discipline_head_photo"/>
          <p:cNvPicPr/>
          <p:nvPr/>
        </p:nvPicPr>
        <p:blipFill>
          <a:blip r:embed="rId1"/>
          <a:stretch/>
        </p:blipFill>
        <p:spPr>
          <a:xfrm>
            <a:off x="4643280" y="2276640"/>
            <a:ext cx="4286520" cy="2828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Our%20Family%20Love"/>
          <p:cNvPicPr/>
          <p:nvPr/>
        </p:nvPicPr>
        <p:blipFill>
          <a:blip r:embed="rId2"/>
          <a:stretch/>
        </p:blipFill>
        <p:spPr>
          <a:xfrm>
            <a:off x="1116000" y="1413000"/>
            <a:ext cx="2914560" cy="473364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1426320" y="628668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34817"/>
                </a:solidFill>
                <a:latin typeface="Tahoma"/>
              </a:rPr>
              <a:t>Rol nutricio/afec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5594400" y="62056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34817"/>
                </a:solidFill>
                <a:latin typeface="Tahoma"/>
              </a:rPr>
              <a:t>Rol norma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5716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xploración familiar: crianz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914400" y="1447920"/>
            <a:ext cx="374976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oceso en que se logra que un bebé dependiente llegue a ser adulto independien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Familia debiera ser una plataforma de despegu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ero… lanzar un cohete al espacio (uno que funcione) implica realizar tareas muy demandan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73" name="4 Marcador de contenido" descr="cohete 3.jpg"/>
          <p:cNvPicPr/>
          <p:nvPr/>
        </p:nvPicPr>
        <p:blipFill>
          <a:blip r:embed="rId1"/>
          <a:stretch/>
        </p:blipFill>
        <p:spPr>
          <a:xfrm>
            <a:off x="5243400" y="1447920"/>
            <a:ext cx="3130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xploración familiar: </a:t>
            </a:r>
            <a:br>
              <a:rPr sz="4000"/>
            </a:b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quilibrio crianza ¿difici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stilos de los pad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8320" y="2285640"/>
            <a:ext cx="40384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mperamento de los hij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77" name="7 Marcador de contenido" descr="niños equilibrio.jpg"/>
          <p:cNvPicPr/>
          <p:nvPr/>
        </p:nvPicPr>
        <p:blipFill>
          <a:blip r:embed="rId1"/>
          <a:stretch/>
        </p:blipFill>
        <p:spPr>
          <a:xfrm>
            <a:off x="1962000" y="3143160"/>
            <a:ext cx="4896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Procedimientos diagnóstico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trevista clínica al niño y a los padr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Historia dificultades actual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Historia del desarroll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amen ment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amen neurológico y fís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ploración familia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forme escola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psicológic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fonoaudiológica y T.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por asistente social</a:t>
            </a: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terconsulta a otros especialista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boratorio y radiología: hormonas tiroídeas, EEG, TAC, RNM; Spec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Psicopatología: interjuego entre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d34817"/>
                </a:solidFill>
                <a:latin typeface="Franklin Gothic Book"/>
              </a:rPr>
              <a:t>Factores de riesg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d34817"/>
                </a:solidFill>
                <a:latin typeface="Franklin Gothic Book"/>
              </a:rPr>
              <a:t>Factores protecto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00ff"/>
                </a:solidFill>
                <a:latin typeface="Perpetua"/>
              </a:rPr>
              <a:t>Biológicos:</a:t>
            </a: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 Consumo sustancias tóxicas. Genética. Prematurez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00ff"/>
                </a:solidFill>
                <a:latin typeface="Perpetua"/>
              </a:rPr>
              <a:t>Psicológicos:</a:t>
            </a: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 Disfunción  familiar, enfermedad mental de un padre, duelos en la familia, abuso o maltrato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00ff"/>
                </a:solidFill>
                <a:latin typeface="Perpetua"/>
              </a:rPr>
              <a:t>Sociales:</a:t>
            </a: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 crianza en instituciones o en situación de aislamiento o peligro. Pobreza, marginalidad. Sufrir discriminación, persecución. Ser testigo de violencia social. Catástrofes.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teligencia norma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emperamento “fácil”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alento espe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elación significativa cálida y amoros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ntar con red de apoy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ener oportunidad de experiencias positivas en un setting diferen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Psicopatología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214200" y="2394000"/>
          <a:ext cx="8786880" cy="2820960"/>
        </p:xfrm>
        <a:graphic>
          <a:graphicData uri="http://schemas.openxmlformats.org/drawingml/2006/table">
            <a:tbl>
              <a:tblPr/>
              <a:tblGrid>
                <a:gridCol w="1928880"/>
                <a:gridCol w="1585800"/>
                <a:gridCol w="1757520"/>
                <a:gridCol w="1355760"/>
                <a:gridCol w="2158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AC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iológ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sicológ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amili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ociocul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edispon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ecipit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erpetu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tec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543800" cy="1052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Docentes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4572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EC: Dra. Margarita Maida (sede Oriente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Coordinadores Sede Norte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Dra. Marcela Abufhe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siquiatra Infantil CPU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marceabufhele@gmail.c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Dra. Marcela Matamal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siquiatra Infant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400" spc="-1" strike="noStrike" u="sng">
                <a:solidFill>
                  <a:srgbClr val="cc9900"/>
                </a:solidFill>
                <a:uFillTx/>
                <a:latin typeface="Perpetua"/>
              </a:rPr>
              <a:t>mxmbcl@yahoo.c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8" name="Picture 5" descr="escuela"/>
          <p:cNvPicPr/>
          <p:nvPr/>
        </p:nvPicPr>
        <p:blipFill>
          <a:blip r:embed="rId2"/>
          <a:stretch/>
        </p:blipFill>
        <p:spPr>
          <a:xfrm>
            <a:off x="4941720" y="1571760"/>
            <a:ext cx="3773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Diagnósticos en psiquiatría infanti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uadros clínicos difíciles de delimita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56320">
              <a:lnSpc>
                <a:spcPct val="90000"/>
              </a:lnSpc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… </a:t>
            </a: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y de encontrar un caso “puro”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Síntomas se superponen de un cuadro a otro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56320">
              <a:lnSpc>
                <a:spcPct val="90000"/>
              </a:lnSpc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Alta comorbilidad (46.7%)”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Diagnóstico es clínico, basado en la historia y en exámenes psicológico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No hay exámenes de laboratorio que nos permitan definir el diagnóstic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Diagnósticos han variado con el tiempo y cultur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91" name="8 Marcador de contenido" descr="psiquiatria.jpg"/>
          <p:cNvPicPr/>
          <p:nvPr/>
        </p:nvPicPr>
        <p:blipFill>
          <a:blip r:embed="rId1"/>
          <a:stretch/>
        </p:blipFill>
        <p:spPr>
          <a:xfrm>
            <a:off x="4933800" y="2214720"/>
            <a:ext cx="397044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7092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Diagnóstico Multiaxial CIE-10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42960" y="114300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Eje I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Sd psiquiátrico clínic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Eje II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r. Específicos del desarrollo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Eje III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ivel intelectu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Eje IV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nfermedad médica asociad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Eje V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stresores psicosoci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Eje VI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Discapacidad soc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lementos de tratamiento en Psiquiatría Infanti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71680" y="1643040"/>
            <a:ext cx="4092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sicoeducación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Manejo conductual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sicoterapia individual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sicoterapia de grup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Terapia de famili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Hospitalizacion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sicofarmacoterapia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Rehabilitación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96" name="Picture 9" descr="tzun203l"/>
          <p:cNvPicPr/>
          <p:nvPr/>
        </p:nvPicPr>
        <p:blipFill>
          <a:blip r:embed="rId1"/>
          <a:stretch/>
        </p:blipFill>
        <p:spPr>
          <a:xfrm>
            <a:off x="4929120" y="1714680"/>
            <a:ext cx="38451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7128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pidemiología psiquiátric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71424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valencia trastornos psiquiátricos: 24,2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atologías más frecuentes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Trastornos adaptativos y déficit atencion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iferencias por géner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Varones: trastornos del desarrollo y de conduct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Mujeres: emocionales e intentos suicida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965480" y="1447920"/>
            <a:ext cx="374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iferencias según período evolutiv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reescolares: madurez SNC y proceso de individuació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Escolares: inserción al sistema escolar, integración a nuevos grupos, rendimiento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isfunción familiar: 53% ambulatorio y 67% hospitalizad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0" name="6 CuadroTexto"/>
          <p:cNvSpPr/>
          <p:nvPr/>
        </p:nvSpPr>
        <p:spPr>
          <a:xfrm>
            <a:off x="3000240" y="6181560"/>
            <a:ext cx="592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Psicopatología Infantil y de la Adolescencia de Almonte C., Montt M.E., Correa A. Editorial Mediterráneo. 200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Conducta ética con el pacient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4296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uestro paciente es el niño….pero depende de adultos que lo cuida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spetar sus derechos y cuidar su bienest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Dilemas éticos que surgen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sentimient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fidencialida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03" name="Picture 5" descr="FamilyStudies"/>
          <p:cNvPicPr/>
          <p:nvPr/>
        </p:nvPicPr>
        <p:blipFill>
          <a:blip r:embed="rId1"/>
          <a:stretch/>
        </p:blipFill>
        <p:spPr>
          <a:xfrm>
            <a:off x="4859280" y="1989000"/>
            <a:ext cx="36496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Consentimiento en psiquiatría infantil y de la adolescenc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42960" y="164304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Debido a las limitaciones de la experiencia y del desarrollo cognitivo y moral, el consentimiento, desde el punto de vista legal, es concedido por los padres….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Sin embargo, el médico,  desde la perspectiva bioética, debiera promover la participación del niño y del adolescente en la medida que su desarrollo y su capacidad lo permi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933800" y="164304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Qué pasa en el caso que los padres a cargo del niño no actúen en pos del bienestar del menor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No se puede permitir que un paciente sufra daño porque sus padres rechazan el tratamiento o insisten en tratamiento innecesari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Confidencialidad en psiquiatría de niños y adolescent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914400" y="16430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Respetar siempre autonomía del paciente y derecho a su confidencialid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Límites confidencialidad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Contenidos revelados constituyen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Amenaza a la integridad física propia o ajena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Suicidalidad – homicid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Conductas de riesg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Se refieren a hechos delictuales (maltratos y abusos sexuales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38160">
            <a:solidFill>
              <a:srgbClr val="d34817"/>
            </a:solidFill>
            <a:miter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RECAPITULAND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14400" y="16430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ara abordar la salud mental de niños y adolescentes es importante diferenciar las conductas normales de las patológic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Para ello, hay que conocer muy bien el desarrollo normal: qué se espera a qué edad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ara poder analizar las conductas necesitamos varios observadores en distintos contexto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Y… en psiquiatría infantil, los diagnósticos son fundamentalmente clínic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Se requiere especialmente una actitud ética y profesional, siempre pensando en beneficio del niñ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6"/>
          <p:cNvSpPr/>
          <p:nvPr/>
        </p:nvSpPr>
        <p:spPr>
          <a:xfrm>
            <a:off x="4192560" y="549360"/>
            <a:ext cx="3403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4011480" y="754200"/>
            <a:ext cx="19288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3" name="Picture 11" descr="Mafalda2"/>
          <p:cNvPicPr/>
          <p:nvPr/>
        </p:nvPicPr>
        <p:blipFill>
          <a:blip r:embed="rId1"/>
          <a:stretch/>
        </p:blipFill>
        <p:spPr>
          <a:xfrm>
            <a:off x="2411280" y="1557360"/>
            <a:ext cx="4248360" cy="287640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15"/>
          <p:cNvSpPr/>
          <p:nvPr/>
        </p:nvSpPr>
        <p:spPr>
          <a:xfrm>
            <a:off x="2214720" y="4941720"/>
            <a:ext cx="38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d34817"/>
                </a:solidFill>
                <a:latin typeface="Tahoma"/>
              </a:rPr>
              <a:t>Muchas Gracia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213840"/>
            <a:ext cx="7543800" cy="1094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Docentes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56760" y="1428840"/>
            <a:ext cx="4800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Dr. Ricardo García (Jefe Unidad de psiquiatría del niño y adolescente CPU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Dr. Carlos Almon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Ps. Karla Alvarez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r. Elías Ara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ra. Muriel Halper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Dra. Ma José Villa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ra.  </a:t>
            </a: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Marcela Larraguib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Ps. María Elena Mont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Dr. Juan Enrique Sepúlved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Perpetua"/>
              </a:rPr>
              <a:t>Becados psiquiatría infantil y de la adolescencia CPU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1" name="Picture 21" descr="doctor-cartoon"/>
          <p:cNvPicPr/>
          <p:nvPr/>
        </p:nvPicPr>
        <p:blipFill>
          <a:blip r:embed="rId1"/>
          <a:stretch/>
        </p:blipFill>
        <p:spPr>
          <a:xfrm>
            <a:off x="5468760" y="1643040"/>
            <a:ext cx="3143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Modalidad de trabajo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42960" y="1447560"/>
            <a:ext cx="37497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2 módulos paralelo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ardes: 29 Julio al 21 de Octub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Módulo teórico- práct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Miércoles 14:00hrs a 17:00h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90000"/>
              </a:lnSpc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Clase expositiva: en auditorio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90000"/>
              </a:lnSpc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Taller práctico: en grupos pequeños: discusión casos clínicos, videos, etc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933800" y="1785960"/>
            <a:ext cx="37497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emana Práctic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Una semana 7-11 de Septiembr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Mañanas (8:30-12:30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90000"/>
              </a:lnSpc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ctividad práctica con pacient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90000"/>
              </a:lnSpc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Realización de entrevistas, discusión casos clínicos, et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5" name="Picture 4" descr="opera"/>
          <p:cNvPicPr/>
          <p:nvPr/>
        </p:nvPicPr>
        <p:blipFill>
          <a:blip r:embed="rId1"/>
          <a:stretch/>
        </p:blipFill>
        <p:spPr>
          <a:xfrm>
            <a:off x="3786120" y="4714920"/>
            <a:ext cx="23590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52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Evaluación del curso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77" name="Picture 6" descr="mafalda_pacifista"/>
          <p:cNvPicPr/>
          <p:nvPr/>
        </p:nvPicPr>
        <p:blipFill>
          <a:blip r:embed="rId1"/>
          <a:stretch/>
        </p:blipFill>
        <p:spPr>
          <a:xfrm>
            <a:off x="900000" y="1928880"/>
            <a:ext cx="2943360" cy="4114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071960" y="1642680"/>
            <a:ext cx="48592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ueba I elección múltiple 50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ueba I desarrollo corto   25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ueba II desarrollo corto  25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sentación a examen     70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amen (E.M)                    30%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Oval 8"/>
          <p:cNvSpPr/>
          <p:nvPr/>
        </p:nvSpPr>
        <p:spPr>
          <a:xfrm>
            <a:off x="1403280" y="2278080"/>
            <a:ext cx="1656000" cy="934920"/>
          </a:xfrm>
          <a:prstGeom prst="ellipse">
            <a:avLst/>
          </a:prstGeom>
          <a:solidFill>
            <a:srgbClr val="d0ce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¡ay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7358040" y="3071880"/>
            <a:ext cx="14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7715160" y="328608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Comunicación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39765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lara y fluida entre docentes y alumn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ordinadoras y encargados de grupo a su disposición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udas o consultas: en persona o vía mail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elegado curs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Perpetua"/>
              </a:rPr>
              <a:t>Puente entre profesores y alumnos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Perpetua"/>
              </a:rPr>
              <a:t>Que tenga correo electrónico y lo lea todos los días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elegado grup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4" name="Picture 9" descr="principito"/>
          <p:cNvPicPr/>
          <p:nvPr/>
        </p:nvPicPr>
        <p:blipFill>
          <a:blip r:embed="rId1"/>
          <a:stretch/>
        </p:blipFill>
        <p:spPr>
          <a:xfrm>
            <a:off x="4915080" y="1928880"/>
            <a:ext cx="39574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Algunos “límites”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14240" y="1428840"/>
            <a:ext cx="78962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Asistencia 100% obligatoria a actividades práctica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Inasistencias (2) justificadas a sus docente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Recuperación en la semana de las olimpiadas de la facultad y vacaciones septiembr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Recuperación pruebas: Modalidad oral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ueba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ntenidos: clases, talleres, </a:t>
            </a:r>
            <a:r>
              <a:rPr b="1" lang="es-CL" sz="2200" spc="-1" strike="noStrike">
                <a:solidFill>
                  <a:srgbClr val="000000"/>
                </a:solidFill>
                <a:latin typeface="Perpetua"/>
              </a:rPr>
              <a:t>estudio personal</a:t>
            </a: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, apunt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esarrollo normal: responsabilidad individual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ntenido ES acumulativ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Actitud ética y profesion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n compañeros, docentes y pacient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3T21:01:15Z</dcterms:created>
  <dc:creator>marcela</dc:creator>
  <dc:description/>
  <dc:language>en-US</dc:language>
  <cp:lastModifiedBy>usuario</cp:lastModifiedBy>
  <dcterms:modified xsi:type="dcterms:W3CDTF">2009-07-29T17:38:24Z</dcterms:modified>
  <cp:revision>54</cp:revision>
  <dc:subject/>
  <dc:title>Introducción Curso Psiquiatría Infantil y de la Adolescencia</dc:title>
</cp:coreProperties>
</file>