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8A2E-078E-45CE-8E56-2FC489AA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745-A022-4F8E-AF87-AD5CCB7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0F2-E28F-43F9-8E27-3EC6C29F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76E-6F02-4EAC-9E15-645B71337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936-C800-4D79-902C-39D4C230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000-CA51-4913-925E-09F4249B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424-C67A-45C2-8457-258F374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74E-B4DC-492D-A576-6186A73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A7A-ED33-4001-A7F2-9CEA0D6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618-FDAA-453A-9D3B-E604B812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E41-9970-4167-B898-6B46605F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963-7510-4F37-896D-B31F3F0A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7FF9-2989-4026-8DB4-1EE155B0FD3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ejo de Lesiones de Extremidad Sup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" y="6165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siología del Deport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iángulo de Stan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768920" cy="4595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iángulo de Stan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56000" y="2212920"/>
            <a:ext cx="5040360" cy="4483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habilitación lesiones de hom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ción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514512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iones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4280" y="2421000"/>
            <a:ext cx="39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condilitis lateral: sobre el 50% de atletas que usan movimientos de ele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icondilitis lateral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920" y="2368440"/>
            <a:ext cx="61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excesivo de musculatura extensora de muñe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conservador (neurodinam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x si no hay evolución luego de 6 a 12 meses de tratamiento conser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6572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icondilitis medial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5720" y="1628640"/>
            <a:ext cx="3159360" cy="522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" y="2368440"/>
            <a:ext cx="61214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lestias en el origen de la musculatura flexora y pronadora (interface entre el pronator teres y flexor carpi radialis origin). Golfistas y tenistas debido al trauma repetido en estrés en v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iones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41632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causa menos común es la lesión del ligamento colateral medial (evaluar ines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7000" y="1628640"/>
            <a:ext cx="31590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3403440"/>
            <a:ext cx="21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24360" y="1806480"/>
            <a:ext cx="5219640" cy="50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3120" y="2195640"/>
            <a:ext cx="40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36360" y="3602160"/>
            <a:ext cx="4752720" cy="269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427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AP en lesiones de E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3120" y="2195640"/>
            <a:ext cx="86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, Objective, Assessment and Pl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2838600"/>
            <a:ext cx="4173480" cy="3903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3120" y="2195640"/>
            <a:ext cx="40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5216400" cy="290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6000" y="2195640"/>
            <a:ext cx="318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219564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3187800"/>
            <a:ext cx="831708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iones A-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7489800" cy="4551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nguito rot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01680" y="2533680"/>
            <a:ext cx="673884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ol del supraespin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197080"/>
            <a:ext cx="755964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es compresivos y ele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814400"/>
            <a:ext cx="655164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iología in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8720" y="2060640"/>
            <a:ext cx="3888000" cy="44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43684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4:17:20Z</dcterms:created>
  <dc:creator>Medicina</dc:creator>
  <dc:description/>
  <dc:language>en-US</dc:language>
  <cp:lastModifiedBy>Marcelo Cano</cp:lastModifiedBy>
  <dcterms:modified xsi:type="dcterms:W3CDTF">2009-09-10T17:40:13Z</dcterms:modified>
  <cp:revision>43</cp:revision>
  <dc:subject/>
  <dc:title>Manejo de Lesiones de Extremidad Inferior</dc:title>
</cp:coreProperties>
</file>