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DC8-BF20-4904-A51E-A124AD95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BC5-94D3-491D-9415-F91E9978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923-34BB-4319-A2FF-90442BF6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881-AE06-4305-9E77-8AA32C87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480-30D7-41E1-9DA5-26C3EB8D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DFE2-A06A-4DC1-B3E8-4F773D5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634-1D2A-478A-BD25-877B3DD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79B-E55E-4A8A-8AE3-3AD720F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CCA-812F-4A53-BC03-7E3D9A2F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514-FB8C-44F6-8C91-F39CD050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AF7-952E-480C-8DC0-086DD3F6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7C6-6744-44DF-A0CE-10719A40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A01-5DAA-454E-9D12-AE987FDB59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ejo de Lesiones de Extremidad Sup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40" y="6165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siología del Deport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iángulo de Stan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4768920" cy="4595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iángulo de Stan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2820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56000" y="2212920"/>
            <a:ext cx="5040360" cy="4483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habilitación lesiones de hom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ción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1523880"/>
            <a:ext cx="514512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iones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14280" y="2421000"/>
            <a:ext cx="397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condilitis lateral: sobre el 50% de atletas que usan movimientos de ele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159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3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icondilitis lateral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920" y="2368440"/>
            <a:ext cx="612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excesivo de musculatura extensora de muñe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conservador (neurodinam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x si no hay evolución luego de 6 a 12 meses de tratamiento conser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65720" y="1628640"/>
            <a:ext cx="3159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3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picondilitis medial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65720" y="1628640"/>
            <a:ext cx="3159360" cy="5229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920" y="2368440"/>
            <a:ext cx="612144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lestias en el origen de la musculatura flexora y pronadora (interface entre el pronator teres y flexor carpi radialis origin). Golfistas y tenistas debido al trauma repetido en estrés en val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iones de co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241632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causa menos común es la lesión del ligamento colateral medial (evaluar ines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77000" y="1628640"/>
            <a:ext cx="315900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os y d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3403440"/>
            <a:ext cx="216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uinces y 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24360" y="1806480"/>
            <a:ext cx="5219640" cy="5051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os y d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3120" y="2195640"/>
            <a:ext cx="40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uinces y 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-36360" y="3602160"/>
            <a:ext cx="4752720" cy="2698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427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3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AP en lesiones de E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3120" y="2195640"/>
            <a:ext cx="86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, Objective, Assessment and Pl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84720" y="2838600"/>
            <a:ext cx="4173480" cy="3903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nos y de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3120" y="2195640"/>
            <a:ext cx="406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guinces y frac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00360" y="3213000"/>
            <a:ext cx="5216400" cy="2908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6000" y="2195640"/>
            <a:ext cx="318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15936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219564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3187800"/>
            <a:ext cx="831708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iones A-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7489800" cy="4551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nguito rot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01680" y="2533680"/>
            <a:ext cx="6738840" cy="38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ol del supraespin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00000" y="2197080"/>
            <a:ext cx="7559640" cy="402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es compresivos y ele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4360" y="1814400"/>
            <a:ext cx="6551640" cy="485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iología in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068720" y="2060640"/>
            <a:ext cx="3888000" cy="446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042920" y="2133720"/>
            <a:ext cx="243684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4:17:20Z</dcterms:created>
  <dc:creator>Medicina</dc:creator>
  <dc:description/>
  <dc:language>en-US</dc:language>
  <cp:lastModifiedBy>Marcelo Cano</cp:lastModifiedBy>
  <dcterms:modified xsi:type="dcterms:W3CDTF">2009-09-10T17:40:13Z</dcterms:modified>
  <cp:revision>43</cp:revision>
  <dc:subject/>
  <dc:title>Manejo de Lesiones de Extremidad Inferior</dc:title>
</cp:coreProperties>
</file>