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LIC.WAV" ContentType="audio/x-wav"/>
  <Override PartName="/ppt/media/image6.wmf" ContentType="image/x-wmf"/>
  <Override PartName="/ppt/media/image7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402-7343-4B3C-88B6-36D32281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C4D-7E03-41A3-8D4E-C68149C4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396-EEDA-41C5-A8A6-58DDE49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EEA-6DD0-4AC2-98E5-03F3561A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298-F078-42A2-A485-2C9F154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7B3-99DD-404B-A4A9-D612310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908C-4B7F-48DC-88FA-1B7F695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99B3-075B-4181-A719-AFC74C52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E079-49F9-428F-92BB-66F8399A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5D44-ACAE-42DD-970D-9A27865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A37B-5A50-4222-99BC-6B20A681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D2F-5EA0-4E22-95AC-94E0E5E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F128-1F92-4CBE-8E6D-1186F59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E96-F71E-4B7B-83A2-CFB9B61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521-77F0-4D06-B3EB-0954D64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93B0-17F7-4D8C-AD05-EC3DCBF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BC33-F19A-4EE5-9A20-DA6987AB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20C-A276-4AFD-B6FD-52645E0D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21C-D362-476B-AD4A-FD48AACC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CE2-9013-4F27-8B47-B854C84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9DA-45C3-4E62-B571-96AF4AB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447-C248-44DC-A699-47715B9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F25-4B23-4387-93AA-F4FBA90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41A-FFC5-43CE-901D-717226B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002-0E5C-410C-96E2-2FB401310B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B60-D06A-4F3B-933F-B1B0EC1577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Y ALGIAS DE COLUMNA EN EL DEPOR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3922560"/>
            <a:ext cx="817884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Profesor Marcelo Cano Cappellac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4191120"/>
            <a:ext cx="2286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133720"/>
            <a:ext cx="2819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a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2520" y="380880"/>
            <a:ext cx="2590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tobiologí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809880"/>
            <a:ext cx="25905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41911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ontribuy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648320"/>
            <a:ext cx="19814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56272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04920"/>
            <a:ext cx="809640" cy="426708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0520 h 4267080"/>
              <a:gd name="textAreaBottom" fmla="*/ 310932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2992824"/>
                <a:lnTo>
                  <a:pt x="6734" y="21181"/>
                </a:lnTo>
                <a:lnTo>
                  <a:pt x="0" y="18383"/>
                </a:lnTo>
                <a:lnTo>
                  <a:pt x="6734" y="14746"/>
                </a:lnTo>
                <a:lnTo>
                  <a:pt x="6734" y="16402"/>
                </a:lnTo>
                <a:arcTo wR="21600" hR="8411" stAng="2992824" swAng="-2740361"/>
                <a:lnTo>
                  <a:pt x="21224" y="9972"/>
                </a:lnTo>
                <a:arcTo wR="21600" hR="8411" stAng="-252463" swAng="-5147537"/>
                <a:close/>
              </a:path>
              <a:path fill="darkenLess"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-252463"/>
                <a:lnTo>
                  <a:pt x="21224" y="9972"/>
                </a:lnTo>
                <a:arcTo wR="21600" hR="8411" stAng="-252463" swAng="-5147537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209680"/>
            <a:ext cx="1143000" cy="1981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3115" y="10229"/>
                </a:moveTo>
                <a:arcTo wR="-7706" hR="-7706" stAng="-10545042" swAng="-6091490"/>
                <a:lnTo>
                  <a:pt x="9432" y="87"/>
                </a:lnTo>
                <a:arcTo wR="10800" hR="10800" stAng="-5836533" swAng="6091490"/>
                <a:lnTo>
                  <a:pt x="24263" y="11800"/>
                </a:lnTo>
                <a:lnTo>
                  <a:pt x="19713" y="15721"/>
                </a:lnTo>
                <a:lnTo>
                  <a:pt x="15792" y="1117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057400"/>
            <a:ext cx="638280" cy="1585800"/>
          </a:xfrm>
          <a:prstGeom prst="downArrow">
            <a:avLst>
              <a:gd name="adj1" fmla="val 50000"/>
              <a:gd name="adj2" fmla="val 6211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4800600"/>
            <a:ext cx="3048120" cy="733320"/>
          </a:xfrm>
          <a:custGeom>
            <a:avLst/>
            <a:gdLst>
              <a:gd name="textAreaLeft" fmla="*/ 559800 w 3048120"/>
              <a:gd name="textAreaRight" fmla="*/ 2076840 w 3048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-2766268"/>
                <a:lnTo>
                  <a:pt x="21146" y="7200"/>
                </a:lnTo>
                <a:lnTo>
                  <a:pt x="17280" y="0"/>
                </a:lnTo>
                <a:lnTo>
                  <a:pt x="12506" y="7200"/>
                </a:lnTo>
                <a:lnTo>
                  <a:pt x="15420" y="7200"/>
                </a:lnTo>
                <a:arcTo wR="7937" hR="21600" stAng="2633732" swAng="2539231"/>
                <a:lnTo>
                  <a:pt x="9343" y="21258"/>
                </a:lnTo>
                <a:arcTo wR="7937" hR="21600" stAng="5627037" swAng="5172963"/>
                <a:close/>
              </a:path>
              <a:path fill="darkenLess"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227037"/>
                <a:lnTo>
                  <a:pt x="9343" y="21258"/>
                </a:lnTo>
                <a:arcTo wR="7937" hR="21600" stAng="5627037" swAng="5172963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4419720"/>
            <a:ext cx="409680" cy="976320"/>
          </a:xfrm>
          <a:prstGeom prst="upArrow">
            <a:avLst>
              <a:gd name="adj1" fmla="val 64056"/>
              <a:gd name="adj2" fmla="val 9378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neurogé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perifér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0574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mie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4864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minución S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limitación fí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8006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raíz nerv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048120"/>
            <a:ext cx="15238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971800"/>
            <a:ext cx="2957760" cy="976320"/>
          </a:xfrm>
          <a:custGeom>
            <a:avLst/>
            <a:gdLst>
              <a:gd name="textAreaLeft" fmla="*/ 0 w 2957760"/>
              <a:gd name="textAreaRight" fmla="*/ 2958120 w 29577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562" y="9943"/>
                </a:moveTo>
                <a:arcTo wR="-8282" hR="-8282" stAng="-10443653" swAng="-7757814"/>
                <a:lnTo>
                  <a:pt x="4861" y="1779"/>
                </a:lnTo>
                <a:arcTo wR="10800" hR="10800" stAng="-7401467" swAng="7757814"/>
                <a:lnTo>
                  <a:pt x="24228" y="12197"/>
                </a:lnTo>
                <a:lnTo>
                  <a:pt x="19880" y="15725"/>
                </a:lnTo>
                <a:lnTo>
                  <a:pt x="16352" y="1137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paciente debe ser parte de este proceso, y por ello es tan importante el traspaso de información hacia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kinesiólogo puede guiarse por la evidencia, pero la individualidad del paciente y de él mismo como terapeuta, obligan a un manejo flexible y ú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Comic Sans MS"/>
              </a:rPr>
              <a:t>Atractivo de la kinesiologí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rrores más comu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agmatismo: Descartar información y/o asimilar a experiencias previ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Favoritismo: Hipótesis de trabajo preferidas (artrokinemática, neurodinámica, emocionales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876400" y="0"/>
          <a:ext cx="3391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0"/>
                    <a:ext cx="339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685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oceso de obtención de inform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paciente es parte de él, y por ello es tan importante el traspaso de información hacia é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subjetivo (sintomatologí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objetivo (validez de una prueb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Conducta de la sintomatologí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rtamiento temporal (duración y fluctuaciones de ella a corto y largo pl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la agra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producen aliv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bicación topo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nsidad (E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 extraño encontrar entidades puras, desde el punto de vista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uidado con los exámenes que arrojan falsos positivos y falsos negativos (30% de pacientes asintomáticos arrojaron + una RNM, con Dg. de prolapso dis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a entrevista permite definir el perfil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identificar las potencialidades y limitaciones funcional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distinguir si el componente doloroso es de preferencia mecánico o quí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 es básica, desde el ingreso del paciente a la consul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mic Sans MS"/>
              </a:rPr>
              <a:t>Dolor quím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cturno con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&gt; 2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/cambios con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teraciones de s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Dolor mecá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rmi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de sólo 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se despierta por el d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de pensamiento, análisis y toma de decisiones, que es parte de la práctica 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gún Butler nace de una mezcla entre lo mejor d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Indicadores de cuadro sistém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872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icio en mayores de 45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auseas, vómitos, diarrea, fie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storia previa de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abdominal y lumbar en un mismo n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ebilidad muscular sever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sin cambios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causa sufr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se modifica con la ingesta de ali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no cambia con los mov. de colum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tre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ovimientos activos, pasivos, re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és ligamen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nentes meníng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xamen neurológico (dermatomas, miotom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ueba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rteria verteb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Neurodin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uadr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ha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longación mu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deportistas de alto nivel existe una mayor incidencia de patología dolorosa de columna y además de mayor seve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olsos no deben superar el 10% del peso corporal en niños y adolesc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67% de esquiadores de alto nivel entre 15 y 19 años presentan lumbal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427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pondil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erlaxitud e inest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portes de bajo imp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58920" y="1547640"/>
            <a:ext cx="2373120" cy="5310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23288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2324160"/>
            <a:ext cx="5292720" cy="2274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796000" y="1982880"/>
            <a:ext cx="2738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284200" cy="4927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626000" y="1700280"/>
            <a:ext cx="318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rcadores de 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 por 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ctividad sináp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eurotransmi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dicadores del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: punto de vista eclé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: examen clínico  subjetivo y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at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finición del dolor (IASP): Enfoque bio-sico-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mponentes del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onocimiento de base: Anatomía, biomecánica, fisiología, fisiopatología, fisiología del ejercicio. Sistemas límbico y reticular, eje hipotálamo-hipofisia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Habilidades cognitivas (análisis y síntesis): Relacionar, descartar, priorizar, toma de decisiones terapéut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etacognición: Evaluación del proceso integr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Físic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olor crónico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ie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sicosociales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reenci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labor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Zona gris en la práctica clínica: conocimiento parcial (patoanatomía o patofisiologí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15960" cy="103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7010280" y="2743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1240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90920" y="21337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5909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hipotético - de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nálisis de todas las posibles fuentes de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 o contraind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ótesi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in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milación del cuadro a patrones similares que han sido observados previ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leado por expe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quiere menos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ategorías de 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uentes de la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f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atob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falta de conocimiento en alguna categoría puede provocar el colapso del proceso de razonamiento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9-09-03T13:59:41Z</dcterms:modified>
  <cp:revision>36</cp:revision>
  <dc:subject/>
  <dc:title>RAZONAMIENTO CLÍNICO</dc:title>
</cp:coreProperties>
</file>