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LIC.WAV" ContentType="audio/x-wav"/>
  <Override PartName="/ppt/media/image6.wmf" ContentType="image/x-wmf"/>
  <Override PartName="/ppt/media/image7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DC4-BB84-4B61-A335-68DDC041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723-F471-43DA-AADE-7633BE85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6DE-BD5A-4C79-B895-17632CEF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DF6-3DCD-4CC0-84E2-EA8CD6A3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D80F-4B64-4411-9182-CCDE64E1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08D9-CA5B-4CD2-85E6-57EA9A89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4009-7FDC-48C7-BBD6-34770F44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6B9A-71DE-47F9-80D1-EB1CF4B4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13CB-B7C8-41A0-A606-231D02F5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39ED-EF23-452B-B1D2-0CD868F5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B7BF-FAF8-4977-92C8-3CE701B1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957-39E6-4D3F-8DB5-A27D90AA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3532-DD5A-49F4-AC9E-00EE936D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29A0-E2C1-4347-81A8-5A51E223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2B44-FB4A-4279-992A-D7DFFD9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7541-AAF0-473C-8929-BFF433E2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ABFE-8A51-4D16-84B3-7C002FDC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D3E-D357-4CE0-A259-0EE58D6D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690-85EA-4363-8347-5E6E4F10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B86-CA89-454E-9EAD-6EFF561F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FC8-2755-414E-8E2A-43F549E2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D1B-0EAB-40CA-A6F6-03A11AA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37B-83E5-48DF-9F21-2647CCD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9ED-4265-4357-AAF6-DB9872CF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9326-435A-4B80-9163-2655A65302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9949-620F-4C29-A0FD-F441AAF6BD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5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Y ALGIAS DE COLUMNA EN EL DEPOR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3922560"/>
            <a:ext cx="817884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Profesor Marcelo Cano Cappellac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4191120"/>
            <a:ext cx="22860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133720"/>
            <a:ext cx="28191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a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62520" y="380880"/>
            <a:ext cx="25905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tobiologí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809880"/>
            <a:ext cx="25905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95480" y="1371600"/>
            <a:ext cx="41911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es contribuy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648320"/>
            <a:ext cx="19814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562720"/>
            <a:ext cx="1752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04920"/>
            <a:ext cx="809640" cy="426708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0520 h 4267080"/>
              <a:gd name="textAreaBottom" fmla="*/ 310932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2992824"/>
                <a:lnTo>
                  <a:pt x="6734" y="21181"/>
                </a:lnTo>
                <a:lnTo>
                  <a:pt x="0" y="18383"/>
                </a:lnTo>
                <a:lnTo>
                  <a:pt x="6734" y="14746"/>
                </a:lnTo>
                <a:lnTo>
                  <a:pt x="6734" y="16402"/>
                </a:lnTo>
                <a:arcTo wR="21600" hR="8411" stAng="2992824" swAng="-2740361"/>
                <a:lnTo>
                  <a:pt x="21224" y="9972"/>
                </a:lnTo>
                <a:arcTo wR="21600" hR="8411" stAng="-252463" swAng="-5147537"/>
                <a:close/>
              </a:path>
              <a:path fill="darkenLess"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-252463"/>
                <a:lnTo>
                  <a:pt x="21224" y="9972"/>
                </a:lnTo>
                <a:arcTo wR="21600" hR="8411" stAng="-252463" swAng="-5147537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209680"/>
            <a:ext cx="1143000" cy="19814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3115" y="10229"/>
                </a:moveTo>
                <a:arcTo wR="-7706" hR="-7706" stAng="-10545042" swAng="-6091490"/>
                <a:lnTo>
                  <a:pt x="9432" y="87"/>
                </a:lnTo>
                <a:arcTo wR="10800" hR="10800" stAng="-5836533" swAng="6091490"/>
                <a:lnTo>
                  <a:pt x="24263" y="11800"/>
                </a:lnTo>
                <a:lnTo>
                  <a:pt x="19713" y="15721"/>
                </a:lnTo>
                <a:lnTo>
                  <a:pt x="15792" y="11171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057400"/>
            <a:ext cx="638280" cy="1585800"/>
          </a:xfrm>
          <a:prstGeom prst="downArrow">
            <a:avLst>
              <a:gd name="adj1" fmla="val 50000"/>
              <a:gd name="adj2" fmla="val 6211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4800600"/>
            <a:ext cx="3048120" cy="733320"/>
          </a:xfrm>
          <a:custGeom>
            <a:avLst/>
            <a:gdLst>
              <a:gd name="textAreaLeft" fmla="*/ 559800 w 3048120"/>
              <a:gd name="textAreaRight" fmla="*/ 2076840 w 3048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-2766268"/>
                <a:lnTo>
                  <a:pt x="21146" y="7200"/>
                </a:lnTo>
                <a:lnTo>
                  <a:pt x="17280" y="0"/>
                </a:lnTo>
                <a:lnTo>
                  <a:pt x="12506" y="7200"/>
                </a:lnTo>
                <a:lnTo>
                  <a:pt x="15420" y="7200"/>
                </a:lnTo>
                <a:arcTo wR="7937" hR="21600" stAng="2633732" swAng="2539231"/>
                <a:lnTo>
                  <a:pt x="9343" y="21258"/>
                </a:lnTo>
                <a:arcTo wR="7937" hR="21600" stAng="5627037" swAng="5172963"/>
                <a:close/>
              </a:path>
              <a:path fill="darkenLess"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227037"/>
                <a:lnTo>
                  <a:pt x="9343" y="21258"/>
                </a:lnTo>
                <a:arcTo wR="7937" hR="21600" stAng="5627037" swAng="5172963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4419720"/>
            <a:ext cx="409680" cy="976320"/>
          </a:xfrm>
          <a:prstGeom prst="upArrow">
            <a:avLst>
              <a:gd name="adj1" fmla="val 64056"/>
              <a:gd name="adj2" fmla="val 9378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1676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neurogé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perifér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0574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abe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25146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mie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48640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minución S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limitación fís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8006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raíz nerv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048120"/>
            <a:ext cx="15238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mn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971800"/>
            <a:ext cx="2957760" cy="976320"/>
          </a:xfrm>
          <a:custGeom>
            <a:avLst/>
            <a:gdLst>
              <a:gd name="textAreaLeft" fmla="*/ 0 w 2957760"/>
              <a:gd name="textAreaRight" fmla="*/ 2958120 w 29577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2562" y="9943"/>
                </a:moveTo>
                <a:arcTo wR="-8282" hR="-8282" stAng="-10443653" swAng="-7757814"/>
                <a:lnTo>
                  <a:pt x="4861" y="1779"/>
                </a:lnTo>
                <a:arcTo wR="10800" hR="10800" stAng="-7401467" swAng="7757814"/>
                <a:lnTo>
                  <a:pt x="24228" y="12197"/>
                </a:lnTo>
                <a:lnTo>
                  <a:pt x="19880" y="15725"/>
                </a:lnTo>
                <a:lnTo>
                  <a:pt x="16352" y="1137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l paciente debe ser parte de este proceso, y por ello es tan importante el traspaso de información hacia é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14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kinesiólogo puede guiarse por la evidencia, pero la individualidad del paciente y de él mismo como terapeuta, obligan a un manejo flexible y ú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ffff"/>
                </a:solidFill>
                <a:latin typeface="Comic Sans MS"/>
              </a:rPr>
              <a:t>Atractivo de la kinesiologí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rrores más comu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agmatismo: Descartar información y/o asimilar a experiencias previ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Favoritismo: Hipótesis de trabajo preferidas (artrokinemática, neurodinámica, emocionales, etc.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876400" y="0"/>
          <a:ext cx="3391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0"/>
                    <a:ext cx="3391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685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oceso de obtención de informació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paciente es parte de él, y por ello es tan importante el traspaso de información hacia é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subjetivo (sintomatologí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objetivo (validez de una prueb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Conducta de la sintomatología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rtamiento temporal (duración y fluctuaciones de ella a corto y largo plaz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la agrav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producen aliv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Ubicación topográf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nsidad (E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 extraño encontrar entidades puras, desde el punto de vista clí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uidado con los exámenes que arrojan falsos positivos y falsos negativos (30% de pacientes asintomáticos arrojaron + una RNM, con Dg. de prolapso disc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a entrevista permite definir el perfil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identificar las potencialidades y limitaciones funcionales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distinguir si el componente doloroso es de preferencia mecánico o quím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 es básica, desde el ingreso del paciente a la consul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Comic Sans MS"/>
              </a:rPr>
              <a:t>Dolor químic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cturno const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&gt; 2 h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/cambios con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lteraciones de s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Dolor mecá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rmi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de sólo min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 se despierta por el d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de pensamiento, análisis y toma de decisiones, que es parte de la práctica clí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egún Butler nace de una mezcla entre lo mejor de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Indicadores de cuadro sistém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5872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icio en mayores de 45 añ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auseas, vómitos, diarrea, fie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storia previa de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abdominal y lumbar en un mismo ni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ebilidad muscular sever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sin cambios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causa sufr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se modifica con la ingesta de alim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no cambia con los mov. de colum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tre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ovimientos activos, pasivos, resist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rés ligament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nentes meníng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xamen neurológico (dermatomas, miotom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ueba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rteria verteb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Neurodina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uadr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ha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longación muscu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7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 deportistas de alto nivel existe una mayor incidencia de patología dolorosa de columna y además de mayor seve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olsos no deben superar el 10% del peso corporal en niños y adolesc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67% de esquiadores de alto nivel entre 15 y 19 años presentan lumbal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427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pondilol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erlaxitud e inest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portes de bajo imp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258920" y="1547640"/>
            <a:ext cx="2373120" cy="5310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23288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2324160"/>
            <a:ext cx="5292720" cy="2274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796000" y="1982880"/>
            <a:ext cx="27385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284200" cy="4927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626000" y="1700280"/>
            <a:ext cx="318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 Bá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rcadores de 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 por 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ctividad sináp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eurotransmi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dicadores del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: punto de vista eclé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: examen clínico  subjetivo y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at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finición del dolor (IASP): Enfoque bio-sico-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mponentes del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onocimiento de base: Anatomía, biomecánica, fisiología, fisiopatología, fisiología del ejercicio. Sistemas límbico y reticular, eje hipotálamo-hipofisiari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Habilidades cognitivas (análisis y síntesis): Relacionar, descartar, priorizar, toma de decisiones terapéutic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etacognición: Evaluación del proceso integr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nceptos bás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4" marL="197496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Físic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olor crónico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ie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sicosociales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reenci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labora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Zona gris en la práctica clínica: conocimiento parcial (patoanatomía o patofisiología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615960" cy="103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7010280" y="27432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312408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90920" y="21337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59092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hipotético - de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nálisis de todas las posibles fuentes de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 o contraind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ótesis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in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similación del cuadro a patrones similares que han sido observados previ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leado por exper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quiere menos ti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234f7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ategorías de 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uentes de la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actores contribuy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f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atobi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falta de conocimiento en alguna categoría puede provocar el colapso del proceso de razonamiento.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dcterms:modified xsi:type="dcterms:W3CDTF">2009-09-03T13:59:41Z</dcterms:modified>
  <cp:revision>36</cp:revision>
  <dc:subject/>
  <dc:title>RAZONAMIENTO CLÍNICO</dc:title>
</cp:coreProperties>
</file>