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0AA7-96CA-4EE8-876E-E050551BC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E5A4-A2AF-42AF-B018-787A1CC4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F3062-88FE-46EF-B3FC-991BB7D7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64729-F103-41D2-A422-29757FB4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D99BB-02E3-48CD-8E90-814376C6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468F69-28B2-4AE1-B1D5-13925240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CF68B-7F8E-4383-AFCB-184372D9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CB367-1A06-4C55-935A-41AB0675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2FAE4A-ECE6-4FD2-ADA0-7938CA26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E1096D-6656-48CD-ACA7-1629044E8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98574-4206-4F22-A6D7-D3C9E8C0C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871F-4B7F-411A-ADC6-8CF5529BA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EF28-1CB4-46EB-800C-6834304C2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1369-2218-439F-A204-BCA7140E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2D0B-C324-44B3-8452-B52DC0DD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C2E0-6559-4645-89E8-25976CBD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10FE-8C84-493F-8695-A8E9CE71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A312-0B64-4BFA-8A82-5B44C6BE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02BD-C244-4DE1-A7C0-7BBC4405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160C-05EA-4C79-9A67-E3546125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4C1F-1B4C-4928-9723-7C1ACD56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38F5-A92D-4EF6-8BEB-694D1C21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5379-56CA-4C39-8B78-3F95B26B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1887-0D58-4541-9C59-62149E11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6E06-1017-450F-B165-8FFBE22EE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5614-16FE-4EAF-A5F3-1A362E303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11676B-E53B-44B4-A56C-7133DB766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2687A4-820C-494D-9779-2A66B65A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6525B3-0380-4AD8-838E-06FB5416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79DD2A-806A-43E1-B5E8-F38B0337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3C6719-AE69-4050-AB27-72EAF4FD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7B56-7362-4040-AC44-F06F9B3C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D96BD4-82F5-44B3-BD87-88046F82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7B766D-DE94-4422-9CB7-4FEECF5E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2E6777-DB91-49AE-ADDE-4C94B74B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34F8AE-809F-4D0D-BD83-2E14636B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C6F229-7D64-4E45-91A2-E4A9FB5C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C5AAD0-96C5-44DA-838D-46D24A38D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1DCBD2-7ADC-48A3-ADB0-F86A53A1B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AD1A30-B05F-43C0-9F19-325BA10C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700900-3FAB-45E2-97B7-3E0CF94F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687F97-8DE2-4F74-BF7B-E5FE79B4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E5FC-A3D7-4633-9886-5F5C8D42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D60502-03FA-49D3-AC70-ADBA10D9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F3A1B3-8A8F-4F2D-9671-3A29012D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F7FB3A-D9FE-42A8-AD22-E9198E05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1ECB1E-34C6-49BD-BE2F-EA050BAC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9BEE0C-B92D-4A22-BBBA-63461DF0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D3EFE6-BA80-414D-8EA5-E5101B70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062D20-2CFA-48D5-AF9B-45365630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8BE46F-1AA5-417E-ABDD-57AECB2C3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D8CFB7-E337-4D00-BFB9-1D087C3D1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851862-C51F-4B2A-9BFD-938B6D248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BD60-7CA9-433A-9B18-6BABAC82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CEE115-443E-42FF-AFC0-3CA3945C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7C8505-F48E-47A7-9F71-B22A217E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E4A74E-C74F-422D-9B74-47456B13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28AEF4-2B4F-4E4F-BF4A-669A9A6C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26CDB4-4B6C-416F-8FD9-854BCF18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DF1C48-A46E-4306-9DC9-B48A6CF7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EABD74-4E73-4FC3-B385-1E321EDB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AFC7F6-CA44-478A-AAA0-69B3BD07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FAC8B5-3B45-4C47-A264-B513BF6E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856D85-05C4-43E5-A904-322599561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4DDA-C2DB-4ED5-A16A-35E66890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CE6665-38E5-4228-AA04-F4144C16F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B4A08-520D-4C62-ABA9-36B6D2A0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C3951-E5A6-405F-A00C-E72FB6B2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BA2B8-DF91-4AEA-8D5B-1E95403C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3625F-B246-40A3-9017-D6398AF9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E8DE2-180A-4EF9-A061-E3728705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80B30-4F60-47AF-97B2-30D0E48D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46F77-837F-4A92-9427-13CA0A51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BE80C-CFDE-48B8-B90D-6FDAE7D1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17735-8B64-4B34-A315-0EF32044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514C-8156-4583-8DCA-A53AD2CF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551DA-D644-4570-AA3B-FFB5E988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25310-6BC1-443E-B18A-9C33050E3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553DE-8A2A-4C64-9540-1F53B68A5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FAF399-8A10-4379-8462-6EBD82DB7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13777A-6948-44B5-B379-1542143A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381486-CAC9-4E62-B9A2-4CEF3BF6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12DEBA-870A-4C78-9152-87323F85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22BD5D-3CD1-4C51-B202-BA20D1AE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BE42CF-35CA-4256-8560-4ECA4BE8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786C39-2255-4A4D-8C07-6688784E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11BD-5CFB-4EE6-8028-49849313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3EB3C1-A1C4-4ADF-AE1B-35E3A226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B10C24-1A67-4A1F-ABEC-0EB4215D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BF5E9F-672A-47F2-8B7F-49871D72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3C3D44-289B-46AF-A6B8-A0FFE8914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56EDA3-7773-4BC8-9B06-00C08973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596EA-152A-4019-81D1-68ED33BD2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CAF6F-4D38-4110-888C-433B57F4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A6330-CB1C-4BB0-8D81-AAEAC608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C7F96-D804-4CD9-B2B2-D0134B37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1C1A0-AB1F-4E39-878E-9C2872B8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E20F-59BC-4E40-BD9B-0976897D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8147A-4F1E-4D46-A2CB-9CDD0BF7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EF1F1-0470-42E3-A24B-1114CC28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C483D-59C5-46A2-A8FE-0CF0AD17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9018D-EC82-4987-B945-E37467DC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D5B42-6328-4EE3-9D77-0580A119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44168-0E69-4418-86F9-F9FCD4C60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A5E48-8E13-4125-BCA7-F1D954295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24D2B-9684-4765-95F9-0929159E7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F9ACC-0B38-406E-BCCB-01604D55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466F4B-544C-485C-8565-5DE7451A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AF58-C835-4E41-8986-482778AF06C7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9 Rectángulo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0 Rectángulo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1 Rectángulo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7C0F-D29D-42EC-BE62-76E45A1141CA}" type="slidenum">
              <a:rPr b="1" lang="es-E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9 Rectángulo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0 Rectángulo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4D99-383A-40FD-8877-3DD713C7D0B5}" type="slidenum"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58FE-BEA3-4D1E-ACB1-7319780EDB4F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B2B7-B837-4066-A183-AECD11676CD1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655E-44DB-4214-81BC-1572B8AA552B}" type="slidenum">
              <a:rPr b="1" lang="es-E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9 Rectángulo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10 Rectángulo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1 Rectángulo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4 Rectángulo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1EE9-74B0-4EB0-8F57-9822269CD407}" type="slidenum"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9 Rectángulo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0 Rectángulo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1 Rectángulo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6232-DDB4-452B-A5A6-EB48C4907B05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F07C-8A59-4D96-80B1-2F8020626B12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bddc3"/>
                </a:solidFill>
                <a:latin typeface="Tw Cen MT"/>
              </a:rPr>
              <a:t>DESARROLLO DE LA COMPETENCIA        SEMÁNTICA LÉXICA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"/>
          <p:cNvGraphicFramePr/>
          <p:nvPr/>
        </p:nvGraphicFramePr>
        <p:xfrm>
          <a:off x="468360" y="260280"/>
          <a:ext cx="8207280" cy="6264360"/>
        </p:xfrm>
        <a:graphic>
          <a:graphicData uri="http://schemas.openxmlformats.org/drawingml/2006/table">
            <a:tbl>
              <a:tblPr/>
              <a:tblGrid>
                <a:gridCol w="2838240"/>
                <a:gridCol w="5369040"/>
              </a:tblGrid>
              <a:tr h="18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da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guetes, comida, vehículos, partes del cuerpo, ropa, nombres propios, animales, relaciones familia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o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ptuales y que se realizan con partes del cuerpo; atributiv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lida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, color, tamaño, cuantificación, evalu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aciales, posesivas, tempo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ptación, negación , fórmul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4"/>
          <p:cNvSpPr/>
          <p:nvPr/>
        </p:nvSpPr>
        <p:spPr>
          <a:xfrm>
            <a:off x="179280" y="404640"/>
            <a:ext cx="8352000" cy="64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nción “social” de la utilización del l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unciones comunicativas sociales y expres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órmulas de saludo y desped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egación y acep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inalización de una 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unciones regul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querimiento de objetos y acciones (protoimperativos e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mperativ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querimientos inespecíf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unciones inform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íc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dentificación pers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se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nominación nominal y ver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4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4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4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4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bddc3"/>
                </a:solidFill>
                <a:latin typeface="Tw Cen MT"/>
              </a:rPr>
              <a:t>DESARROLLO DE LA COMPETENCIA SEMÁNTICO - GRAMATICAL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4"/>
          <p:cNvSpPr/>
          <p:nvPr/>
        </p:nvSpPr>
        <p:spPr>
          <a:xfrm>
            <a:off x="395280" y="620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parición de preposi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2556000" y="692280"/>
          <a:ext cx="6095880" cy="43894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artir de los 26 meses promedio aparecen las primeras preposiciones, pero con diferencias individuales significativ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eras preposiciones: “a”  y “en” locativos; “de” posesivo; “con” instrumental y compañía y “para” de final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los 4 años están afianzadas: a, con, de, en, para, por. Sin, hasta y entre son esporádic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los 7 años están afianzadas: contra, hacia, desde, sob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395280" y="62064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nejo de    cláusulas con   valores      semán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2556000" y="692280"/>
          <a:ext cx="6095880" cy="4022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ordinadas causales, con partículas “porque” y “que”, a los 3 a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ordinadas de finalidad, en niños de 4 años, con partículas “para que” pero con problemas en el subjun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ordinadas temporales con “cuando” y condicionales con “si” más presente, pasado los 3 a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ordinadas modales con “como” y “como si” desde los 3 a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1 CuadroTexto"/>
          <p:cNvSpPr/>
          <p:nvPr/>
        </p:nvSpPr>
        <p:spPr>
          <a:xfrm>
            <a:off x="285840" y="928800"/>
            <a:ext cx="3571920" cy="642600"/>
          </a:xfrm>
          <a:prstGeom prst="rect">
            <a:avLst/>
          </a:prstGeom>
          <a:solidFill>
            <a:srgbClr val="e0c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arrollo semántico constante entre los 3 y los 6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2 CuadroTexto"/>
          <p:cNvSpPr/>
          <p:nvPr/>
        </p:nvSpPr>
        <p:spPr>
          <a:xfrm>
            <a:off x="4714920" y="928800"/>
            <a:ext cx="32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es necesariamente un desarrollo “cualitativo” (complejización de los rasgos semántic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3 CuadroTexto"/>
          <p:cNvSpPr/>
          <p:nvPr/>
        </p:nvSpPr>
        <p:spPr>
          <a:xfrm>
            <a:off x="4714920" y="2428920"/>
            <a:ext cx="307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 cambio cualitativo importante ocurre a los 6 años con el ingreso a la escolar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4 CuadroTexto"/>
          <p:cNvSpPr/>
          <p:nvPr/>
        </p:nvSpPr>
        <p:spPr>
          <a:xfrm>
            <a:off x="4714920" y="3929040"/>
            <a:ext cx="3357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desarrollo es más bien “cuantitativo” (número de conexiones semánticas, cantidad de piezas léxicas en relaciones de sinonimia o hiperonim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4"/>
          <p:cNvSpPr/>
          <p:nvPr/>
        </p:nvSpPr>
        <p:spPr>
          <a:xfrm>
            <a:off x="395280" y="40464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Noción de “pieza léxic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395280" y="404640"/>
            <a:ext cx="2305080" cy="7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3276720" y="333360"/>
            <a:ext cx="532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Unión de un sonido (significante) y un concepto (significado) que vehiculan intenciones comunicativas y que actualizan referentes, presentes o 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3276720" y="1989000"/>
            <a:ext cx="460836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Unión lograda gracias 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habilidades sensor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habilidades cognitiv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habilidades motr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3276720" y="3645000"/>
            <a:ext cx="49687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oceso general de establecimiento de un signo lingüístico en relación a un refer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ercep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nomin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bstracción hacia el prototip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395280" y="40464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Noción de “pieza léxic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395280" y="404640"/>
            <a:ext cx="2305080" cy="7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3059280" y="404640"/>
            <a:ext cx="56163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lación arbitraria y convencional con el refe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forma un conjunto mental llamado “lexicó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nta propiedades físicas percep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nta propiedades fun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blece relaciones semánticas con otras piezas léx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blece funciones sintác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enriquece conceptualmente según las historias comunicativas de los individu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4"/>
          <p:cNvSpPr/>
          <p:nvPr/>
        </p:nvSpPr>
        <p:spPr>
          <a:xfrm>
            <a:off x="539640" y="333360"/>
            <a:ext cx="792180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ción de “concept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tidad cognitiva que organiza los objetos y eventos del mundo como pertenecientes a una clase porque tiene características especiales que las diferencias de otros obj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presentación descontextualizada de un referente gracias a la integración de las distintas entradas senso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250920" y="260280"/>
            <a:ext cx="8496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775f55"/>
                </a:solidFill>
                <a:latin typeface="Tw Cen MT"/>
              </a:rPr>
              <a:t>Preguntas ante el                     desarrollo semántico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6836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¿Cómo aprende el niño las palabras? ¿Qué procesos psicolingüísticos dirigen su aprendizaj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¿Cómo se conforman las relaciones léxicas en el vocabulario del niño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¿Qué palabras conoce (comprende y produce) un niño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775f55"/>
                </a:solidFill>
                <a:latin typeface="Tw Cen MT"/>
              </a:rPr>
              <a:t>¿Cómo aprende un niño                               las palabras?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395280" y="1989000"/>
            <a:ext cx="77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diciones bás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611280" y="2637000"/>
            <a:ext cx="633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ocimiento del mundo: objetos, procesos, cualidades y rel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611280" y="3500280"/>
            <a:ext cx="61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conocimiento de patrones sonoros recurrentes y aisl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611280" y="443700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lanteamiento, aceptación y verificación de relaciones de arbitrarie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9"/>
          <p:cNvSpPr/>
          <p:nvPr/>
        </p:nvSpPr>
        <p:spPr>
          <a:xfrm>
            <a:off x="611280" y="544500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formación de sistemas léx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4"/>
          <p:cNvSpPr/>
          <p:nvPr/>
        </p:nvSpPr>
        <p:spPr>
          <a:xfrm>
            <a:off x="1042920" y="47628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currencia en procesos de calibración concep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"/>
          <p:cNvSpPr/>
          <p:nvPr/>
        </p:nvSpPr>
        <p:spPr>
          <a:xfrm>
            <a:off x="395280" y="198900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fraextensión / sobrerrestricción concep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6"/>
          <p:cNvSpPr/>
          <p:nvPr/>
        </p:nvSpPr>
        <p:spPr>
          <a:xfrm>
            <a:off x="611280" y="2708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395280" y="429264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breextensión concep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8"/>
          <p:cNvSpPr/>
          <p:nvPr/>
        </p:nvSpPr>
        <p:spPr>
          <a:xfrm>
            <a:off x="3635280" y="4508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9"/>
          <p:cNvSpPr/>
          <p:nvPr/>
        </p:nvSpPr>
        <p:spPr>
          <a:xfrm>
            <a:off x="5796000" y="414972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blecimiento de una organización conceptual y léx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0"/>
          <p:cNvSpPr/>
          <p:nvPr/>
        </p:nvSpPr>
        <p:spPr>
          <a:xfrm>
            <a:off x="3708360" y="551664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partir de los 36 m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75f55"/>
                </a:solidFill>
                <a:latin typeface="Tw Cen MT"/>
              </a:rPr>
              <a:t>¿Cómo se conforman las relaciones léxicas en el vocabulario del niño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755640" y="256536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ementos bás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ementos superorde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ementos subordi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775f55"/>
                </a:solidFill>
                <a:latin typeface="Tw Cen MT"/>
              </a:rPr>
              <a:t>¿Qué palabras conoce un niño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457200" y="1600200"/>
          <a:ext cx="8229600" cy="4070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ía conceptu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100 primeras palab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da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o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lida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5" name="Text Box 33"/>
          <p:cNvSpPr/>
          <p:nvPr/>
        </p:nvSpPr>
        <p:spPr>
          <a:xfrm>
            <a:off x="539640" y="59500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rpus de Serra-Solé. Serra et al. 2000. La adquisición del lenguaje. Barcelona, Ari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3:01:39Z</dcterms:created>
  <dc:creator>Alejandra</dc:creator>
  <dc:description/>
  <dc:language>en-US</dc:language>
  <cp:lastModifiedBy>medicina</cp:lastModifiedBy>
  <dcterms:modified xsi:type="dcterms:W3CDTF">2009-09-29T13:25:47Z</dcterms:modified>
  <cp:revision>11</cp:revision>
  <dc:subject/>
  <dc:title>Desarrollo de la competencia        semántica léxica</dc:title>
</cp:coreProperties>
</file>