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01D6-0908-4ACF-B6A1-71288602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D99-B240-4197-8E58-E0446FFA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E2B79-754D-4EEF-A904-D27F5185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4FD9B-BBCD-41CF-9170-D04883D7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E0B69-F8B2-4D21-B1AB-3CC41310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B7E11-B52B-464C-A46D-C4CB3396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EC235-F9E2-472F-A3C0-4DE1234F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BFCB5-5B73-4847-8EB8-88B55BE0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C0845-E5DE-4E75-B476-8390506A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6DDC8-9B20-4670-9A87-621CAEF5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8D102-AD85-4148-86D3-7F0E65B1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E39B-02A9-42F5-8545-4AE3DAD8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B64-CDC3-47E7-A0FD-A082E33B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EA64-5112-4F7A-86A1-18B54C47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4AC0-843E-4D70-8EF1-CD822F2C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06C5-B2B4-4EF7-B386-335F49A5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208B-A529-49EC-991C-3090A854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9C26-AB0E-4DB3-BE4A-D4CB8CDC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25AD-9CC1-4513-A0E8-8425EF00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5150-9100-464F-BE66-5F620CF5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7E07-4551-4172-AF8C-8BA25B4A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45EE-FF31-417D-968A-F094B49E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DA5E-DD9A-4653-A06A-33534BC9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CF46-C4E5-4B87-AA29-EF2376D7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B215-2EE1-4D14-AC3E-ADA2C1AC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8892-790E-440D-B734-3E68BD01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0139B6-EA45-44DF-AD43-0BAED946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47A67-2A99-47A2-9E57-B171FA6E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C3DCBB-DCBE-4FED-8F75-72DCCA93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A693AA-FD92-438B-A9E1-CC819D87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A5CB41-9161-4FC7-B9A5-AC766CCB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E0E2-5F97-42A0-B4AB-0EAEE4F6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83F38-05A3-4068-AF1A-89E16D18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46AB0A-763A-4EBC-B35A-3DCF0325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DE0AF-02D7-4AC1-85BE-77BA588B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1F8A25-19AA-43CE-A083-9FF8AE0D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0C8863-E913-4C0E-9881-3BF48D27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CB4E1F-91F1-4453-AF27-3107BBA0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2297E-8D45-48D2-8854-1BF44C60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4B073E-081E-4FA0-B9F3-CC4D547A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793036-DF92-4C88-A685-1D1F2C4E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A1634E-EF66-4087-BF23-C33F2782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B28B-B271-4160-BF9E-913C085D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3F8F31-B4F3-4BCD-A842-BE5B6501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EE5DE6-5779-46C7-BA52-E2C1050F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20EFE1-A650-492E-AED7-F339B1A4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54F45C-8F37-4953-A2A0-5F78AC6A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6A8A8C-FFA8-452D-B04A-C10A5A37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65B74B-B640-4E2B-A634-5D360255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364AE6-18E3-40BC-96EB-025A9356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7C95CC-FA58-49DC-8CB8-CA4ABDAA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8DB0CD-973E-494A-858F-4D9F0772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404831-DC48-4A11-8294-C39E61A5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E8AE-7B57-46A5-9BC2-4825A6EA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C63028-86BB-420A-B580-5D003880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60C6B5-BFED-43A5-AC87-70228860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6D7AFB-FB37-45F4-8B63-300815F6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7772B6-8C3C-4B85-8742-051B33F9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DEB3B2-631F-4DC7-8822-B53D8281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45BB24-EA5F-4DCA-A6B5-5CB0F1FB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80BEC6-1C83-4A9A-838B-147F1E32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6F4D81-0938-4CDF-85D9-91EE7D6D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CC4751-ACF8-4D21-97AF-9C7F0D9C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096F3D-FC3D-4FC6-91A0-CFED2626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EF80-A4F5-424C-9409-CEDF55C3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8E7F9A-F526-4697-A5CA-5FA515BC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D8D52-9FC6-4EBD-91A3-5AE9A7E3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5AFAE-D184-4220-8F21-3E3E63CE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E6DE1-046B-4B9C-AC94-5B644642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E01E3-466C-481A-B2E4-9F944355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5672D-4A76-4A9D-B8BF-66C13393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E50DC-F2D7-4A73-90EE-53BBCC83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E5F65-7ADA-466A-ADA8-37125E98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58BE0-B89C-4D09-AC01-6BE7BAB7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71D34-69D2-4B09-A78A-D5B20F61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F814-5E2F-455C-A0F0-D8527704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BC2AB-2C15-423C-AA46-6A764E0F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BE2FD-E357-476A-ADB9-338671D3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7B30A-825B-49B2-9EFF-1290942D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740CE5-B74D-44C1-98FC-989AF4AC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0CF8F5-84DA-4047-B13C-B75500F8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D5E8E7-2796-4EEF-9D89-7C359659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E6E26D-8D1A-42EF-BBB9-A823E34E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3D0812-881C-41B5-BEBB-20E85505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4E5717-F099-4A7C-8E8C-C5E2FB6B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96FD8A-7427-4775-A04B-F355A73D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102C-743E-41D8-B734-C0D7C277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2CB99C-D223-483F-8430-9B38EE55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26AE7C-581F-40F7-87B5-791AE426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DDFA1D-26C3-4C92-93AB-4C40C714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4115E7-2593-403A-B250-FB03BFB4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3E2202-DA68-4859-BC82-A2B5A79E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21FE9-70D7-4DDD-9D4E-317B11A2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59A6C-5E23-4831-95DC-F92044D1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42440-6C89-4DCF-83E4-40B9715A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B93DD-93DB-4180-9068-C5D8AE86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3AB9D-24B9-4CCD-9218-B24F1D56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77E-B085-4070-AB37-AFD6737C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C53D0-CDB6-47F8-B12F-8F0DDAC8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97176-3551-4951-8389-EF90DB73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0B6C0-D913-474B-8DCE-19425D14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3093F-51C4-41B0-953A-61BD4FD1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37CA6-DCB6-4D9D-9A85-FB478C00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EBA5C-52B9-43EA-B06F-AF88D405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913CE-4D65-4B06-8C3A-CB16833F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B949A-F652-4E04-A0DF-12AC58F4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FBD86-9E58-4E74-B858-3BAB02FD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C1952-9555-4767-8EBF-4A482F9E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4739-6DBF-4002-B231-6EE01CBE66FA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0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1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EB6B-4CF3-4E80-A583-AB2266DA8F1C}" type="slidenum">
              <a:rPr b="1" lang="es-E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9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0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39C3-0B9D-453D-951C-4AF6F41C8A16}" type="slidenum"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65FB-A90E-4265-9874-FEE7A75E6B81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7832-8789-4CAC-AF16-4E224254BDF9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8D1B-C6D6-482C-82E5-CDDD0A0CFBE1}" type="slidenum">
              <a:rPr b="1" lang="es-E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9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0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1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4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1CB9-67BC-4545-86F9-272C3B6F2AAE}" type="slidenum"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9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0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1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F9CA-54D8-4A74-AD13-6C4772226B8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6644-C5C2-40AE-91CB-25AF3B6AE6D1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bddc3"/>
                </a:solidFill>
                <a:latin typeface="Tw Cen MT"/>
              </a:rPr>
              <a:t>DESARROLLO DE LA COMPETENCIA        SEMÁNTICA LÉXICA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468360" y="260280"/>
          <a:ext cx="8207280" cy="6264360"/>
        </p:xfrm>
        <a:graphic>
          <a:graphicData uri="http://schemas.openxmlformats.org/drawingml/2006/table">
            <a:tbl>
              <a:tblPr/>
              <a:tblGrid>
                <a:gridCol w="2838240"/>
                <a:gridCol w="5369040"/>
              </a:tblGrid>
              <a:tr h="18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guetes, comida, vehículos, partes del cuerpo, ropa, nombres propios, animales, relaciones familia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tuales y que se realizan con partes del cuerpo; atributiv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ida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, color, tamaño, cuantificación, evalu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aciales, posesivas, tempo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ptación, negación , fórmu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4"/>
          <p:cNvSpPr/>
          <p:nvPr/>
        </p:nvSpPr>
        <p:spPr>
          <a:xfrm>
            <a:off x="179280" y="404640"/>
            <a:ext cx="835200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ón “social” de la utilización del l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nciones comunicativas sociales y expres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órmulas de saludo y desped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gación y acep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nalización de una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nciones regul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querimiento de objetos y acciones (protoimperativos e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mperativ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querimientos inespecí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nciones inform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íc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ntificación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s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nominación nominal y ver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4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4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4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bddc3"/>
                </a:solidFill>
                <a:latin typeface="Tw Cen MT"/>
              </a:rPr>
              <a:t>DESARROLLO DE LA COMPETENCIA SEMÁNTICO - GRAMATICAL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4"/>
          <p:cNvSpPr/>
          <p:nvPr/>
        </p:nvSpPr>
        <p:spPr>
          <a:xfrm>
            <a:off x="395280" y="62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arición de prepos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2556000" y="692280"/>
          <a:ext cx="6095880" cy="43894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artir de los 26 meses promedio aparecen las primeras preposiciones, pero con diferencias individuales significati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eras preposiciones: “a”  y “en” locativos; “de” posesivo; “con” instrumental y compañía y “para” de final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os 4 años están afianzadas: a, con, de, en, para, por. Sin, hasta y entre son esporád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os 7 años están afianzadas: contra, hacia, desde, so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395280" y="62064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ejo de    cláusulas con   valores      semán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2556000" y="692280"/>
          <a:ext cx="6095880" cy="4022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ordinadas causales, con partículas “porque” y “que”, a los 3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ordinadas de finalidad, en niños de 4 años, con partículas “para que” pero con problemas en el subjun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ordinadas temporales con “cuando” y condicionales con “si” más presente, pasado los 3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ordinadas modales con “como” y “como si” desde los 3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1 CuadroTexto"/>
          <p:cNvSpPr/>
          <p:nvPr/>
        </p:nvSpPr>
        <p:spPr>
          <a:xfrm>
            <a:off x="285840" y="928800"/>
            <a:ext cx="3571920" cy="642600"/>
          </a:xfrm>
          <a:prstGeom prst="rect">
            <a:avLst/>
          </a:prstGeom>
          <a:solidFill>
            <a:srgbClr val="e0c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arrollo semántico constante entre los 3 y los 6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2 CuadroTexto"/>
          <p:cNvSpPr/>
          <p:nvPr/>
        </p:nvSpPr>
        <p:spPr>
          <a:xfrm>
            <a:off x="4714920" y="928800"/>
            <a:ext cx="32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es necesariamente un desarrollo “cualitativo” (complejización de los rasgos semánt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3 CuadroTexto"/>
          <p:cNvSpPr/>
          <p:nvPr/>
        </p:nvSpPr>
        <p:spPr>
          <a:xfrm>
            <a:off x="4714920" y="242892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cambio cualitativo importante ocurre a los 6 años con el ingreso a la escola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4 CuadroTexto"/>
          <p:cNvSpPr/>
          <p:nvPr/>
        </p:nvSpPr>
        <p:spPr>
          <a:xfrm>
            <a:off x="4714920" y="3929040"/>
            <a:ext cx="3357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desarrollo es más bien “cuantitativo” (número de conexiones semánticas, cantidad de piezas léxicas en relaciones de sinonimia o hiperonim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4"/>
          <p:cNvSpPr/>
          <p:nvPr/>
        </p:nvSpPr>
        <p:spPr>
          <a:xfrm>
            <a:off x="395280" y="40464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Noción de “pieza léxic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395280" y="404640"/>
            <a:ext cx="2305080" cy="7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3276720" y="333360"/>
            <a:ext cx="532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ión de un sonido (significante) y un concepto (significado) que vehiculan intenciones comunicativas y que actualizan referentes, presentes o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3276720" y="1989000"/>
            <a:ext cx="460836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ión lograda gracias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abilidades sensor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abilidades cogniti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abilidades motr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3276720" y="3645000"/>
            <a:ext cx="49687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ceso general de establecimiento de un signo lingüístico en relación a un refer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ercep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nomin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bstracción hacia el prototi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395280" y="40464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Noción de “pieza léxic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395280" y="404640"/>
            <a:ext cx="2305080" cy="7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3059280" y="404640"/>
            <a:ext cx="56163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ación arbitraria y convencional con el refe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forma un conjunto mental llamado “lexicó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 propiedades físicas percep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 propiedade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 relaciones semánticas con otras piezas léx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 funciones sintác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enriquece conceptualmente según las historias comunicativas de los individu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4"/>
          <p:cNvSpPr/>
          <p:nvPr/>
        </p:nvSpPr>
        <p:spPr>
          <a:xfrm>
            <a:off x="539640" y="333360"/>
            <a:ext cx="79218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ción de “concept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idad cognitiva que organiza los objetos y eventos del mundo como pertenecientes a una clase porque tiene características especiales que las diferencias de otros ob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presentación descontextualizada de un referente gracias a la integración de las distintas entradas senso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250920" y="260280"/>
            <a:ext cx="8496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775f55"/>
                </a:solidFill>
                <a:latin typeface="Tw Cen MT"/>
              </a:rPr>
              <a:t>Preguntas ante el                     desarrollo semántico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6836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¿Cómo aprende el niño las palabras? ¿Qué procesos psicolingüísticos dirigen su aprendizaj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¿Cómo se conforman las relaciones léxicas en el vocabulario del niño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¿Qué palabras conoce (comprende y produce) un niño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775f55"/>
                </a:solidFill>
                <a:latin typeface="Tw Cen MT"/>
              </a:rPr>
              <a:t>¿Cómo aprende un niño                               las palabras?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95280" y="1989000"/>
            <a:ext cx="77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diciones bás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611280" y="2637000"/>
            <a:ext cx="63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imiento del mundo: objetos, procesos, cualidades y rel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611280" y="3500280"/>
            <a:ext cx="61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onocimiento de patrones sonoros recurrentes y aisl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611280" y="443700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lanteamiento, aceptación y verificación de relaciones de arbitrarie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611280" y="544500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formación de sistemas léx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4"/>
          <p:cNvSpPr/>
          <p:nvPr/>
        </p:nvSpPr>
        <p:spPr>
          <a:xfrm>
            <a:off x="1042920" y="47628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currencia en procesos de calibración concep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395280" y="198900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fraextensión / sobrerrestricción 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6"/>
          <p:cNvSpPr/>
          <p:nvPr/>
        </p:nvSpPr>
        <p:spPr>
          <a:xfrm>
            <a:off x="611280" y="2708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395280" y="4292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breextensión 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8"/>
          <p:cNvSpPr/>
          <p:nvPr/>
        </p:nvSpPr>
        <p:spPr>
          <a:xfrm>
            <a:off x="3635280" y="4508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5796000" y="414972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blecimiento de una organización conceptual y léx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3708360" y="551664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partir de los 36 m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75f55"/>
                </a:solidFill>
                <a:latin typeface="Tw Cen MT"/>
              </a:rPr>
              <a:t>¿Cómo se conforman las relaciones léxicas en el vocabulario del niño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755640" y="25653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ementos bás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ementos superorde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ementos subordi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775f55"/>
                </a:solidFill>
                <a:latin typeface="Tw Cen MT"/>
              </a:rPr>
              <a:t>¿Qué palabras conoce un niño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457200" y="1600200"/>
          <a:ext cx="8229600" cy="4070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ía concept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100 primeras palab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ida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5" name="Text Box 33"/>
          <p:cNvSpPr/>
          <p:nvPr/>
        </p:nvSpPr>
        <p:spPr>
          <a:xfrm>
            <a:off x="539640" y="59500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pus de Serra-Solé. Serra et al. 2000. La adquisición del lenguaje. Barcelona, Ari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01:39Z</dcterms:created>
  <dc:creator>Alejandra</dc:creator>
  <dc:description/>
  <dc:language>en-US</dc:language>
  <cp:lastModifiedBy>medicina</cp:lastModifiedBy>
  <dcterms:modified xsi:type="dcterms:W3CDTF">2009-09-29T13:25:47Z</dcterms:modified>
  <cp:revision>11</cp:revision>
  <dc:subject/>
  <dc:title>Desarrollo de la competencia        semántica léxica</dc:title>
</cp:coreProperties>
</file>