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CE3FB-A2A6-473E-ACE1-ECF6ECC33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1052D-53D0-44F0-823D-57857A3FA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082727-7616-41FC-AC3D-4DB05AC8C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C1801E-684D-479F-BEF3-DFD25B22A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DB6777-9011-4B22-8232-D653C2CCD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01B658-D75D-4FD9-9A44-D89D4A49B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1DCEA8-D933-41A9-971A-FD18AF166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3A49F6-545A-4EA7-8009-6B312932B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E2C73F-15A0-4417-BFCF-FEA9057F0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DE6D16-A39E-478A-B18F-9DD6483CF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7E6481-B82D-467E-913D-F9BAB9736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F279B-7194-473E-B49D-143FF2DC0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2B0B9-3C9C-4964-9FBE-31D5E7099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D48B4-A0E3-44AB-924A-273D9C95D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EAC3E-256C-4931-94AD-10F8BF981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F42BD-B646-440F-909F-A9A5B7004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4CB01-42A4-4ED4-9EE4-12680B5C8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2C11D-CA7B-45B0-B7C8-40A4F1F2F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CFD7B-38BA-4B9E-849E-FCD0534DC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AE5A3-FB3C-4128-AFB9-EA3064D6C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1A7B6-E81F-4495-BA24-42671490A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60F4F-4F03-44B9-A46A-5491EEFEB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540C6-32F1-4DCA-BC18-73502B114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68033-E35C-49F1-9736-0C2A166AE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CF22D-D73E-4B78-B122-D0AB440D2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18836-BAA2-411E-BD16-D1501F1B7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D188336-E7DB-4530-9A2A-243147E29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CB0C4EE-C7EF-4061-935E-7AA3A50E0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157CA2F-9725-4B62-8271-57ED319F2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6C92E8E-300C-4E67-842B-AF6AE791A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6DC1654-3212-4C60-9EB3-4BB8A4E1A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2C4E5-F77B-41F6-B840-8567BB3BC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1F54D45-C357-491E-92EC-E68B6FD44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AC219B9-573F-494E-989B-1BA49B536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51062DF-4DDE-422C-9AEA-B6A650EA6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2D3BD6C-C90E-46FF-8640-359498161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FE5B5E0-D0CE-43D8-8D77-87CD442FA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A05DD3E-4EFF-4C0C-946A-1688C593D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8FCB221-AFB7-44A1-AEE9-31A5ACD24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E2A8CCA-C51A-43C9-9B7C-9D9E567CC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1026584-4291-4BD5-8449-CC416D774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2A687AF-4A39-4EDB-B525-C4EA14961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0B70B-69FD-471C-A00E-F727CDD6E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A13AB26-8BFC-4404-8CD4-ABA6B0F54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5BDFD3D-12B2-4CD3-A288-D609DDF7E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7D1F3C5-ADEC-42CD-8F68-0316B8F8E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9B6944D-207D-4523-9EE8-23D2838D8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FEC4D61-9439-46CB-9720-D5CD75385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E661A63-0B2E-4C54-BFA2-14660B146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DDE0BF2-8AAC-4042-A500-DBECD574B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8FE4E6A-CF54-4709-8C10-7918ADCF1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50ED8E1-2DB4-4D9B-B619-8003CDC64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C6595E4-66BA-4DF9-A10C-88BFC12CE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98E2D-6F5B-4E5D-A421-EB4D8E0DF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4359714-02BF-4F63-AA67-9E8CB3920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CAA4893-45E5-470F-BF02-80D53C699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797EADB-D368-4EBC-8F82-8732AD31F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C4822B6-9574-44FD-9F7A-526D9A911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71FFBEC-805E-4867-B388-7804DA9C6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3EAB845-4E08-4887-BF3F-3A52CFF91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2FBB91A-4308-4209-ACF7-6A981FE04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20C1BE7-B99B-4B52-9263-C1C0E9EA0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61D3F0C-649B-4950-996F-F709EC13B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7634D1D-1408-4A77-A028-ECC22B238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A8BDE-BB87-4391-A894-9084FEF05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7F34C6C-9EF7-4F4A-9AED-D1E0931BB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A5F7C7-FB43-4743-99E3-B2D2A2C90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7998BE-C5E6-4A26-AF82-CE78495BD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5A3F09-F501-4416-8A8B-88131A62A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BBE72B-3C8F-46F6-8B2C-F84671BB5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B6022A-1278-42BD-BF64-EEEFA37D0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8D4114-43CD-4A33-B7ED-0417D71E6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8191C4-3213-48CD-9A65-7D71461CA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9D10FD-D0D1-4C58-8438-F5151F0BC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AF7E93-C18F-4E72-B22B-2D18CE7C5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06062-0C7A-4AA8-B59C-2C001848B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13318D-189C-4B42-B900-672D8EDDE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8C6944-FBEC-4D15-AA5F-A3003C79B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798877-1931-497E-8D8D-C58164496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D15B2FE-D6BD-40E6-865D-A5A78CC59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D803A62-B198-48BD-87C5-DF10A96F0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BF4CC9B-F13F-4D66-8F39-E67AA63DE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D8DF047-8BAD-4EB4-9908-A4D5A99C2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060B8D1-DAD3-48BF-9F94-CF1AC25F4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3BF9CA6-7B7D-4799-B1A6-E449B5BCB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CC37C52-E7C8-4AF3-B7DA-12776F994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3F326-C55A-46C2-B156-E20614A2B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13E3DD4-3AF7-4A78-BFAB-651CF3012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7B3A026-70B8-41B6-A467-599E7B2E3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758285E-ED56-4028-8794-53B00B2B5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2A50105-E2C5-464B-A990-CE86CDED2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12002A8-FF27-4720-9217-C63513AA1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79E3AF-78F3-40E1-BADE-2AF023B30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24BA9C-3FD1-487F-A13C-5FB5A75AC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91000F-F10F-450A-985F-5A691B0D3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24A3AB-0BB9-4419-9BAC-375749CDF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AFD77D-42BE-4E84-9CF2-77B1E2FA9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B116C-30EC-4871-90F3-5DD6AE4B3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319F76-6F6D-49AF-88F5-33B9004B4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5F8078-8854-4784-9728-6B728C771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57BA65-188D-439C-84B9-00B487340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E1E5B3-7F63-4DBF-9725-AB661C134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C94EE2-775E-4E1C-90AD-AA851A0C0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41ED0A-19CD-43B5-8F5A-C538FA7A1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1A16C8-B358-4131-88A4-5A85D25C8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3C82F4-C074-4DC2-8BB5-CDA8754AC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EAA1D9-9243-4A63-917C-B0D286E0C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7328ED-0849-414C-AEFB-060FE57E4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6 Rectángulo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7 Rectángulo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8 Rectángulo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BCB45-59BA-42A0-84A8-C8576281D07D}" type="slidenum">
              <a:rPr b="1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9 Rectángulo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10 Rectángulo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11 Rectángulo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ebddc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42C5C-A3F5-475B-8DEC-CB91EDEDDF38}" type="slidenum">
              <a:rPr b="1" lang="es-ES" sz="1400" spc="-1" strike="noStrike">
                <a:solidFill>
                  <a:srgbClr val="ebddc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9 Rectángulo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10 Rectángulo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11 Rectángulo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AF0E3-6CE9-4308-99B6-69D476AFEB1C}" type="slidenum"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6 Rectángulo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7 Rectángulo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8 Rectángulo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343DF-CAD0-4C1F-8CAF-03E1581FF2CD}" type="slidenum">
              <a:rPr b="1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6 Rectángulo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7 Rectángulo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8 Rectángulo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F2049-9646-49E0-AB94-68772C188D15}" type="slidenum">
              <a:rPr b="1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0F9E2-6DB2-4A23-8BB0-B1680B28CD2B}" type="slidenum">
              <a:rPr b="1" lang="es-ES" sz="1400" spc="-1" strike="noStrike">
                <a:solidFill>
                  <a:srgbClr val="775f5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9 Rectángulo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10 Rectángulo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11 Rectángulo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14 Rectángulo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2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BEDE1-3407-402C-A03E-6D0FBDE5A29D}" type="slidenum">
              <a:rPr b="1" lang="es-ES" sz="2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9 Rectángulo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10 Rectángulo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11 Rectángulo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AC40C-015F-43EB-A52B-C214D7FA1749}" type="slidenum">
              <a:rPr b="1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6 Rectángulo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7 Rectángulo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8 Rectángulo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A7D0B-5C0A-46D9-9B39-CB33734FD770}" type="slidenum">
              <a:rPr b="1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361960" y="4038480"/>
            <a:ext cx="647676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ebddc3"/>
                </a:solidFill>
                <a:latin typeface="Tw Cen MT"/>
              </a:rPr>
              <a:t>DESARROLLO DE LA COMPETENCIA        SEMÁNTICA LÉXICA</a:t>
            </a:r>
            <a:endParaRPr b="0" lang="en-US" sz="40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26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6" name=""/>
          <p:cNvGraphicFramePr/>
          <p:nvPr/>
        </p:nvGraphicFramePr>
        <p:xfrm>
          <a:off x="468360" y="260280"/>
          <a:ext cx="8207280" cy="6264360"/>
        </p:xfrm>
        <a:graphic>
          <a:graphicData uri="http://schemas.openxmlformats.org/drawingml/2006/table">
            <a:tbl>
              <a:tblPr/>
              <a:tblGrid>
                <a:gridCol w="2838240"/>
                <a:gridCol w="5369040"/>
              </a:tblGrid>
              <a:tr h="185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tidad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guetes, comida, vehículos, partes del cuerpo, ropa, nombres propios, animales, relaciones familiar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1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ion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ceptuales y que se realizan con partes del cuerpo; atributiv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alidad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ma, color, tamaño, cuantificación, evaluació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6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cion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paciales, posesivas, temporal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cial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eptación, negación , fórmula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Text Box 4"/>
          <p:cNvSpPr/>
          <p:nvPr/>
        </p:nvSpPr>
        <p:spPr>
          <a:xfrm>
            <a:off x="179280" y="404640"/>
            <a:ext cx="8352000" cy="64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Función “social” de la utilización del léx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Funciones comunicativas sociales y expresiv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Fórmulas de saludo y despedi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Negación y acept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Finalización de una ac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Funciones regulativ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requerimiento de objetos y acciones (protoimperativos e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imperativo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requerimientos inespecífic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Funciones informativ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eíctic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identificación perso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oses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enominación nominal y verb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7" dur="500"/>
                                        <p:tgtEl>
                                          <p:spTgt spid="4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0" dur="500"/>
                                        <p:tgtEl>
                                          <p:spTgt spid="4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3" dur="500"/>
                                        <p:tgtEl>
                                          <p:spTgt spid="4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6" dur="500"/>
                                        <p:tgtEl>
                                          <p:spTgt spid="4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1" dur="500"/>
                                        <p:tgtEl>
                                          <p:spTgt spid="4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4" dur="500"/>
                                        <p:tgtEl>
                                          <p:spTgt spid="4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7" dur="500"/>
                                        <p:tgtEl>
                                          <p:spTgt spid="4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0" dur="500"/>
                                        <p:tgtEl>
                                          <p:spTgt spid="4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5" dur="500"/>
                                        <p:tgtEl>
                                          <p:spTgt spid="4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8" dur="500"/>
                                        <p:tgtEl>
                                          <p:spTgt spid="4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1" dur="500"/>
                                        <p:tgtEl>
                                          <p:spTgt spid="42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4" dur="500"/>
                                        <p:tgtEl>
                                          <p:spTgt spid="42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7" dur="500"/>
                                        <p:tgtEl>
                                          <p:spTgt spid="42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2361960" y="4038480"/>
            <a:ext cx="647676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ebddc3"/>
                </a:solidFill>
                <a:latin typeface="Tw Cen MT"/>
              </a:rPr>
              <a:t>DESARROLLO DE LA COMPETENCIA SEMÁNTICO - GRAMATICAL</a:t>
            </a:r>
            <a:endParaRPr b="0" lang="en-US" sz="40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26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Text Box 4"/>
          <p:cNvSpPr/>
          <p:nvPr/>
        </p:nvSpPr>
        <p:spPr>
          <a:xfrm>
            <a:off x="395280" y="620640"/>
            <a:ext cx="23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parición de preposic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1" name=""/>
          <p:cNvGraphicFramePr/>
          <p:nvPr/>
        </p:nvGraphicFramePr>
        <p:xfrm>
          <a:off x="2556000" y="692280"/>
          <a:ext cx="6095880" cy="438948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partir de los 26 meses promedio aparecen las primeras preposiciones, pero con diferencias individuales significativa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meras preposiciones: “a”  y “en” locativos; “de” posesivo; “con” instrumental y compañía y “para” de finalida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los 4 años están afianzadas: a, con, de, en, para, por. Sin, hasta y entre son esporádica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los 7 años están afianzadas: contra, hacia, desde, sob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Text Box 2"/>
          <p:cNvSpPr/>
          <p:nvPr/>
        </p:nvSpPr>
        <p:spPr>
          <a:xfrm>
            <a:off x="395280" y="620640"/>
            <a:ext cx="237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anejo de    cláusulas con   valores      semánti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3" name=""/>
          <p:cNvGraphicFramePr/>
          <p:nvPr/>
        </p:nvGraphicFramePr>
        <p:xfrm>
          <a:off x="2556000" y="692280"/>
          <a:ext cx="6095880" cy="402264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bordinadas causales, con partículas “porque” y “que”, a los 3 añ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bordinadas de finalidad, en niños de 4 años, con partículas “para que” pero con problemas en el subjuntiv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bordinadas temporales con “cuando” y condicionales con “si” más presente, pasado los 3 añ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bordinadas modales con “como” y “como si” desde los 3 añ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1 CuadroTexto"/>
          <p:cNvSpPr/>
          <p:nvPr/>
        </p:nvSpPr>
        <p:spPr>
          <a:xfrm>
            <a:off x="285840" y="928800"/>
            <a:ext cx="3571920" cy="642600"/>
          </a:xfrm>
          <a:prstGeom prst="rect">
            <a:avLst/>
          </a:prstGeom>
          <a:solidFill>
            <a:srgbClr val="e0cb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esarrollo semántico constante entre los 3 y los 6 añ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2 CuadroTexto"/>
          <p:cNvSpPr/>
          <p:nvPr/>
        </p:nvSpPr>
        <p:spPr>
          <a:xfrm>
            <a:off x="4714920" y="928800"/>
            <a:ext cx="3214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No es necesariamente un desarrollo “cualitativo” (complejización de los rasgos semántico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3 CuadroTexto"/>
          <p:cNvSpPr/>
          <p:nvPr/>
        </p:nvSpPr>
        <p:spPr>
          <a:xfrm>
            <a:off x="4714920" y="2428920"/>
            <a:ext cx="307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Un cambio cualitativo importante ocurre a los 6 años con el ingreso a la escolar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4 CuadroTexto"/>
          <p:cNvSpPr/>
          <p:nvPr/>
        </p:nvSpPr>
        <p:spPr>
          <a:xfrm>
            <a:off x="4714920" y="3929040"/>
            <a:ext cx="3357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l desarrollo es más bien “cuantitativo” (número de conexiones semánticas, cantidad de piezas léxicas en relaciones de sinonimia o hiperonimi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Text Box 4"/>
          <p:cNvSpPr/>
          <p:nvPr/>
        </p:nvSpPr>
        <p:spPr>
          <a:xfrm>
            <a:off x="395280" y="404640"/>
            <a:ext cx="223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"/>
              </a:rPr>
              <a:t>Noción de “pieza léxica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Rectangle 5"/>
          <p:cNvSpPr/>
          <p:nvPr/>
        </p:nvSpPr>
        <p:spPr>
          <a:xfrm>
            <a:off x="395280" y="404640"/>
            <a:ext cx="2305080" cy="790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6"/>
          <p:cNvSpPr/>
          <p:nvPr/>
        </p:nvSpPr>
        <p:spPr>
          <a:xfrm>
            <a:off x="3276720" y="333360"/>
            <a:ext cx="5327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Unión de un sonido (significante) y un concepto (significado) que vehiculan intenciones comunicativas y que actualizan referentes, presentes o n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7"/>
          <p:cNvSpPr/>
          <p:nvPr/>
        </p:nvSpPr>
        <p:spPr>
          <a:xfrm>
            <a:off x="3276720" y="1989000"/>
            <a:ext cx="4608360" cy="19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Unión lograda gracias a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habilidades sensoria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habilidades cognitiv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habilidades motric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8"/>
          <p:cNvSpPr/>
          <p:nvPr/>
        </p:nvSpPr>
        <p:spPr>
          <a:xfrm>
            <a:off x="3276720" y="3645000"/>
            <a:ext cx="4968720" cy="26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Proceso general de establecimiento de un signo lingüístico en relación a un referen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percepció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denominació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abstracción hacia el prototip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Text Box 2"/>
          <p:cNvSpPr/>
          <p:nvPr/>
        </p:nvSpPr>
        <p:spPr>
          <a:xfrm>
            <a:off x="395280" y="404640"/>
            <a:ext cx="223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"/>
              </a:rPr>
              <a:t>Noción de “pieza léxica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Rectangle 3"/>
          <p:cNvSpPr/>
          <p:nvPr/>
        </p:nvSpPr>
        <p:spPr>
          <a:xfrm>
            <a:off x="395280" y="404640"/>
            <a:ext cx="2305080" cy="790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7"/>
          <p:cNvSpPr/>
          <p:nvPr/>
        </p:nvSpPr>
        <p:spPr>
          <a:xfrm>
            <a:off x="3059280" y="404640"/>
            <a:ext cx="5616360" cy="44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Relación arbitraria y convencional con el refer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onforma un conjunto mental llamado “lexicón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resenta propiedades físicas perceptiv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resenta propiedades funcion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stablece relaciones semánticas con otras piezas léxic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stablece funciones sintáctic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e enriquece conceptualmente según las historias comunicativas de los individu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4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4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4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500"/>
                                        <p:tgtEl>
                                          <p:spTgt spid="4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Text Box 4"/>
          <p:cNvSpPr/>
          <p:nvPr/>
        </p:nvSpPr>
        <p:spPr>
          <a:xfrm>
            <a:off x="539640" y="333360"/>
            <a:ext cx="7921800" cy="22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Noción de “concepto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ntidad cognitiva que organiza los objetos y eventos del mundo como pertenecientes a una clase porque tiene características especiales que las diferencias de otros obje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Representación descontextualizada de un referente gracias a la integración de las distintas entradas sensori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5"/>
          <p:cNvSpPr/>
          <p:nvPr/>
        </p:nvSpPr>
        <p:spPr>
          <a:xfrm>
            <a:off x="250920" y="260280"/>
            <a:ext cx="8496360" cy="244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775f55"/>
                </a:solidFill>
                <a:latin typeface="Tw Cen MT"/>
              </a:rPr>
              <a:t>Preguntas ante el                     desarrollo semántico</a:t>
            </a:r>
            <a:endParaRPr b="0" lang="en-US" sz="3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468360" y="1915920"/>
            <a:ext cx="8229600" cy="38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000000"/>
                </a:solidFill>
                <a:latin typeface="Tw Cen MT"/>
              </a:rPr>
              <a:t>¿Cómo aprende el niño las palabras? ¿Qué procesos psicolingüísticos dirigen su aprendizaje?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000000"/>
                </a:solidFill>
                <a:latin typeface="Tw Cen MT"/>
              </a:rPr>
              <a:t>¿Cómo se conforman las relaciones léxicas en el vocabulario del niño?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000000"/>
                </a:solidFill>
                <a:latin typeface="Tw Cen MT"/>
              </a:rPr>
              <a:t>¿Qué palabras conoce (comprende y produce) un niño?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500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" dur="500"/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" dur="500"/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775f55"/>
                </a:solidFill>
                <a:latin typeface="Tw Cen MT"/>
              </a:rPr>
              <a:t>¿Cómo aprende un niño                               las palabras?</a:t>
            </a:r>
            <a:endParaRPr b="0" lang="en-US" sz="3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9" name="Text Box 5"/>
          <p:cNvSpPr/>
          <p:nvPr/>
        </p:nvSpPr>
        <p:spPr>
          <a:xfrm>
            <a:off x="395280" y="1989000"/>
            <a:ext cx="777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Condiciones básic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 Box 6"/>
          <p:cNvSpPr/>
          <p:nvPr/>
        </p:nvSpPr>
        <p:spPr>
          <a:xfrm>
            <a:off x="611280" y="2637000"/>
            <a:ext cx="6337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onocimiento del mundo: objetos, procesos, cualidades y relac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 Box 7"/>
          <p:cNvSpPr/>
          <p:nvPr/>
        </p:nvSpPr>
        <p:spPr>
          <a:xfrm>
            <a:off x="611280" y="3500280"/>
            <a:ext cx="619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Reconocimiento de patrones sonoros recurrentes y aislabl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 Box 8"/>
          <p:cNvSpPr/>
          <p:nvPr/>
        </p:nvSpPr>
        <p:spPr>
          <a:xfrm>
            <a:off x="611280" y="4437000"/>
            <a:ext cx="640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lanteamiento, aceptación y verificación de relaciones de arbitrarie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 Box 9"/>
          <p:cNvSpPr/>
          <p:nvPr/>
        </p:nvSpPr>
        <p:spPr>
          <a:xfrm>
            <a:off x="611280" y="5445000"/>
            <a:ext cx="619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onformación de sistemas léxic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Text Box 4"/>
          <p:cNvSpPr/>
          <p:nvPr/>
        </p:nvSpPr>
        <p:spPr>
          <a:xfrm>
            <a:off x="1042920" y="476280"/>
            <a:ext cx="662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Recurrencia en procesos de calibración conceptu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5"/>
          <p:cNvSpPr/>
          <p:nvPr/>
        </p:nvSpPr>
        <p:spPr>
          <a:xfrm>
            <a:off x="395280" y="1989000"/>
            <a:ext cx="511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nfraextensión / sobrerrestricción concept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Line 6"/>
          <p:cNvSpPr/>
          <p:nvPr/>
        </p:nvSpPr>
        <p:spPr>
          <a:xfrm>
            <a:off x="611280" y="270828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7"/>
          <p:cNvSpPr/>
          <p:nvPr/>
        </p:nvSpPr>
        <p:spPr>
          <a:xfrm>
            <a:off x="395280" y="4292640"/>
            <a:ext cx="403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obreextensión concept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Line 8"/>
          <p:cNvSpPr/>
          <p:nvPr/>
        </p:nvSpPr>
        <p:spPr>
          <a:xfrm>
            <a:off x="3635280" y="450864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9"/>
          <p:cNvSpPr/>
          <p:nvPr/>
        </p:nvSpPr>
        <p:spPr>
          <a:xfrm>
            <a:off x="5796000" y="4149720"/>
            <a:ext cx="295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stablecimiento de una organización conceptual y léx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10"/>
          <p:cNvSpPr/>
          <p:nvPr/>
        </p:nvSpPr>
        <p:spPr>
          <a:xfrm>
            <a:off x="3708360" y="5516640"/>
            <a:ext cx="367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 partir de los 36 me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1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775f55"/>
                </a:solidFill>
                <a:latin typeface="Tw Cen MT"/>
              </a:rPr>
              <a:t>¿Cómo se conforman las relaciones léxicas en el vocabulario del niño?</a:t>
            </a:r>
            <a:endParaRPr b="0" lang="en-US" sz="32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22" name="Rectangle 5"/>
          <p:cNvSpPr/>
          <p:nvPr/>
        </p:nvSpPr>
        <p:spPr>
          <a:xfrm>
            <a:off x="755640" y="2565360"/>
            <a:ext cx="4572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lementos bási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lementos superorden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lementos subordin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775f55"/>
                </a:solidFill>
                <a:latin typeface="Tw Cen MT"/>
              </a:rPr>
              <a:t>¿Qué palabras conoce un niño?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graphicFrame>
        <p:nvGraphicFramePr>
          <p:cNvPr id="424" name=""/>
          <p:cNvGraphicFramePr/>
          <p:nvPr/>
        </p:nvGraphicFramePr>
        <p:xfrm>
          <a:off x="457200" y="1600200"/>
          <a:ext cx="8229600" cy="40705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tegoría conceptu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 100 primeras palabra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tidad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2,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4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ion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,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5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alidad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,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cion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,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6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cial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,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25" name="Text Box 33"/>
          <p:cNvSpPr/>
          <p:nvPr/>
        </p:nvSpPr>
        <p:spPr>
          <a:xfrm>
            <a:off x="539640" y="5950080"/>
            <a:ext cx="763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orpus de Serra-Solé. Serra et al. 2000. La adquisición del lenguaje. Barcelona, Arie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5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0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6T13:01:39Z</dcterms:created>
  <dc:creator>Alejandra</dc:creator>
  <dc:description/>
  <dc:language>en-US</dc:language>
  <cp:lastModifiedBy>medicina</cp:lastModifiedBy>
  <dcterms:modified xsi:type="dcterms:W3CDTF">2009-09-29T13:25:47Z</dcterms:modified>
  <cp:revision>11</cp:revision>
  <dc:subject/>
  <dc:title>Desarrollo de la competencia        semántica léxica</dc:title>
</cp:coreProperties>
</file>