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C79-498B-424F-947D-F2F4751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482-0792-406E-9675-9394EA23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9BC9A-D5CE-4D7E-8C23-69F33E3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ED2DE-F9B0-4F2C-B9A2-5DC2C9D8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F3FB5-C7D4-4F98-AB60-4F4F9F4F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6779-FBCB-4D84-A31A-FD4762B3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8DAF-7830-43E3-8259-BCD069F9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FCB4-F6EE-4C34-9172-81731AA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6DD13-8364-4611-B917-793B74F7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17A62-E565-4B6C-8088-3D9634FC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FC4F-7ECE-430A-9F53-3804FA1E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918-550C-4853-B0E8-A08CA49B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E26-711F-49E0-B101-135DFA1B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3D8-CDA9-477F-ABF6-27F5EF58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B7D-26DC-4CAF-BA5E-CB84DC3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A57-571E-496F-B8A3-CC75E4F6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AB22-85C3-4F66-8AE6-F3437784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874-4D65-45ED-9FF5-2EF3291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164E-E6D6-4601-9BCD-76F6B11E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C9CF-B81D-4251-986D-C0BA903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56D-6673-4A5B-907D-CEF99EE9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4E1E-FE48-467B-BC61-9F72D7F3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2266-FBBD-4561-837B-9A01B85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68B6-7F21-4AE8-8541-DEBC041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C434-AA2F-4253-9087-79331759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357-7E2F-4903-97E5-9A9FB88E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5AD55-D139-4C0B-9ED0-024FEF72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3CE1F-8360-4950-AFB8-98158DC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BD423-F5E9-46E4-8804-43D96A43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215E3-134B-4E5F-91E5-1885CDD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81A0B-7AF3-45BD-8EEC-2F6528B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E23-DE18-4E7E-B9E5-EB6FC47C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2497F-4103-44BC-9BB3-9FA11286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47E8A-ED06-4DEE-ADC2-26163FC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10CC1-C8FF-45D3-BEE3-CBB8292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8EDBC-4DFB-4107-BDB2-8D0F843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A97D2-3301-412E-9B80-2D87F77D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76648-21E9-47F7-AD7F-6998A78E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8BC79-D125-4208-9E64-D656127B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1B2D6-1E32-4443-84D3-AEB57AD2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4BB23-E73C-47A2-BEEE-00787B7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D6DAF-1F0D-4BC8-BCF1-9197379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3B9-CF7D-4A55-878E-35A7C598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90AE1-2FD7-42ED-B6BE-C211DF70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F451F-948A-48C7-B6CA-9AB73D7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92C34-3850-4C8E-85FF-1C48A826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88B69-3A71-4912-A269-802326E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63CD8-63AB-4ED3-A7FA-D1364B6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0C6A6-DF6F-4D62-8E46-1537F92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6D930-B85A-43EE-A2DD-C9363FA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6C76D-CC1E-43C2-A19D-77489344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5675F-F49A-4453-BDF1-27D27242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0EA34-E8A3-494B-A3EE-E451B779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421-9C5F-4DA2-90D0-1E2C4B56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E7231-1D0E-453C-8DA2-09F7246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AF088-71E8-4181-9BC5-56AEE811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6E22C-5B8C-45A5-A14A-506B6C2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5AFFD-3B59-4F33-9E1F-ED04D15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0C8A0-FB69-4507-BAAC-5A0351D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542C2-9414-4975-956A-2960F9A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85EBF-0FBE-469B-8EF6-9694647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7D568-EB6B-4563-B2D5-0945F702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C4B3A-0CE1-4267-B18E-726513A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BF15F-4E33-430C-820C-ABEE3FE7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238-7ED9-4074-A71C-0D8803A5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7CAA3-17C1-419E-B891-BB18C0CC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8DBD-EC45-4C59-925F-176B7617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BB5EF-5082-4DFC-883E-A61A557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BBD7-D4BF-420B-9BA7-9FAB62F9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1EFE-75B3-474C-A917-A07BCD3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1DF0-AA73-47CD-A167-305D5031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4A44-39C7-48C7-A116-35D99944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2ABA-7F15-4F34-A84C-65DC3B0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11D7-A951-4C5E-A71F-C189FD3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0C4F-0032-483E-8DE5-54F0AA3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E70-EA2A-445C-A7EC-D4BA4D4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0FA89-E0DF-46B5-87B5-6FEA07EC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D07EB-89E8-499D-9A40-EEE478B4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6419-739D-4904-9453-287D8D16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1DE6C-31EC-458A-B943-404D5BE5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F8B61-8E04-4B7A-836B-06802734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05C28-0406-4ECB-9D16-160E185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7E72F-0F86-42F8-AB96-8FADE95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CBA97-E2A3-4045-A4F8-746B5A6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181C3-9728-4648-ABAC-300826CD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6C047-F866-419A-B8DC-CB9A3DB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5CA-A387-4A75-8C0A-3F675D2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BC322-9292-410C-A103-EB91D24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042C4-2B08-4796-ABDB-8B361AA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17341-9B54-4A28-8F89-1E91D53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232E1-DDA8-42F0-81AA-6842BD0C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F6CCF-D1F5-4CCF-83D1-04DA550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87A9-0168-4B4E-950E-CF52C14F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0CB9-04A9-4AE0-9428-38BE3DB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1C66-AE0A-4BB3-927F-8241AED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282E-6FC1-4133-98C2-E36C2A3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12B8-E4CE-45E3-8897-0C16518C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B4A-169E-49DE-9B3D-34CFCD2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D6CD-6EA3-46E8-9180-46A25C5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B83A-F610-4636-9844-0251B45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09D2E-FBA5-4C0C-93A7-712E62E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F6E1-CCA9-4956-9454-5F3B224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38015-D83D-41F9-BB7C-FEFA9DFC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3143-D261-4EBF-9A92-6A72D355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00AAF-BBC7-46BC-922F-4DBD03D6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278DC-4863-4463-8367-70574096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121A5-7B6D-4665-903B-2FDD2BD3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09F9D-1876-4F87-8D10-D02F400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5B3B-4A67-4886-91E5-E202D6167FD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8FE-F282-4F88-B9A9-83E83A031C54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3A2-BF72-490A-89C1-61E28F79D923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A366-56FD-4B15-9473-70A6B4A29F1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D1AD-51EE-4506-A285-70FCDA0C7C8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998-59B6-4127-8E23-1C343DD63D9C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4AE-6EEE-4260-B635-E25E3E64B062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9896-1CEA-4438-8E3C-2DF3A881ADA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8A6-F737-48ED-9AC3-5B3C0106A2F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       SEMÁNTICA LÉXICA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260280"/>
          <a:ext cx="8207280" cy="6264360"/>
        </p:xfrm>
        <a:graphic>
          <a:graphicData uri="http://schemas.openxmlformats.org/drawingml/2006/table">
            <a:tbl>
              <a:tblPr/>
              <a:tblGrid>
                <a:gridCol w="2838240"/>
                <a:gridCol w="536904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etes, comida, vehículos, partes del cuerpo, ropa, nombres propios, animales, relaciones famili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uales y que se realizan con partes del cuerpo; atribu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, color, tamaño, cuantificación,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iales, posesivas, tempo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ptación, negación , fórm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79280" y="404640"/>
            <a:ext cx="8352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“social” de la utilización del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comunicativas sociales y expre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órmulas de saludo y desp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ción y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nalización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regu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 de objetos y acciones (protoimperativos e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er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s in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inform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í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ción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ominación nominal y ver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SEMÁNTICO - GRAMATICAL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arición de prepos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56000" y="692280"/>
          <a:ext cx="6095880" cy="4389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tir de los 26 meses promedio aparecen las primeras preposiciones, pero con diferencias individuales signif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preposiciones: “a”  y “en” locativos; “de” posesivo; “con” instrumental y compañía y “para” de fin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4 años están afianzadas: a, con, de, en, para, por. Sin, hasta y entre son esporá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7 años están afianzadas: contra, hacia, desde, so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95280" y="62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jo de    cláusulas con   valores      semán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56000" y="692280"/>
          <a:ext cx="6095880" cy="4022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causales, con partículas “porque” y “que”, a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de finalidad, en niños de 4 años, con partículas “para que” pero con problemas en el subjun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temporales con “cuando” y condicionales con “si” más presente, pasado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modales con “como” y “como si” desde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285840" y="928800"/>
            <a:ext cx="3571920" cy="64260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semántico constante entre los 3 y los 6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4714920" y="92880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necesariamente un desarrollo “cualitativo” (complejización de los rasgos semán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4714920" y="2428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ambio cualitativo importante ocurre a los 6 años con el ingreso a la escol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4714920" y="3929040"/>
            <a:ext cx="33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sarrollo es más bien “cuantitativo” (número de conexiones semánticas, cantidad de piezas léxicas en relaciones de sinonimia o hiperoni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7672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de un sonido (significante) y un concepto (significado) que vehiculan intenciones comunicativas y que actualizan referentes, presentes o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76720" y="1989000"/>
            <a:ext cx="4608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lograda gracia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sensor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cogn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mo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76720" y="3645000"/>
            <a:ext cx="496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 general de establecimiento de un signo lingüístico en relación a un refe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nom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stracción hacia el protot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3059280" y="404640"/>
            <a:ext cx="56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ón arbitraria y convencional con el re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 un conjunto mental llamado “lexic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ísicas percep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relaciones semánticas con otras piezas léx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funciones sin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nriquece conceptualmente según las historias comunicativas de los indiv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539640" y="333360"/>
            <a:ext cx="79218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ción de “concep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idad cognitiva que organiza los objetos y eventos del mundo como pertenecientes a una clase porque tiene características especiales que las diferencias de otr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scontextualizada de un referente gracias a la integración de las distintas entrada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260280"/>
            <a:ext cx="8496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Preguntas ante el                     desarrollo semántic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aprende el niño las palabras? ¿Qué procesos psicolingüísticos dirigen su aprendizaj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se conforman las relaciones léxicas en el vocabulario del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Qué palabras conoce (comprende y produce) un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¿Cómo aprende un niño                               las palabra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95280" y="198900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dicione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1280" y="263700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iento del mundo: objetos, procesos, cualidad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11280" y="35002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imiento de patrones sonoros recurrentes y aisl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11280" y="4437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, aceptación y verificación de relaciones de arbitrar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544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ción de sistemas lé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1042920" y="476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rencia en procesos de calibración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95280" y="19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raextensión / sobrerrestricc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611280" y="2708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95280" y="429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extens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63528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5796000" y="414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una organización conceptual y lé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70836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36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¿Cómo se conforman las relaciones léxicas en el vocabulario del niñ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755640" y="2565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per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bord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¿Qué palabras conoce un niño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 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100 primeras palab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33"/>
          <p:cNvSpPr/>
          <p:nvPr/>
        </p:nvSpPr>
        <p:spPr>
          <a:xfrm>
            <a:off x="53964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us de Serra-Solé. Serra et al. 2000. La adquisición del lenguaje. Barcelona, Ar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1:39Z</dcterms:created>
  <dc:creator>Alejandra</dc:creator>
  <dc:description/>
  <dc:language>en-US</dc:language>
  <cp:lastModifiedBy>medicina</cp:lastModifiedBy>
  <dcterms:modified xsi:type="dcterms:W3CDTF">2009-09-29T13:25:47Z</dcterms:modified>
  <cp:revision>11</cp:revision>
  <dc:subject/>
  <dc:title>Desarrollo de la competencia        semántica léxica</dc:title>
</cp:coreProperties>
</file>