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6E78-BB85-4DBC-B471-B30E1869F92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F4F-1F4F-4979-8988-43AF891EC427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4644-9111-4579-A149-2E7CF835E50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3F6-86D6-4360-A465-523AC3684B4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67BB-D808-4F7E-A32B-54042EB7828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8E98-262A-462D-B26F-C74E52AB7B38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D15-7674-444D-94BB-7A8B8FDF685D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D14-3219-438E-A619-F69A28BFED0C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84EE-D936-40AC-911C-1CCCDCBFCF70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C713-F7F1-4843-A9F8-F52762FE1056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7D81-47E7-400E-9362-80EE7FCD9F81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A22D-8028-4DF3-8DF9-A34435657D7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FE1D-ECD4-4825-9B8B-C53E5B5AAF72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E1FF-BB61-4EFE-99BD-DB444115484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F94-8530-453C-9AEE-2B0D43A9AE2F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3F8-D62F-490B-9030-5B522AB5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39B-DA06-420D-A2AA-D1D2D451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5DF-2222-48D0-8E59-B3F8203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42D-C6D3-4DC9-93E1-6B875380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136C6-7132-44F2-87F3-C03DB441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89FD2-82AD-40BD-9570-31FF8C6D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A5C96-EB5C-4300-A56A-84E32332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4009A-8709-4BA0-8DE0-E05B3475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772E1-840B-48AA-BBEA-E3AA63D1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107F8-188B-4F9F-BD65-D9B383B3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ADED4-1956-4634-8CA9-693394F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C77-56E3-4B23-8ECF-AD372CA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B7B6B-1819-4A52-86FF-F9159C0D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A95E3-B6C4-4D80-8828-E40E928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3440-331A-431F-BDAA-36494BC9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92DED-8624-4EEF-B9B7-934037C9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014F4-BF13-4911-A7B2-40E6D8A0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11DC-239B-4931-ACE9-3E3C4795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482F-3817-4DF9-953C-E11C8A60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EC15-C235-4E27-8953-F0AB0FD1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0D79-F1ED-4406-84BB-7FEFD66B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A1CF-17FD-4B3C-B67D-EE32FF88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56C-847E-4E15-8501-8C9195E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B412-06A5-4B0F-9BC3-25F6606E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1749-48F2-42F6-9D46-4D6ADAB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727A-10AA-4A57-980A-336A7FA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90B2-FAB4-481F-912D-18D8759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AA25-CCC5-48B8-8D10-C641714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1253-7D78-440E-9133-1C5B2809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18C9-7F7D-4CBF-85D1-21397EF3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50774-63B7-4A99-983D-FC5BB17B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9D9FE-DB2E-40D3-8B63-56C4DF68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DC86C-C708-410E-AA11-ACF1B629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32E-1AE3-4FAF-AB12-D3E649CF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9774A-5BE5-4C96-8D75-F2CEED5C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95DD3-F317-4504-A36E-5D8C7534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19813-5208-4E07-A30F-392E4806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BE013-AA43-4668-9618-57CD9F99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C4891-EC1F-4158-9078-223B4C7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0742C-858A-4D30-9B2E-DFA2AA3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32201-FF9F-415D-87D4-55757C41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47711-7A8F-4DFF-B9A8-CF3C5269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B5442-710F-442A-A792-18DC32EA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6E0-F7E5-4024-8CF4-BA620B7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409-32DF-439A-8961-424890C6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86E-1DA7-4B3B-82F9-FE2BA20A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9B7-9D24-4242-ABBF-1FFE238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5FA-1EAE-4779-B274-2068ABA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588E-BBC0-435F-A2C6-0A2B200A8A04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7194-0D0D-413A-87D9-F072CC6DC163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C07-0541-4B3D-A8C5-63BBC9F2D9C8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528F-7529-4126-ADB3-D53DF94CBD87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CuadroTexto"/>
          <p:cNvSpPr/>
          <p:nvPr/>
        </p:nvSpPr>
        <p:spPr>
          <a:xfrm>
            <a:off x="1143000" y="1285920"/>
            <a:ext cx="72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Implicaturas y máximas conversacion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5" name="3 CuadroTexto"/>
          <p:cNvSpPr/>
          <p:nvPr/>
        </p:nvSpPr>
        <p:spPr>
          <a:xfrm>
            <a:off x="357120" y="156996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2. Máxima de c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Diremos tan sólo aquello que consideremos que es verdad. No añadiremos nada de lo que no tengamos pruebas de su verac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7" name="3 CuadroTexto"/>
          <p:cNvSpPr/>
          <p:nvPr/>
        </p:nvSpPr>
        <p:spPr>
          <a:xfrm>
            <a:off x="357120" y="1569960"/>
            <a:ext cx="842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3. Máxima de pertin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Hablaremos siguiendo un tema, sin saltar de tema en tema sin profundizar mínimamente en ninguno. En otras palabras, hablar de cosas que tengan que ver con lo que se hab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9" name="3 CuadroTexto"/>
          <p:cNvSpPr/>
          <p:nvPr/>
        </p:nvSpPr>
        <p:spPr>
          <a:xfrm>
            <a:off x="357120" y="156996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4. Máxima de m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Procuremos ser claros y precisos en nuestros enunciados. Evitemos la ambigüedad y seamos metód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2 Título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230480"/>
          </a:xfrm>
          <a:prstGeom prst="rect">
            <a:avLst/>
          </a:prstGeom>
          <a:ln w="0">
            <a:noFill/>
          </a:ln>
        </p:spPr>
      </p:pic>
      <p:sp>
        <p:nvSpPr>
          <p:cNvPr id="201" name="3 CuadroTexto"/>
          <p:cNvSpPr/>
          <p:nvPr/>
        </p:nvSpPr>
        <p:spPr>
          <a:xfrm>
            <a:off x="357120" y="1143000"/>
            <a:ext cx="842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Más precisamente, Grice estableció las siguientes descripciones para cada máxi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Cant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1. haga que su contribución sea lo más informativa posible en cuanto se requiera para los propósitos del intercambi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2. no haga su contribución más informativa de lo que 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requi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Calidad: trate de que su contribución sea verdadera. Específicam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1. no diga aquello que usted cree que es fals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2. no diga aquello para lo cual usted carece de la evidencia adecu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3 CuadroTexto"/>
          <p:cNvSpPr/>
          <p:nvPr/>
        </p:nvSpPr>
        <p:spPr>
          <a:xfrm>
            <a:off x="428760" y="1500120"/>
            <a:ext cx="84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Pertinen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1. haga que su contribución sea pertin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M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1. evite la oscur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2. evite la ambigüed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3. sea brev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4. sea orden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9" name="3 CuadroTexto"/>
          <p:cNvSpPr/>
          <p:nvPr/>
        </p:nvSpPr>
        <p:spPr>
          <a:xfrm>
            <a:off x="357120" y="1357200"/>
            <a:ext cx="842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Una noción clave para entender la dinámica de los actos de habla y las conversaciones es la de las inferencias, que se pueden definir de la siguiente man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Toda aquella información que se puede elaborar a partir de una emisión lingüís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1" name="3 CuadroTexto"/>
          <p:cNvSpPr/>
          <p:nvPr/>
        </p:nvSpPr>
        <p:spPr>
          <a:xfrm>
            <a:off x="357120" y="1357200"/>
            <a:ext cx="84297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Hay varias maneras de establecer inferenci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Sobre la base de relaciones lógicas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: la inferencia se establece en virtud de mecanismos de razonamient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Todos peces viven bajo el agua. La trucha es un pez.(Inf: La trucha vive bajo el agu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Sobre la base del conocimiento de mundo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Pedro clavó un cuadro a la pared. (Inf: usó un martill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3" name="3 CuadroTexto"/>
          <p:cNvSpPr/>
          <p:nvPr/>
        </p:nvSpPr>
        <p:spPr>
          <a:xfrm>
            <a:off x="357120" y="1357200"/>
            <a:ext cx="8429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Sobre la base de elementos situacionales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no veo, no se puede abrir la ventana” (Inf:??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Sobre la base de supuestos culturales compartido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Este tipo es muy argentino para sus cosas. (Inf: muy arrogante, muy “canchero”, et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5" name="3 CuadroTexto"/>
          <p:cNvSpPr/>
          <p:nvPr/>
        </p:nvSpPr>
        <p:spPr>
          <a:xfrm>
            <a:off x="357120" y="1569960"/>
            <a:ext cx="842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En las conversaciones, un filósofo llamado Paul Grice distinguió un tipo de inferencia que no se ajusta a las descripciones anteriores. Por ejemplo, en un diálogo como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-¿Habrá llegado ya Juani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-Veo un taxi que acaba de parar al frente de la c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Es fácil establecer la inferencia de que es posible que Juanito haya llegado en taxi, o que al menos eso cree la persona que cont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7" name="3 CuadroTexto"/>
          <p:cNvSpPr/>
          <p:nvPr/>
        </p:nvSpPr>
        <p:spPr>
          <a:xfrm>
            <a:off x="357120" y="1569960"/>
            <a:ext cx="842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Esta clase de inferencias, que no se basan de manera exclusiva y clara en ninguna de las fuentes vistas antes, fueron denominadas por Grice como </a:t>
            </a:r>
            <a:r>
              <a:rPr b="0" i="1" lang="es-CL" sz="2400" spc="-1" strike="noStrike">
                <a:solidFill>
                  <a:srgbClr val="ffffff"/>
                </a:solidFill>
                <a:latin typeface="Constantia"/>
              </a:rPr>
              <a:t>implicaturas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e las llama también implicaturas conversacionales y se distinguen de las otras inferencias vistas debido a que no se apoyan sobre la base de relaciones lógicas o sobre el conocimiento de mundo solamente, sino que se basan en lo que ocurre en una conversación, a partir de lo que él denominó </a:t>
            </a: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principio de co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9" name="3 CuadroTexto"/>
          <p:cNvSpPr/>
          <p:nvPr/>
        </p:nvSpPr>
        <p:spPr>
          <a:xfrm>
            <a:off x="357120" y="156996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Nuestros intercambios comunicativos no consisten normalmente en una sucesión de observaciones inconexas, y no sería racional si lo fueran. Por el contrario, son característicamente -al menos, en cierta medida- esfuerzos de cooperación; y cada participante reconoce en ellos, de algún modo, un propósito o conjunto de propósitos comunes o, al menos, una dirección aceptada por todos (...) Podríamos entonces formular un principio general, que es el que se supone que observan los participantes: Haga que su contribución a la conversación sea, en cada momento, la requerida por el propósito y la dirección del intercambio comunicativo en el que está usted involucrado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1" name="3 CuadroTexto"/>
          <p:cNvSpPr/>
          <p:nvPr/>
        </p:nvSpPr>
        <p:spPr>
          <a:xfrm>
            <a:off x="357120" y="156996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Para explicar entonces cómo era posible establecer esta nueva clase de inferencias en las conversaciones, Grice creó una  clasificación de lo que llamó máximas conversacionales, que vienen a ser, en palabras simples, principios que guían las interacciones conversacion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Máxima de ca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Máxima de c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Máxima de relev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Constantia"/>
              </a:rPr>
              <a:t>Máxima de ma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3" name="3 CuadroTexto"/>
          <p:cNvSpPr/>
          <p:nvPr/>
        </p:nvSpPr>
        <p:spPr>
          <a:xfrm>
            <a:off x="357120" y="1309680"/>
            <a:ext cx="8429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Máxima de ca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Proveemos la cantidad de información necesaria, ni más ni men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i se pregunt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¿Hay alguna farmacia por aquí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La respuesta esperada es algo así como: Sí, hay una a dos cuad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No se espera algo como “hay una ahí a la vuelta que tiene ventas amarillas y que abrió un italiano que llegó a Chile en 1941 arrancando de la Guerra, pero el italiano ya murió y ahora los dueños son unos españoles qu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3:24:20Z</dcterms:created>
  <dc:creator>Camilo</dc:creator>
  <dc:description/>
  <dc:language>en-US</dc:language>
  <cp:lastModifiedBy>Camilo</cp:lastModifiedBy>
  <dcterms:modified xsi:type="dcterms:W3CDTF">2009-10-29T15:06:43Z</dcterms:modified>
  <cp:revision>42</cp:revision>
  <dc:subject/>
  <dc:title>Diapositiva 1</dc:title>
</cp:coreProperties>
</file>