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9C426-5CE7-4245-87D8-D046ED9F2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E11BE-E3AD-453F-99A4-0C5B77733A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F5E8-418D-4B5E-A7EB-6EC43457D9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2B607-64E0-4E5F-966C-52E0960E2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35EB-A41E-49F7-B8D7-D9CCF79DBC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C91EC-FFAE-464D-AB55-5FE979E84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242B-28A0-43EE-A4D9-239903882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E5B6C-DC4F-44BC-AAA6-6E8037694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F6AC-9828-47E9-B981-BC40CE18E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38BD-D0A6-48E3-B0D9-B11B74DCA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FA638-774C-487B-A8A8-1370E779C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AA0FF-2A8F-450C-8B62-2835DA5CC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0F2620-53D9-4D7A-9050-202E119196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cedimientos para evaluar discurs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DI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447920" y="2743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María Mercedes Pave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Carmen Julia Colo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Mariangela Maggiol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Luis Martínez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Times New Roman"/>
              </a:rPr>
              <a:t>Luis Romer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ciones caus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33160" y="1371240"/>
            <a:ext cx="838188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iones experimentadas o ejecutadas provocan cambios en los estados menta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jemplo: El joven cayó al agua y se asustó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cesos naturales provocan Acciones o cambios en los estados mental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jemplo: Hubo una ola muy fuerte y el asustó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dos físicos o cambio en estado físico provoca nueva acción ejecutada o experimentad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jemplo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balsa parece que está rota y se empieza a hundi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o era chico el bote no los aguantó a los do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m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 entiende por tema a un contenido que se desarrolla en el discurso, agregando información nueva acerca de é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 mismo tema puede tener diferentes informaciones enunciadas en momentos diferen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s contenidos del enunciado base se convierten en tema si se agrega información nueva acerca de ell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uede agregarse información nueva sobre algún contenido de otros enunciados. Cuando ocurre se convierten en tema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l análisis se inicia considerando la primera oración como enunciado ba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entación global: se presenta un todo sin individualizaciones (hay un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parej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n la playa - se ve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unos jóven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n la playa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entación analítica: se individualiza a cada personaje (hay un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iño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y un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iñ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conversando – el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jove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stá mostrando los músculos a la </a:t>
            </a: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niñ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752480" y="53352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ove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muestra su físico a una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iqui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2133720" y="990720"/>
            <a:ext cx="3808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80880" y="2057400"/>
            <a:ext cx="2438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 después se mete con un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ote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l agu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1447560" y="3048120"/>
            <a:ext cx="15228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533520" y="4114800"/>
            <a:ext cx="2057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 bote se empieza a hundi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6553080" y="1143000"/>
            <a:ext cx="53352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172200" y="2286000"/>
            <a:ext cx="198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lla lo mira desde la orill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6324480" y="1066680"/>
            <a:ext cx="7632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486400" y="3962520"/>
            <a:ext cx="22096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Y la niña lo va a ayud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4114800" y="2209680"/>
            <a:ext cx="76320" cy="297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905120" y="5715000"/>
            <a:ext cx="5029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l final salen juntos del agu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581280" y="12193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l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2666880" y="12952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752480" y="320040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934320" y="312408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733920" y="6172200"/>
            <a:ext cx="152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 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croestructura (narración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rresponde a una frase que sintetiza los más importante del discurs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 la narración la frase correcta es la que se  relaciona con el conflicto o con la motivación que origina el rela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pos de macroestructu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upresió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enunciado que está presente en la narra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ustitució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unciado que corresponde aun concepto que generaliza e incluye a los contenidos del discurs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nunciado nuevo que implica al conjunto de los enunciados, sustituyendo e integrando a todos los anterior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.  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ixt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cuando una parte de la macroestructura corresponde a una supresión y la otra a una sustitució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Ejemplo de análisis de macroestructur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y un joven y una niña en la playa. El joven se mete con un bote al mar. Ella lo mira desde la orilla. El bote se hunde y el joven se empieza a ahogar y la niña va y lo salva. Al final salen juntos del agua”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rases propuesta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niña salva al joven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 peligro en el m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 veran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auto1" descr=""/>
          <p:cNvPicPr/>
          <p:nvPr/>
        </p:nvPicPr>
        <p:blipFill>
          <a:blip r:embed="rId1"/>
          <a:stretch/>
        </p:blipFill>
        <p:spPr>
          <a:xfrm>
            <a:off x="1828800" y="1447920"/>
            <a:ext cx="5029200" cy="35780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scripción de escena (form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ERSONAJE PRINCIP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RC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pacio, objetos del marco y personaje del marc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IÓN DEL PERSONAJE PRINCIPA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jidad de la superestructura (1-2-3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scripción de escena (contenid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m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ciones espacia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ciones de cualidad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po de macroestructura (0 - 1 - 1.5 ó 2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étodo para evaluar discurs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 evalúan dos tipos de discurs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arra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59240" y="4038480"/>
            <a:ext cx="4072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cripción de escen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á en el mar/ había gente / había cosas/ dos personas jugando con la pelota / y dos personas que estaban hablando/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s chicos en la play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n dos jóvenes que están en la playa y atrás de ellos se ve una canoa y a lo lejos se ve mucha gente / al lado más o menos cerca de ellos hay unos jarritos de juegos / un niñito / un balde con una pala / la niña tiene el pelo largo / él usa short negro / la niña usa un bikini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c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croestructu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 correcta cuando se relaciona con uno de los temas más desarrollad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s descripciones enumerativas pueden tener una macroestructura correcta tipo sustitución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572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ay una pareja en la playa/ el joven luce sus músculos / y la niña lo mira / Están conversando / el muchacho la quiere conquistar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 pareja en la play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caci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n día en la play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 joven presumi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auto1" descr=""/>
          <p:cNvPicPr/>
          <p:nvPr/>
        </p:nvPicPr>
        <p:blipFill>
          <a:blip r:embed="rId1"/>
          <a:stretch/>
        </p:blipFill>
        <p:spPr>
          <a:xfrm>
            <a:off x="304920" y="152280"/>
            <a:ext cx="3886200" cy="3124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7" name="auto1" descr=""/>
          <p:cNvPicPr/>
          <p:nvPr/>
        </p:nvPicPr>
        <p:blipFill>
          <a:blip r:embed="rId2"/>
          <a:stretch/>
        </p:blipFill>
        <p:spPr>
          <a:xfrm>
            <a:off x="4648320" y="152280"/>
            <a:ext cx="4343400" cy="30481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8" name="auto1" descr=""/>
          <p:cNvPicPr/>
          <p:nvPr/>
        </p:nvPicPr>
        <p:blipFill>
          <a:blip r:embed="rId3"/>
          <a:stretch/>
        </p:blipFill>
        <p:spPr>
          <a:xfrm>
            <a:off x="304920" y="3505320"/>
            <a:ext cx="3886200" cy="2895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49" name="auto1" descr=""/>
          <p:cNvPicPr/>
          <p:nvPr/>
        </p:nvPicPr>
        <p:blipFill>
          <a:blip r:embed="rId4"/>
          <a:stretch/>
        </p:blipFill>
        <p:spPr>
          <a:xfrm>
            <a:off x="4724280" y="3505320"/>
            <a:ext cx="4267440" cy="2958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rración (forma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SENTACIÓN DEL PERSONAJ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PISODIO COMPLET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iones, obstáculo, resultad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N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lejidad de la superestructur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arración (contenido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em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ciones tempora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laciones causa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po de macroestructu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0-1-1.5 ó 2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ciones caus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on relaciones causales aquellas en que se asocian acciones con estados mentales o físicos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ccio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cciones ejecutad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r los personajes que actúan como agent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jemplo: el niño se sube a un bo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cciones experimentada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por los personajes o por los objetos. En ambos casos les ocurren las accione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jemplo: él se cayó del bote, el bote se hunde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ucesos natural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que ocurren en la narración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jemplo: había una tormen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stad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Mental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incluyen las emociones, cogniciones, intenciones y disposiciones de los personaj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jemplo: ella se asustó, ella sabía nada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Físico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: incluyen características materiales de los objeto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jemplo: el bote estaba roto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ciones causa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21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stados mentales causan Acciones ejecutadas o experimenta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jemplo: El niño quiere conquistar a la niña y la invita a pasear en bo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cciones experimentadas provocan acciones ejecutadas o experimentad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jemplo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 joven se estaba ahogando y la niña lo salvó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 bote se hunde y el niño se empieza a ahogar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l bote se hunde y ella lo sac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8T20:30:02Z</dcterms:created>
  <dc:creator>Fac. de Medicina</dc:creator>
  <dc:description/>
  <dc:language>en-US</dc:language>
  <cp:lastModifiedBy>Fac. de Medicina</cp:lastModifiedBy>
  <dcterms:modified xsi:type="dcterms:W3CDTF">2008-09-12T14:43:12Z</dcterms:modified>
  <cp:revision>28</cp:revision>
  <dc:subject/>
  <dc:title>Procedimientos para evaluar discurso PREDI </dc:title>
</cp:coreProperties>
</file>