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855-E2E9-4B18-B89B-3F4F1D7A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345-EFC1-4C43-9BC3-50EB47A0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38-7140-43EE-BBD9-603E3749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84-021E-42A8-9D58-7F89F68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611-9F1F-4CFE-AFFF-7819D28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313-58E9-4CAA-A3AB-BB98C4F4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829-B586-4667-965B-37F0165A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7B4-8748-4822-BF86-49F424B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C99-3C02-4AE7-BE83-7187071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D03-0A59-4F4A-95BA-D1BCA536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52B-4CF6-46CD-99E4-7206F87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C2A-6E81-45AD-A4BA-628DE2A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525-AD97-4646-B553-12B55742027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is.minsal.cl/" TargetMode="External"/><Relationship Id="rId2" Type="http://schemas.openxmlformats.org/officeDocument/2006/relationships/hyperlink" Target="http://www.ine.cl/" TargetMode="External"/><Relationship Id="rId3" Type="http://schemas.openxmlformats.org/officeDocument/2006/relationships/hyperlink" Target="http://epi.minsal.cl/epi/html/sdesalud/mortal/morhtml/mort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is.minsal.cl/deis/ev/esperanza_de_vida/DIBUJO.BM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ortalidad general, materna por cau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ínculos relacio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1557360"/>
            <a:ext cx="64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eis.minsal.c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i.minsal.cl/epi/html/sdesalud/mortal/morhtml/mort1.htm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328680"/>
          <a:ext cx="6436800" cy="6268680"/>
        </p:xfrm>
        <a:graphic>
          <a:graphicData uri="http://schemas.openxmlformats.org/drawingml/2006/table">
            <a:tbl>
              <a:tblPr/>
              <a:tblGrid>
                <a:gridCol w="918360"/>
                <a:gridCol w="920880"/>
                <a:gridCol w="918720"/>
                <a:gridCol w="920880"/>
                <a:gridCol w="918720"/>
                <a:gridCol w="920520"/>
                <a:gridCol w="918720"/>
              </a:tblGrid>
              <a:tr h="8787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GENERAL POR SEXO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mbos sex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mb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uj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4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4.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0.2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6.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4.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1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3.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4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9.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0.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3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9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8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2.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5.8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7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1.0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4.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6.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3.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8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.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.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5.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5.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9.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2000" y="119160"/>
          <a:ext cx="6290640" cy="6694200"/>
        </p:xfrm>
        <a:graphic>
          <a:graphicData uri="http://schemas.openxmlformats.org/drawingml/2006/table">
            <a:tbl>
              <a:tblPr/>
              <a:tblGrid>
                <a:gridCol w="698400"/>
                <a:gridCol w="699120"/>
                <a:gridCol w="699120"/>
                <a:gridCol w="699120"/>
                <a:gridCol w="698760"/>
                <a:gridCol w="699120"/>
                <a:gridCol w="699120"/>
                <a:gridCol w="698760"/>
                <a:gridCol w="699120"/>
              </a:tblGrid>
              <a:tr h="8708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ortalidad infantil y sus componentes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Región Chile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-2006.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eonatal preco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ostneo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 1 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enor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 días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funciones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8 días 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.0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e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31840" y="1465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DefaultOcx"/>
          <p:cNvGraphicFramePr/>
          <p:nvPr/>
        </p:nvGraphicFramePr>
        <p:xfrm>
          <a:off x="1041480" y="-758880"/>
          <a:ext cx="4111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DefaultOcx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-758880"/>
                    <a:ext cx="411120" cy="41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-834840"/>
            <a:ext cx="56736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Esperanza de vida al nacer (en años) por periodo y sexo.</a:t>
            </a:r>
            <a:br>
              <a:rPr sz="1600"/>
            </a:br>
            <a:r>
              <a:rPr b="1" lang="es-CL" sz="1600" spc="-1" strike="noStrike">
                <a:solidFill>
                  <a:srgbClr val="990000"/>
                </a:solidFill>
                <a:latin typeface="Arial"/>
              </a:rPr>
              <a:t>Chile, 1950-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            ambos  masc    fem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3640" y="1125360"/>
          <a:ext cx="3797280" cy="5500800"/>
        </p:xfrm>
        <a:graphic>
          <a:graphicData uri="http://schemas.openxmlformats.org/drawingml/2006/table">
            <a:tbl>
              <a:tblPr/>
              <a:tblGrid>
                <a:gridCol w="3797280"/>
              </a:tblGrid>
              <a:tr h="55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603760" y="7146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08640" y="7788240"/>
          <a:ext cx="2369880" cy="276120"/>
        </p:xfrm>
        <a:graphic>
          <a:graphicData uri="http://schemas.openxmlformats.org/drawingml/2006/table">
            <a:tbl>
              <a:tblPr/>
              <a:tblGrid>
                <a:gridCol w="2369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ENTE: Instituto Nacional de Estadísticas, Proyecciones y </a:t>
                      </a:r>
                      <a:br>
                        <a:rPr sz="600"/>
                      </a:br>
                      <a:r>
                        <a:rPr b="1" lang="en-US" sz="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stimaciones de Población, Total País, 2004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16760" y="8064720"/>
            <a:ext cx="95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r Gráfic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92360" y="1052640"/>
          <a:ext cx="3778200" cy="5481360"/>
        </p:xfrm>
        <a:graphic>
          <a:graphicData uri="http://schemas.openxmlformats.org/drawingml/2006/table">
            <a:tbl>
              <a:tblPr/>
              <a:tblGrid>
                <a:gridCol w="1333080"/>
                <a:gridCol w="814680"/>
                <a:gridCol w="815400"/>
                <a:gridCol w="81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0-19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2,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7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55-19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6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3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0-19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,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5,2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65-19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7,6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0-19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0,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6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75-19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3,9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5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0-1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0,7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7,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85-199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9,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8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0-199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3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1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5-2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7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2,7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7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-20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7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4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5-20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8,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,4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1,5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0-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15-20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9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6,6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2,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0-20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,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7,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3,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76640" y="1905120"/>
            <a:ext cx="4590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71600" y="1905120"/>
            <a:ext cx="46008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95560" y="1905120"/>
            <a:ext cx="49528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7560" y="1847880"/>
            <a:ext cx="46288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1852560"/>
            <a:ext cx="45720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1852560"/>
            <a:ext cx="502920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329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268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mortalidad se refiere a las muertes sucedidas dentro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blación. Si bien todos estamos destinados a morir algún dí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babilidad de morir durante un período determina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 relaciona con muchos factores, como la edad, el sexo, la raza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upación y la clase social. La incidencia de muerte puede rev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chos detalles acerca del nivel de vida y la atención médic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6068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asa de mortalid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nominada también la tasa bruta de mortalidad) es el número de muertes por cada 1.000 habitantes durante un año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1800360"/>
            <a:ext cx="45720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71600" y="1819440"/>
            <a:ext cx="460080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95560" y="1819440"/>
            <a:ext cx="495288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71600" y="1790640"/>
            <a:ext cx="46008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1852560"/>
            <a:ext cx="459072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76640" y="1866960"/>
            <a:ext cx="45907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95560" y="186696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76640" y="1847880"/>
            <a:ext cx="459072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asas brutas de mortalidad se ven afectadas por mucha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población, especialmente la estructura por edad. Por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to, al comparar las tasas de mortalidad de distintos países, es pru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ar las diferencias en composición por edad antes de ll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a conclusión acerca de la salud, o de las condicione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mbientales de algún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mortalidad por caus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calcular las tasas de mortalidad para grupos de e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íficas para poder comparar la mortalidad a diferentes edades 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isma edad durante un período de tiempo. También pueden realiz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ciones entre países o á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 la mortalidad varía bastante según el sexo y la raza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do las tasas de mortalidad por edad específica para homb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jeres y para distintos grupos raciales dentro de una población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n por sepa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38480" y="1847880"/>
            <a:ext cx="46670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6920" y="1828800"/>
            <a:ext cx="461016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1752480"/>
            <a:ext cx="461016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76640" y="1771560"/>
            <a:ext cx="459072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3080" y="1771560"/>
            <a:ext cx="4857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6640" y="1886040"/>
            <a:ext cx="4590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71600" y="1895400"/>
            <a:ext cx="460080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95560" y="1895400"/>
            <a:ext cx="4952880" cy="3067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3748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tasas de mortalidad por causas específicas se expresan norm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número de muertes por cada 100.000 habitantes porque par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ía de las causas de muerte, dichas ocurrencias son muy ba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es el número de niños menor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ño que fallece por cada 1.000 nacidos vivos durante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28412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mortalidad infantil se considera un buen índice 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salud de una po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azón de mortalidad materna es el número de mujeres que falle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 año determinado a causa de complicaciones relacio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el embarazo o el parto, por cada 100.000 nacidos vivos 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o año. Se incluyen las muertes a causa de las complicaciones relacionadas con abortos naturales o provo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práctica, una muerte materna se define como la muerte de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jer mientras está embarazada o dentro de un plazo de 42 dí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ber terminado el embarazo debido a cualquier causa relacionada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eorada por el embarazo o su administración, pero no debi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usas accidentales o incid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84400"/>
            <a:ext cx="833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peranza de vida es una estimación del núm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ome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vida adicionales que una persona podría esperar vivir si las tasa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talidad por edad específica para un año determinado permaneci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el resto de su vida. La esperanza de vida es un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potética porque se basa en las tasas de mortalidad actuales, per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sas de mortalidad reales cambian durante el transcurso de la vid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ersona. La esperanza de vida de cada persona cambia segú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sma envejece y a medida que cambian las tendencias de mortan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 la esperanza de vida varía de manera sign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ún el sexo, la edad actual y la raza, normalmente estas categoría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an por separado. La esperanza de vida al nacer es la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comúnmente citada. Es un buen indicador de las condici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ud act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26828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bla de mortalidad es una de las herramient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ampo de la demografía que se utiliza para simular l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licia experimentada por una población. Lo logra tomando l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mortalidad por edad específica de una población y aplicándol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obl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ipoté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100.000 personas nacidas en esa mi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época. Durante cada año de la tabla de mortalidad, es inevitable qu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meros de la población hipotética disminuyan hasta llegar a la ú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lera donde las personas de edad más avanzada también mori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184400"/>
            <a:ext cx="833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000" y="622440"/>
            <a:ext cx="9034560" cy="5613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79244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3640" y="2637000"/>
            <a:ext cx="670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Arial"/>
              </a:rPr>
              <a:t>Situación Chile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9-14T14:43:12Z</dcterms:modified>
  <cp:revision>67</cp:revision>
  <dc:subject/>
  <dc:title>Leopoldo María Panero: biografía</dc:title>
</cp:coreProperties>
</file>