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89D5-1E89-4968-92A4-1360282A4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8CED-3E5D-463E-864A-951407560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FAAC-88D7-4689-BE5E-901DF1985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DBB5-A0F8-487A-9D21-7EAA813DB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798C-67F8-44D6-B762-DD8E0EFD9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6207-223B-4D3E-A54F-B1C59D4CE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CAD1-AF84-4E6C-BBE9-F6CBF7C78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4496-B2CF-4844-A532-2AC82D7C3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4358-FC5A-4228-BF1F-980C76E8A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3AEB-358C-4BDE-B2B6-9D7244E6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E46A-99E0-4492-A55E-8462E39F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281D-8E43-4794-9ABD-B674476C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4009B-45CB-4561-9204-D3F826166F7A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deis.minsal.cl/" TargetMode="External"/><Relationship Id="rId2" Type="http://schemas.openxmlformats.org/officeDocument/2006/relationships/hyperlink" Target="http://www.ine.cl/" TargetMode="External"/><Relationship Id="rId3" Type="http://schemas.openxmlformats.org/officeDocument/2006/relationships/hyperlink" Target="http://epi.minsal.cl/epi/html/sdesalud/mortal/morhtml/mort1.htm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deis.minsal.cl/deis/ev/esperanza_de_vida/DIBUJO.BMP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064360" cy="1152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cera Clas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. Sergio Sánchez Bu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Contenidos: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Mortalidad general, materna por caus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lase exposi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Vínculos relacion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03280" y="1557360"/>
            <a:ext cx="6429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deis.minsal.cl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ine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epi.minsal.cl/epi/html/sdesalud/mortal/morhtml/mort1.htm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258920" y="328680"/>
          <a:ext cx="6436800" cy="6268680"/>
        </p:xfrm>
        <a:graphic>
          <a:graphicData uri="http://schemas.openxmlformats.org/drawingml/2006/table">
            <a:tbl>
              <a:tblPr/>
              <a:tblGrid>
                <a:gridCol w="918360"/>
                <a:gridCol w="920880"/>
                <a:gridCol w="918720"/>
                <a:gridCol w="920880"/>
                <a:gridCol w="918720"/>
                <a:gridCol w="920520"/>
                <a:gridCol w="918720"/>
              </a:tblGrid>
              <a:tr h="87876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MORTALIDAD GENERAL POR SEXO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Región Chile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0-2006.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99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Añ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Ambos sexo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Homb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Muje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Defuncio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Ta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Defuncio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Ta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Defunciones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Ta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</a:tr>
              <a:tr h="25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8.4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3.6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4.8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4.8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1.3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3.4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4.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0.2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3.8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6.2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1.7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4.5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5.4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1.4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3.9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8.5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3.4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5.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9.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3.7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5.3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8.4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3.2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5.1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0.2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3.6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6.5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1.9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4.4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7.5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8.8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2.9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5.8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1.8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4.6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7.2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1.0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4.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6.7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3.6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5.4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8.1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6.1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6.5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9.5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6.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6.3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9.7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5.6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5.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9.6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</a:tbl>
          </a:graphicData>
        </a:graphic>
      </p:graphicFrame>
    </p:spTree>
  </p:cSld>
  <p:transition spd="slow"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332000" y="119160"/>
          <a:ext cx="6290640" cy="6694200"/>
        </p:xfrm>
        <a:graphic>
          <a:graphicData uri="http://schemas.openxmlformats.org/drawingml/2006/table">
            <a:tbl>
              <a:tblPr/>
              <a:tblGrid>
                <a:gridCol w="698400"/>
                <a:gridCol w="699120"/>
                <a:gridCol w="699120"/>
                <a:gridCol w="699120"/>
                <a:gridCol w="698760"/>
                <a:gridCol w="699120"/>
                <a:gridCol w="699120"/>
                <a:gridCol w="698760"/>
                <a:gridCol w="699120"/>
              </a:tblGrid>
              <a:tr h="870840"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Mortalidad infantil y sus componentes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Región Chile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0-2006.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7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Infant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Neona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Neonatal precoz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Postneona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Defunciones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menores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de 1 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Ta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Defunciones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menores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8 dí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Ta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Defunciones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menores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 días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Ta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Defunciones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8 días a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1 me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Ta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</a:tr>
              <a:tr h="25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.9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.6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.0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.3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.3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.3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9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.0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.2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.2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7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9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.7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3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.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5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7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.4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9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4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4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.1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6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2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4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.0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7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3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3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.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5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2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1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.7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0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6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2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1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.6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5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1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1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.3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4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1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.1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2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9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9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2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9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9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2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9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.0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3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9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2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8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2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1131840" y="146592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DefaultOcx"/>
          <p:cNvGraphicFramePr/>
          <p:nvPr/>
        </p:nvGraphicFramePr>
        <p:xfrm>
          <a:off x="1041480" y="-758880"/>
          <a:ext cx="4111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DefaultOcx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1480" y="-758880"/>
                    <a:ext cx="411120" cy="411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slow"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-834840"/>
            <a:ext cx="5673600" cy="18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45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           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990000"/>
                </a:solidFill>
                <a:latin typeface="Arial"/>
              </a:rPr>
              <a:t>Esperanza de vida al nacer (en años) por periodo y sexo.</a:t>
            </a:r>
            <a:br>
              <a:rPr sz="1600"/>
            </a:br>
            <a:r>
              <a:rPr b="1" lang="es-CL" sz="1600" spc="-1" strike="noStrike">
                <a:solidFill>
                  <a:srgbClr val="990000"/>
                </a:solidFill>
                <a:latin typeface="Arial"/>
              </a:rPr>
              <a:t>Chile, 1950-20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ños            ambos  masc    fem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763640" y="1125360"/>
          <a:ext cx="3797280" cy="5500800"/>
        </p:xfrm>
        <a:graphic>
          <a:graphicData uri="http://schemas.openxmlformats.org/drawingml/2006/table">
            <a:tbl>
              <a:tblPr/>
              <a:tblGrid>
                <a:gridCol w="3797280"/>
              </a:tblGrid>
              <a:tr h="550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84" name=""/>
          <p:cNvSpPr/>
          <p:nvPr/>
        </p:nvSpPr>
        <p:spPr>
          <a:xfrm>
            <a:off x="5603760" y="7146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508640" y="7788240"/>
          <a:ext cx="2369880" cy="276120"/>
        </p:xfrm>
        <a:graphic>
          <a:graphicData uri="http://schemas.openxmlformats.org/drawingml/2006/table">
            <a:tbl>
              <a:tblPr/>
              <a:tblGrid>
                <a:gridCol w="23698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FUENTE: Instituto Nacional de Estadísticas, Proyecciones y </a:t>
                      </a:r>
                      <a:br>
                        <a:rPr sz="600"/>
                      </a:br>
                      <a:r>
                        <a:rPr b="1" lang="en-US" sz="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Estimaciones de Población, Total País, 2004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5216760" y="8064720"/>
            <a:ext cx="9550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r>
              <a:rPr b="0" lang="en-US" sz="11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er Gráfico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692360" y="1052640"/>
          <a:ext cx="3778200" cy="5481360"/>
        </p:xfrm>
        <a:graphic>
          <a:graphicData uri="http://schemas.openxmlformats.org/drawingml/2006/table">
            <a:tbl>
              <a:tblPr/>
              <a:tblGrid>
                <a:gridCol w="1333080"/>
                <a:gridCol w="814680"/>
                <a:gridCol w="815400"/>
                <a:gridCol w="8150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950-195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54,8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52,9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56,77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955-196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56,2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53,8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58,6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960-196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58,0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55,27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60,9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965-197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60,6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57,6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63,7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970-197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63,57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60,4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66,8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975-198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67,1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63,9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0,57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980-198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0,7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67,3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4,1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985-199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2,6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69,5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5,8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990-199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4,3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1,4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7,3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995-200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5,7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2,7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8,7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000-200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7,7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4,8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80,8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005-201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8,4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5,4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81,5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010-201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9,1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6,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82,2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015-202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9,6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6,6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82,8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020-202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80,2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7,1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83,3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76640" y="1905120"/>
            <a:ext cx="4590720" cy="30477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271600" y="1905120"/>
            <a:ext cx="4600800" cy="30477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095560" y="1905120"/>
            <a:ext cx="4952880" cy="30477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257560" y="1847880"/>
            <a:ext cx="4628880" cy="31622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86000" y="1852560"/>
            <a:ext cx="4572000" cy="31528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057400" y="1852560"/>
            <a:ext cx="5029200" cy="31528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fini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11280" y="1196640"/>
            <a:ext cx="7921440" cy="5329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4360" y="1268280"/>
            <a:ext cx="7775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a mortalidad se refiere a las muertes sucedidas dentro de 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oblación. Si bien todos estamos destinados a morir algún día,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obabilidad de morir durante un período determinado de ti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 relaciona con muchos factores, como la edad, el sexo, la raza,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cupación y la clase social. La incidencia de muerte puede reve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uchos detalles acerca del nivel de vida y la atención médica den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 una pob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00000" y="3606840"/>
            <a:ext cx="73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tasa de mortalida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nominada también la tasa bruta de mortalidad) es el número de muertes por cada 1.000 habitantes durante un año determin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86000" y="1800360"/>
            <a:ext cx="4572000" cy="32572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71600" y="1819440"/>
            <a:ext cx="4600800" cy="32191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095560" y="1819440"/>
            <a:ext cx="4952880" cy="32191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271600" y="1790640"/>
            <a:ext cx="4600800" cy="3276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76640" y="1890720"/>
            <a:ext cx="4590720" cy="30765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76640" y="1852560"/>
            <a:ext cx="4590720" cy="31528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276640" y="1866960"/>
            <a:ext cx="4590720" cy="31240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095560" y="1866960"/>
            <a:ext cx="4952880" cy="31240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286000" y="1752480"/>
            <a:ext cx="4572000" cy="33530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276640" y="1847880"/>
            <a:ext cx="4590720" cy="31622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fini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1197000"/>
            <a:ext cx="8064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 tasas brutas de mortalidad se ven afectadas por muchas caracterís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la población, especialmente la estructura por edad. Por 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nto, al comparar las tasas de mortalidad de distintos países, es prud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justar las diferencias en composición por edad antes de lle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una conclusión acerca de la salud, o de las condiciones económ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ambientales de algún paí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sa de mortalidad por causas específ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 posible calcular las tasas de mortalidad para grupos de e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ecíficas para poder comparar la mortalidad a diferentes edades o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misma edad durante un período de tiempo. También pueden realiz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aciones entre países o ár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ido a que la mortalidad varía bastante según el sexo y la raza,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udo las tasas de mortalidad por edad específica para hombres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jeres y para distintos grupos raciales dentro de una población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n por separ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238480" y="1847880"/>
            <a:ext cx="4667040" cy="31622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266920" y="1828800"/>
            <a:ext cx="4610160" cy="32004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266920" y="1752480"/>
            <a:ext cx="4610160" cy="33530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276640" y="1771560"/>
            <a:ext cx="4590720" cy="33148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143080" y="1771560"/>
            <a:ext cx="4857840" cy="33148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276640" y="1886040"/>
            <a:ext cx="4590720" cy="30859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71600" y="1895400"/>
            <a:ext cx="4600800" cy="30672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095560" y="1895400"/>
            <a:ext cx="4952880" cy="30672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fini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1374840"/>
            <a:ext cx="7993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tasas de mortalidad por causas específicas se expresan normal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r el número de muertes por cada 100.000 habitantes porque para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yoría de las causas de muerte, dichas ocurrencias son muy baj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tasa de mortalidad infantil es el número de niños menores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 año que fallece por cada 1.000 nacidos vivos durante un a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termin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tasa de mortalidad infantil se considera un buen índice de 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diciones de salud de una pobl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razón de mortalidad materna es el número de mujeres que fallec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urante un año determinado a causa de complicaciones relacion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 el embarazo o el parto, por cada 100.000 nacidos vivos 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ismo año. Se incluyen las muertes a causa de las complicaciones relacion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 abortos naturales o provoc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fini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9640" y="1284120"/>
            <a:ext cx="8280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tasa de mortalidad infantil se considera un buen índice de 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diciones de salud de una pobl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razón de mortalidad materna es el número de mujeres que fallec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urante un año determinado a causa de complicaciones relacion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 el embarazo o el parto, por cada 100.000 nacidos vivos 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ismo año. Se incluyen las muertes a causa de las complicaciones relacionadas con abortos naturales o provoc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 la práctica, una muerte materna se define como la muerte de 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ujer mientras está embarazada o dentro de un plazo de 42 días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haber terminado el embarazo debido a cualquier causa relacionada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mpeorada por el embarazo o su administración, pero no debido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ausas accidentales o incident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fini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1184400"/>
            <a:ext cx="8334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esperanza de vida es una estimación del númer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promedio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vida adicionales que una persona podría esperar vivir si las tasas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ortalidad por edad específica para un año determinado permanecie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urante el resto de su vida. La esperanza de vida es una med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ipotética porque se basa en las tasas de mortalidad actuales, pero 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asas de mortalidad reales cambian durante el transcurso de la vida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a persona. La esperanza de vida de cada persona cambia según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isma envejece y a medida que cambian las tendencias de mortan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bido a que la esperanza de vida varía de manera signific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gún el sexo, la edad actual y la raza, normalmente estas categorías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mbran por separado. La esperanza de vida al nacer es la med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ás comúnmente citada. Es un buen indicador de las condiciones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alud actu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fini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1268280"/>
            <a:ext cx="7632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tabla de mortalidad es una de las herramientas más import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el campo de la demografía que se utiliza para simular la mort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italicia experimentada por una población. Lo logra tomando las t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mortalidad por edad específica de una población y aplicándolas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a población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hipotética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100.000 personas nacidas en esa mis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época. Durante cada año de la tabla de mortalidad, es inevitable que 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úmeros de la población hipotética disminuyan hasta llegar a la últ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ilera donde las personas de edad más avanzada también morirá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1184400"/>
            <a:ext cx="833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4000" y="622440"/>
            <a:ext cx="9034560" cy="56131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313640" y="2637000"/>
            <a:ext cx="6705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600" spc="-1" strike="noStrike">
                <a:solidFill>
                  <a:srgbClr val="000000"/>
                </a:solidFill>
                <a:latin typeface="Arial"/>
              </a:rPr>
              <a:t>Situación Chilen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4:54:28Z</dcterms:created>
  <dc:creator>Sergio Sanchez</dc:creator>
  <dc:description/>
  <dc:language>en-US</dc:language>
  <cp:lastModifiedBy>ssanchez</cp:lastModifiedBy>
  <dcterms:modified xsi:type="dcterms:W3CDTF">2009-09-14T14:43:12Z</dcterms:modified>
  <cp:revision>67</cp:revision>
  <dc:subject/>
  <dc:title>Leopoldo María Panero: biografía</dc:title>
</cp:coreProperties>
</file>