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39E9-C516-4FEA-ACE9-F4123D60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4F21-4387-4635-A011-2223C792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13D-0A21-44ED-9FA7-E76D2526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2ED-17E1-4447-9125-02204A56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B50-5DDC-47A2-9FEF-5B83CC65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6CB-0BB1-4D77-829C-091E2F39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0D9-1BED-42FC-80BC-926B0C38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D5A-89BE-44BC-8AD5-9B8E0910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CF6-FFC0-4E61-BE88-6CD1EC21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98F-1478-4B34-BDD3-9A232368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A2A-45D6-44E4-B3C7-AB29CD2D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AA6-5D65-49CC-9841-C91D89CD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2547-EE20-47F6-9A1E-3549DE51DCFD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is.minsal.cl/" TargetMode="External"/><Relationship Id="rId2" Type="http://schemas.openxmlformats.org/officeDocument/2006/relationships/hyperlink" Target="http://www.ine.cl/" TargetMode="External"/><Relationship Id="rId3" Type="http://schemas.openxmlformats.org/officeDocument/2006/relationships/hyperlink" Target="http://epi.minsal.cl/epi/html/sdesalud/mortal/morhtml/mort1.htm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eis.minsal.cl/deis/ev/esperanza_de_vida/DIBUJO.BMP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ortalidad general, materna por cau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ínculos relacio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3280" y="1557360"/>
            <a:ext cx="64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eis.minsal.c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pi.minsal.cl/epi/html/sdesalud/mortal/morhtml/mort1.htm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58920" y="328680"/>
          <a:ext cx="6436800" cy="6268680"/>
        </p:xfrm>
        <a:graphic>
          <a:graphicData uri="http://schemas.openxmlformats.org/drawingml/2006/table">
            <a:tbl>
              <a:tblPr/>
              <a:tblGrid>
                <a:gridCol w="918360"/>
                <a:gridCol w="920880"/>
                <a:gridCol w="918720"/>
                <a:gridCol w="920880"/>
                <a:gridCol w="918720"/>
                <a:gridCol w="920520"/>
                <a:gridCol w="918720"/>
              </a:tblGrid>
              <a:tr h="8787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RTALIDAD GENERAL POR SEXO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gión Chile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-2006.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ñ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mbos sex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Homb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uje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4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4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1.3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3.4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4.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0.2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3.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6.2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1.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4.5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5.4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1.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3.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4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9.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3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4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2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0.2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6.5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1.9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4.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7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2.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8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1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4.6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7.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1.0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4.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6.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3.6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5.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8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.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6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9.5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.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6.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9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5.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5.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9.6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32000" y="119160"/>
          <a:ext cx="6290640" cy="6694200"/>
        </p:xfrm>
        <a:graphic>
          <a:graphicData uri="http://schemas.openxmlformats.org/drawingml/2006/table">
            <a:tbl>
              <a:tblPr/>
              <a:tblGrid>
                <a:gridCol w="698400"/>
                <a:gridCol w="699120"/>
                <a:gridCol w="699120"/>
                <a:gridCol w="699120"/>
                <a:gridCol w="698760"/>
                <a:gridCol w="699120"/>
                <a:gridCol w="699120"/>
                <a:gridCol w="698760"/>
                <a:gridCol w="699120"/>
              </a:tblGrid>
              <a:tr h="8708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rtalidad infantil y sus componentes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gión Chile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-2006.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eona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eonatal precoz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ostneona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nor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 1 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nor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8 dí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nor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 días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8 días a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 me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.9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6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3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.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3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.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7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0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3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3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7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6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6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31840" y="1465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DefaultOcx"/>
          <p:cNvGraphicFramePr/>
          <p:nvPr/>
        </p:nvGraphicFramePr>
        <p:xfrm>
          <a:off x="1041480" y="-758880"/>
          <a:ext cx="4111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DefaultOcx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-758880"/>
                    <a:ext cx="411120" cy="411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-834840"/>
            <a:ext cx="567360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4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          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00"/>
                </a:solidFill>
                <a:latin typeface="Arial"/>
              </a:rPr>
              <a:t>Esperanza de vida al nacer (en años) por periodo y sexo.</a:t>
            </a:r>
            <a:br>
              <a:rPr sz="1600"/>
            </a:br>
            <a:r>
              <a:rPr b="1" lang="es-CL" sz="1600" spc="-1" strike="noStrike">
                <a:solidFill>
                  <a:srgbClr val="990000"/>
                </a:solidFill>
                <a:latin typeface="Arial"/>
              </a:rPr>
              <a:t>Chile, 1950-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            ambos  masc    fem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63640" y="1125360"/>
          <a:ext cx="3797280" cy="5500800"/>
        </p:xfrm>
        <a:graphic>
          <a:graphicData uri="http://schemas.openxmlformats.org/drawingml/2006/table">
            <a:tbl>
              <a:tblPr/>
              <a:tblGrid>
                <a:gridCol w="3797280"/>
              </a:tblGrid>
              <a:tr h="550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5603760" y="714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08640" y="7788240"/>
          <a:ext cx="2369880" cy="276120"/>
        </p:xfrm>
        <a:graphic>
          <a:graphicData uri="http://schemas.openxmlformats.org/drawingml/2006/table">
            <a:tbl>
              <a:tblPr/>
              <a:tblGrid>
                <a:gridCol w="2369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UENTE: Instituto Nacional de Estadísticas, Proyecciones y </a:t>
                      </a:r>
                      <a:br>
                        <a:rPr sz="600"/>
                      </a:br>
                      <a:r>
                        <a:rPr b="1" lang="en-US" sz="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stimaciones de Población, Total País, 2004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5216760" y="8064720"/>
            <a:ext cx="955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r Gráfic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92360" y="1052640"/>
          <a:ext cx="3778200" cy="5481360"/>
        </p:xfrm>
        <a:graphic>
          <a:graphicData uri="http://schemas.openxmlformats.org/drawingml/2006/table">
            <a:tbl>
              <a:tblPr/>
              <a:tblGrid>
                <a:gridCol w="1333080"/>
                <a:gridCol w="814680"/>
                <a:gridCol w="815400"/>
                <a:gridCol w="81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50-195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4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2,9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6,7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55-196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6,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3,8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8,6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60-196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8,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5,2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0,9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65-197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0,6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7,6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3,7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70-197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3,5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0,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6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75-19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7,1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3,9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0,5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80-198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0,7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7,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4,1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85-199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2,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9,5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,8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90-199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4,3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1,4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7,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95-20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,7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2,7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8,7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00-20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7,7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4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0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05-20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8,4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,4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1,5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10-20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9,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6,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2,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15-20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9,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6,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2,8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20-202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0,2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7,1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3,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76640" y="1905120"/>
            <a:ext cx="459072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71600" y="1905120"/>
            <a:ext cx="460080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95560" y="1905120"/>
            <a:ext cx="49528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57560" y="1847880"/>
            <a:ext cx="462888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0" y="1852560"/>
            <a:ext cx="457200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7400" y="1852560"/>
            <a:ext cx="502920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921440" cy="5329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268280"/>
            <a:ext cx="777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 mortalidad se refiere a las muertes sucedidas dentro de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blación. Si bien todos estamos destinados a morir algún día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babilidad de morir durante un período determinado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 relaciona con muchos factores, como la edad, el sexo, la raza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cupación y la clase social. La incidencia de muerte puede rev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chos detalles acerca del nivel de vida y la atención médica d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 un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6068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tasa de mortalid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nominada también la tasa bruta de mortalidad) es el número de muertes por cada 1.000 habitantes durante un año determ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1800360"/>
            <a:ext cx="4572000" cy="3257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71600" y="1819440"/>
            <a:ext cx="460080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95560" y="1819440"/>
            <a:ext cx="495288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71600" y="1790640"/>
            <a:ext cx="460080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76640" y="1890720"/>
            <a:ext cx="4590720" cy="3076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1852560"/>
            <a:ext cx="459072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76640" y="1866960"/>
            <a:ext cx="459072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95560" y="1866960"/>
            <a:ext cx="495288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57200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76640" y="1847880"/>
            <a:ext cx="459072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19700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tasas brutas de mortalidad se ven afectadas por muchas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población, especialmente la estructura por edad. Por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to, al comparar las tasas de mortalidad de distintos países, es pru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ustar las diferencias en composición por edad antes de ll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a conclusión acerca de la salud, o de las condiciones 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ambientales de algún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a de mortalidad por causas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posible calcular las tasas de mortalidad para grupos de 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íficas para poder comparar la mortalidad a diferentes edades 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isma edad durante un período de tiempo. También pueden realiz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ciones entre países o á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do a que la mortalidad varía bastante según el sexo y la raza,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do las tasas de mortalidad por edad específica para hombr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jeres y para distintos grupos raciales dentro de una población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n por se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38480" y="1847880"/>
            <a:ext cx="466704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66920" y="1828800"/>
            <a:ext cx="461016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66920" y="1752480"/>
            <a:ext cx="461016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76640" y="1771560"/>
            <a:ext cx="459072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43080" y="1771560"/>
            <a:ext cx="485784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76640" y="1886040"/>
            <a:ext cx="459072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71600" y="1895400"/>
            <a:ext cx="460080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95560" y="1895400"/>
            <a:ext cx="495288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37484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tasas de mortalidad por causas específicas se expresan norm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número de muertes por cada 100.000 habitantes porque para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ía de las causas de muerte, dichas ocurrencias son muy baj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mortalidad infantil es el número de niños menor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año que fallece por cada 1.000 nacidos vivos durante un 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rm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mortalidad infantil se considera un buen índice 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 salud de una 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azón de mortalidad materna es el número de mujeres que falle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un año determinado a causa de complicaciones relacio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el embarazo o el parto, por cada 100.000 nacidos vivos 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smo año. Se incluyen las muertes a causa de las complicaciones relacio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abortos naturales o provo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28412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mortalidad infantil se considera un buen índice 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 salud de una 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azón de mortalidad materna es el número de mujeres que falle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un año determinado a causa de complicaciones relacio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el embarazo o el parto, por cada 100.000 nacidos vivos 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smo año. Se incluyen las muertes a causa de las complicaciones relacionadas con abortos naturales o provo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la práctica, una muerte materna se define como la muerte de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ujer mientras está embarazada o dentro de un plazo de 42 dí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aber terminado el embarazo debido a cualquier causa relacionada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mpeorada por el embarazo o su administración, pero no debid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usas accidentales o inciden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184400"/>
            <a:ext cx="833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peranza de vida es una estimación del númer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omedi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vida adicionales que una persona podría esperar vivir si las tas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rtalidad por edad específica para un año determinado permanecie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el resto de su vida. La esperanza de vida es una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potética porque se basa en las tasas de mortalidad actuales, pero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sas de mortalidad reales cambian durante el transcurso de la vid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persona. La esperanza de vida de cada persona cambia segú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sma envejece y a medida que cambian las tendencias de mortan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ido a que la esperanza de vida varía de manera sign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ún el sexo, la edad actual y la raza, normalmente estas categorías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an por separado. La esperanza de vida al nacer es la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s comúnmente citada. Es un buen indicador de las condicion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ud act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126828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bla de mortalidad es una de las herramientas más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campo de la demografía que se utiliza para simular la mort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talicia experimentada por una población. Lo logra tomando las 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mortalidad por edad específica de una población y aplicándol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població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ipotétic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100.000 personas nacidas en esa mi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época. Durante cada año de la tabla de mortalidad, es inevitable que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úmeros de la población hipotética disminuyan hasta llegar a la úl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lera donde las personas de edad más avanzada también mori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1184400"/>
            <a:ext cx="833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000" y="622440"/>
            <a:ext cx="9034560" cy="5613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13640" y="2637000"/>
            <a:ext cx="670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Arial"/>
              </a:rPr>
              <a:t>Situación Chile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9-14T14:43:12Z</dcterms:modified>
  <cp:revision>67</cp:revision>
  <dc:subject/>
  <dc:title>Leopoldo María Panero: biografía</dc:title>
</cp:coreProperties>
</file>