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A0407-08BB-4FC0-94D2-B08926469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BF276-77D8-4B61-860F-89B4F4126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CB213-C3DB-4B69-B255-F132AF08D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D6B67-C5FA-44CE-B617-A0272D981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50559-FA0A-423E-AAD4-3365CF2C9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2F21E-91E5-453E-B63E-FFEFCF6A9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0AEEC-33B8-42C7-A72B-912BBB7A2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A0398-0817-40E7-9BDE-F5E84D8EF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5C4EB-5F74-4CBF-B014-2CB97F6AC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E4797-AC0F-4781-8960-29E219C1E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601D6-625C-466C-877B-18106AD76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4EE13-A01D-4E44-B253-D5008FBBD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83B9-9BA1-4111-8A6C-930F83508B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60280"/>
            <a:ext cx="8064360" cy="1152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éptima Clase </a:t>
            </a:r>
            <a:br>
              <a:rPr sz="3200"/>
            </a:br>
            <a:r>
              <a:rPr b="0" lang="en-US" sz="3200" spc="-1" strike="noStrike">
                <a:solidFill>
                  <a:srgbClr val="000000"/>
                </a:solidFill>
                <a:latin typeface="Arial"/>
              </a:rPr>
              <a:t>Dr. Sergio Sánchez Bustos</a:t>
            </a:r>
            <a:endParaRPr b="0" lang="en-US" sz="3200" spc="-1" strike="noStrike">
              <a:solidFill>
                <a:srgbClr val="000000"/>
              </a:solidFill>
              <a:latin typeface="Arial"/>
            </a:endParaRPr>
          </a:p>
        </p:txBody>
      </p:sp>
      <p:sp>
        <p:nvSpPr>
          <p:cNvPr id="42"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Contenidos:</a:t>
            </a:r>
            <a:r>
              <a:rPr b="0" lang="es-ES" sz="3200" spc="-1" strike="noStrike">
                <a:solidFill>
                  <a:srgbClr val="000000"/>
                </a:solidFill>
                <a:latin typeface="Arial"/>
              </a:rPr>
              <a:t> Natalidad, fecundidad, mortalidad infantil</a:t>
            </a:r>
            <a:r>
              <a:rPr b="0" lang="es-CL" sz="3200" spc="-1" strike="noStrike">
                <a:solidFill>
                  <a:srgbClr val="000000"/>
                </a:solidFill>
                <a:latin typeface="Arial"/>
              </a:rPr>
              <a:t>. </a:t>
            </a:r>
            <a:r>
              <a:rPr b="0" lang="es-ES" sz="3200" spc="-1" strike="noStrike">
                <a:solidFill>
                  <a:srgbClr val="000000"/>
                </a:solidFill>
                <a:latin typeface="Arial"/>
              </a:rPr>
              <a:t>La estructura poblacional y sus consecuencias</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expositi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l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etu demográfico</a:t>
            </a:r>
            <a:endParaRPr b="0" lang="en-US" sz="2400" spc="-1" strike="noStrike">
              <a:solidFill>
                <a:srgbClr val="000000"/>
              </a:solidFill>
              <a:latin typeface="Arial"/>
            </a:endParaRPr>
          </a:p>
        </p:txBody>
      </p:sp>
      <p:sp>
        <p:nvSpPr>
          <p:cNvPr id="73"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p:nvPr/>
        </p:nvSpPr>
        <p:spPr>
          <a:xfrm>
            <a:off x="468360" y="1052640"/>
            <a:ext cx="8496360" cy="505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El ímpetu demográfico se refiere a la tendencia de una población</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de continuar su crecimiento después de alcanzar su fecundidad a nivel</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de reemplazo. Es posible que una población que haya alcanzado la</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fecundidad a nivel de reemplazo, o que esté por debajo del mismo,</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continúe creciendo durante varias décadas debido a que la fecundidad</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alta en el pasado conduce a una gran concentración de personas en la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edades más tempranas. El total de nacimientos continúa excediendo el</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total de muertes a medida que estos jóvenes se convierten en padre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Pero eventualmente este grupo grande envejece y las muertes aumentan</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hasta alcanzar o sobrepasar el número de nacimientos. Por lo</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tanto, es posible que tome dos o tres generaciones (de 50 a 70 añ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antes de que cada nuevo nacimiento se vea compensado por una</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muerte dentro de la población.</a:t>
            </a:r>
            <a:endParaRPr b="0" lang="en-US" sz="18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ujeres solteras</a:t>
            </a:r>
            <a:endParaRPr b="0" lang="en-US" sz="2400" spc="-1" strike="noStrike">
              <a:solidFill>
                <a:srgbClr val="000000"/>
              </a:solidFill>
              <a:latin typeface="Arial"/>
            </a:endParaRPr>
          </a:p>
        </p:txBody>
      </p:sp>
      <p:sp>
        <p:nvSpPr>
          <p:cNvPr id="76"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
          <p:cNvSpPr/>
          <p:nvPr/>
        </p:nvSpPr>
        <p:spPr>
          <a:xfrm>
            <a:off x="468360" y="1052640"/>
            <a:ext cx="849636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La tasa de natalidad entre mujeres solteras es el número de nacid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vivos por cada 1.000 mujeres solteras entre las edades de 15 a 49 añ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durante un año determinado. Esta tasa indica el número de bebés nacid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de mujeres solteras y no debe confundirse con el porcentaje de natalidad</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fuera del matrimonio que se describe a continuación.</a:t>
            </a: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pic>
        <p:nvPicPr>
          <p:cNvPr id="78" name="" descr=""/>
          <p:cNvPicPr/>
          <p:nvPr/>
        </p:nvPicPr>
        <p:blipFill>
          <a:blip r:embed="rId1"/>
          <a:stretch/>
        </p:blipFill>
        <p:spPr>
          <a:xfrm>
            <a:off x="468360" y="3067200"/>
            <a:ext cx="8326440" cy="1801800"/>
          </a:xfrm>
          <a:prstGeom prst="rect">
            <a:avLst/>
          </a:prstGeom>
          <a:ln w="0">
            <a:noFill/>
          </a:ln>
        </p:spPr>
      </p:pic>
    </p:spTree>
  </p:cSld>
  <p:transition spd="slow">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atalidad de mujeres solteras</a:t>
            </a:r>
            <a:endParaRPr b="0" lang="en-US" sz="3200" spc="-1" strike="noStrike">
              <a:solidFill>
                <a:srgbClr val="000000"/>
              </a:solidFill>
              <a:latin typeface="Arial"/>
            </a:endParaRPr>
          </a:p>
        </p:txBody>
      </p:sp>
      <p:sp>
        <p:nvSpPr>
          <p:cNvPr id="80"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051560" y="1341360"/>
            <a:ext cx="760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orcentaje de natalidad de mujeres solteras es el número de hij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acidos de mujeres que nunca se casaron, viudas o divorciadas por c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0 nacidos vivos durante un año determinado. Esta medida relacio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nacimientos a mujeres solteras con el número total de nacimientos.</a:t>
            </a:r>
            <a:endParaRPr b="0" lang="en-US" sz="1800" spc="-1" strike="noStrike">
              <a:solidFill>
                <a:srgbClr val="000000"/>
              </a:solidFill>
              <a:latin typeface="Arial"/>
            </a:endParaRPr>
          </a:p>
        </p:txBody>
      </p:sp>
      <p:pic>
        <p:nvPicPr>
          <p:cNvPr id="83" name="" descr=""/>
          <p:cNvPicPr/>
          <p:nvPr/>
        </p:nvPicPr>
        <p:blipFill>
          <a:blip r:embed="rId1"/>
          <a:stretch/>
        </p:blipFill>
        <p:spPr>
          <a:xfrm>
            <a:off x="382680" y="2952720"/>
            <a:ext cx="8377200" cy="1700280"/>
          </a:xfrm>
          <a:prstGeom prst="rect">
            <a:avLst/>
          </a:prstGeom>
          <a:ln w="0">
            <a:noFill/>
          </a:ln>
        </p:spPr>
      </p:pic>
    </p:spTree>
  </p:cSld>
  <p:transition spd="slow">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actores que afectan la fecundidad</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85"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826920" y="1557360"/>
            <a:ext cx="777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factores que afectan la fecundidad so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orción de mujeres en una relación</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de mujeres en edad reproductiv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so a métodos anticonceptivo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ctores Culturales: miedos, control parental, escolar</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dad de inicio de RRS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ectativas futuras: laborales, académicas, familiar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bortos legales-ilegales, provocad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 poblacional y consecuencias</a:t>
            </a:r>
            <a:endParaRPr b="0" lang="en-US" sz="2400" spc="-1" strike="noStrike">
              <a:solidFill>
                <a:srgbClr val="000000"/>
              </a:solidFill>
              <a:latin typeface="Arial"/>
            </a:endParaRPr>
          </a:p>
        </p:txBody>
      </p:sp>
      <p:sp>
        <p:nvSpPr>
          <p:cNvPr id="89"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26920" y="1557360"/>
            <a:ext cx="7777440" cy="3448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relación a los cambios demográficos hay que recordar que una TGF de 2 o más asegura el recambio poblacional. Una poblacion con menor tasa comenzará a envejecer, en unas dos generaciones, debido a que las cohortes actualmente en edad reproductiva mantienen sus tasas de fecundida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relación a la TBF debiera ser mayor a uno, al igual que la TN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as son aproximaciones , susceptibles de ser modificadas por eventos sociales, políticos y ambientales extremos, como por ejemplo , hambruna, guerras, desarrollo económico</a:t>
            </a:r>
            <a:endParaRPr b="0" lang="en-US" sz="2000" spc="-1" strike="noStrike">
              <a:solidFill>
                <a:srgbClr val="000000"/>
              </a:solidFill>
              <a:latin typeface="Arial"/>
            </a:endParaRPr>
          </a:p>
        </p:txBody>
      </p:sp>
    </p:spTree>
  </p:cSld>
  <p:transition spd="slow">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 poblacional y consecuencias</a:t>
            </a:r>
            <a:endParaRPr b="0" lang="en-US" sz="2400" spc="-1" strike="noStrike">
              <a:solidFill>
                <a:srgbClr val="000000"/>
              </a:solidFill>
              <a:latin typeface="Arial"/>
            </a:endParaRPr>
          </a:p>
        </p:txBody>
      </p:sp>
      <p:sp>
        <p:nvSpPr>
          <p:cNvPr id="93"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26920" y="1557360"/>
            <a:ext cx="777744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rincipal consecuencia del envejecimiento de la población es la mejoría de la calidad de vida de la misma. AL envejecer, se llega a un momento dónde la mayoría de las personas que componen esa población son adultos en edad productiv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a mayoría relativa de adultos explica el progreso económico que supone el envejecimien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envejecimiento puede ser suplido por las migraciones; los inmigrantes llegan a ofrecer sus servicios a sociedades desarrolladas en las que escasea la mano de obra poco calificada o en las que nivel de desarrollo evidencia una escasez relativa de ell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200" spc="-1" strike="noStrike">
                <a:solidFill>
                  <a:srgbClr val="000000"/>
                </a:solidFill>
                <a:latin typeface="Arial"/>
              </a:rPr>
              <a:t>Descanso 10 Min</a:t>
            </a:r>
            <a:endParaRPr b="0" lang="en-US" sz="72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fontScale="97000"/>
          </a:bodyPr>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 regreso:</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r grupos de 2-3 persona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er el caso que expondrá el profesor.</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erdo: actividad evaluada</a:t>
            </a:r>
            <a:endParaRPr b="0" lang="en-US" sz="3200" spc="-1" strike="noStrike">
              <a:solidFill>
                <a:srgbClr val="000000"/>
              </a:solidFill>
              <a:latin typeface="Arial"/>
            </a:endParaRPr>
          </a:p>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endParaRPr b="0" lang="en-US" sz="6000" spc="-1" strike="noStrike">
              <a:solidFill>
                <a:srgbClr val="000000"/>
              </a:solidFill>
              <a:latin typeface="Arial"/>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8" name=""/>
          <p:cNvSpPr/>
          <p:nvPr/>
        </p:nvSpPr>
        <p:spPr>
          <a:xfrm>
            <a:off x="-566640" y="109044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99" name=""/>
          <p:cNvGraphicFramePr/>
          <p:nvPr/>
        </p:nvGraphicFramePr>
        <p:xfrm>
          <a:off x="-566640" y="4610160"/>
          <a:ext cx="365040" cy="1157400"/>
        </p:xfrm>
        <a:graphic>
          <a:graphicData uri="http://schemas.openxmlformats.org/drawingml/2006/table">
            <a:tbl>
              <a:tblPr/>
              <a:tblGrid>
                <a:gridCol w="216000"/>
                <a:gridCol w="216000"/>
              </a:tblGrid>
              <a:tr h="11574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00" name=""/>
          <p:cNvSpPr/>
          <p:nvPr/>
        </p:nvSpPr>
        <p:spPr>
          <a:xfrm>
            <a:off x="681480" y="549360"/>
            <a:ext cx="800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fique contra el tiempo los datos siguientes, e interprete para Ch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634200" y="589932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nte UN</a:t>
            </a:r>
            <a:endParaRPr b="0" lang="en-US" sz="2000" spc="-1" strike="noStrike">
              <a:solidFill>
                <a:srgbClr val="000000"/>
              </a:solidFill>
              <a:latin typeface="Arial"/>
            </a:endParaRPr>
          </a:p>
        </p:txBody>
      </p:sp>
      <p:graphicFrame>
        <p:nvGraphicFramePr>
          <p:cNvPr id="102" name=""/>
          <p:cNvGraphicFramePr/>
          <p:nvPr/>
        </p:nvGraphicFramePr>
        <p:xfrm>
          <a:off x="250920" y="1413000"/>
          <a:ext cx="8569080" cy="4391280"/>
        </p:xfrm>
        <a:graphic>
          <a:graphicData uri="http://schemas.openxmlformats.org/drawingml/2006/table">
            <a:tbl>
              <a:tblPr/>
              <a:tblGrid>
                <a:gridCol w="1409040"/>
                <a:gridCol w="650520"/>
                <a:gridCol w="651240"/>
                <a:gridCol w="650880"/>
                <a:gridCol w="650880"/>
                <a:gridCol w="650880"/>
                <a:gridCol w="650880"/>
                <a:gridCol w="650880"/>
                <a:gridCol w="650880"/>
                <a:gridCol w="651240"/>
                <a:gridCol w="650520"/>
                <a:gridCol w="651240"/>
              </a:tblGrid>
              <a:tr h="878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año</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0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1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1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2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3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3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4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4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r>
              <a:tr h="87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Población femenina (miles)</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7 79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8 23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8 66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9 14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9 649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 14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 58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 988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 36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 72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2 066</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r h="87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80"/>
                          </a:solidFill>
                          <a:latin typeface="Arial"/>
                        </a:rPr>
                        <a:t>%de mujeres entre 15-49 años</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2.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3.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2.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0.0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7.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5.0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4.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3.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2.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1.5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1.2</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r h="878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tasa de natalidad</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8</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5.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5.0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6.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6.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6.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5.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5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8</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r h="87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T. Neta de Fecundidad</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0.9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0.9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9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bl>
          </a:graphicData>
        </a:graphic>
      </p:graphicFrame>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ecundidad</a:t>
            </a:r>
            <a:endParaRPr b="0" lang="en-US" sz="2800" spc="-1" strike="noStrike">
              <a:solidFill>
                <a:srgbClr val="000000"/>
              </a:solidFill>
              <a:latin typeface="Arial"/>
            </a:endParaRPr>
          </a:p>
        </p:txBody>
      </p:sp>
      <p:sp>
        <p:nvSpPr>
          <p:cNvPr id="44" name="PlaceHolder 2"/>
          <p:cNvSpPr>
            <a:spLocks noGrp="1"/>
          </p:cNvSpPr>
          <p:nvPr>
            <p:ph/>
          </p:nvPr>
        </p:nvSpPr>
        <p:spPr>
          <a:xfrm>
            <a:off x="611280" y="1196640"/>
            <a:ext cx="7921440" cy="532908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684360" y="1268280"/>
            <a:ext cx="77752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fecundidad se relaciona con el número de niños nacidos viv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las mujeres. No es lo mismo que la fertilidad, que implica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pacidad física de reproducción de una mujer. La fecundidad 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e afectada por un número de factores que, a su vez, se ven afecta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r muchos otros factores sociales, culturales, económic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alud y ambientales. Este capítulo plantea los factores que afect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fecundidad de manera directa.</a:t>
            </a:r>
            <a:endParaRPr b="0" lang="en-US" sz="1800" spc="-1" strike="noStrike">
              <a:solidFill>
                <a:srgbClr val="000000"/>
              </a:solidFill>
              <a:latin typeface="Arial"/>
            </a:endParaRPr>
          </a:p>
        </p:txBody>
      </p:sp>
      <p:sp>
        <p:nvSpPr>
          <p:cNvPr id="46" name=""/>
          <p:cNvSpPr/>
          <p:nvPr/>
        </p:nvSpPr>
        <p:spPr>
          <a:xfrm>
            <a:off x="900000" y="3606840"/>
            <a:ext cx="73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116000" y="3860640"/>
            <a:ext cx="682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de natalidad (denominada también la tasa bruta de natalidad) indica el número de nacimientos vivos por cada 1.000 habitantes durante un año determinado.</a:t>
            </a:r>
            <a:endParaRPr b="0" lang="en-US" sz="1800" spc="-1" strike="noStrike">
              <a:solidFill>
                <a:srgbClr val="000000"/>
              </a:solidFill>
              <a:latin typeface="Arial"/>
            </a:endParaRPr>
          </a:p>
        </p:txBody>
      </p:sp>
    </p:spTree>
  </p:cSld>
  <p:transition spd="slow">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ecundidad</a:t>
            </a:r>
            <a:endParaRPr b="0" lang="en-US" sz="2800" spc="-1" strike="noStrike">
              <a:solidFill>
                <a:srgbClr val="000000"/>
              </a:solidFill>
              <a:latin typeface="Arial"/>
            </a:endParaRPr>
          </a:p>
        </p:txBody>
      </p:sp>
      <p:sp>
        <p:nvSpPr>
          <p:cNvPr id="49"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539640" y="1298520"/>
            <a:ext cx="8326440" cy="1193760"/>
          </a:xfrm>
          <a:prstGeom prst="rect">
            <a:avLst/>
          </a:prstGeom>
          <a:ln w="0">
            <a:noFill/>
          </a:ln>
        </p:spPr>
      </p:pic>
      <p:sp>
        <p:nvSpPr>
          <p:cNvPr id="51" name=""/>
          <p:cNvSpPr/>
          <p:nvPr/>
        </p:nvSpPr>
        <p:spPr>
          <a:xfrm>
            <a:off x="2237040" y="2781360"/>
            <a:ext cx="42728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s mundiales: período 2005-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fganistán: 46,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rasil: 1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ile: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ba: 1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ina: 13,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emania: 1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rak: 3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aña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United N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undidad general</a:t>
            </a:r>
            <a:endParaRPr b="0" lang="en-US" sz="2400" spc="-1" strike="noStrike">
              <a:solidFill>
                <a:srgbClr val="000000"/>
              </a:solidFill>
              <a:latin typeface="Arial"/>
            </a:endParaRPr>
          </a:p>
        </p:txBody>
      </p:sp>
      <p:sp>
        <p:nvSpPr>
          <p:cNvPr id="53"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539640" y="1197000"/>
            <a:ext cx="813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nacimientos son sólo un componente de los cambios en u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blación, y la tasa de natalidad no debe confundirse con la tas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cimiento, que incluye todos los componentes de cambio</a:t>
            </a:r>
            <a:endParaRPr b="0" lang="en-US" sz="1800" spc="-1" strike="noStrike">
              <a:solidFill>
                <a:srgbClr val="000000"/>
              </a:solidFill>
              <a:latin typeface="Arial"/>
            </a:endParaRPr>
          </a:p>
        </p:txBody>
      </p:sp>
      <p:sp>
        <p:nvSpPr>
          <p:cNvPr id="55" name=""/>
          <p:cNvSpPr/>
          <p:nvPr/>
        </p:nvSpPr>
        <p:spPr>
          <a:xfrm>
            <a:off x="611280" y="2276640"/>
            <a:ext cx="747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eneral de fecundidad (denominada también la tasa de fecundidad) es el número de nacimientos vivos por cada grupo de 1.000 mujeres entre las edades de 15 a 49 años durante un año determinado.</a:t>
            </a:r>
            <a:endParaRPr b="0" lang="en-US" sz="1800" spc="-1" strike="noStrike">
              <a:solidFill>
                <a:srgbClr val="000000"/>
              </a:solidFill>
              <a:latin typeface="Arial"/>
            </a:endParaRPr>
          </a:p>
        </p:txBody>
      </p:sp>
      <p:sp>
        <p:nvSpPr>
          <p:cNvPr id="56" name=""/>
          <p:cNvSpPr/>
          <p:nvPr/>
        </p:nvSpPr>
        <p:spPr>
          <a:xfrm>
            <a:off x="611280" y="3645000"/>
            <a:ext cx="813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eneral de fecundidad es una medida un poco más preci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la tasa de natalidad porque la misma relaciona los nacimientos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 clasificado según la edad y el sexo con las mayores probabilida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dar a luz</a:t>
            </a:r>
            <a:endParaRPr b="0" lang="en-US" sz="1800" spc="-1" strike="noStrike">
              <a:solidFill>
                <a:srgbClr val="000000"/>
              </a:solidFill>
              <a:latin typeface="Arial"/>
            </a:endParaRPr>
          </a:p>
        </p:txBody>
      </p:sp>
      <p:pic>
        <p:nvPicPr>
          <p:cNvPr id="57" name="" descr=""/>
          <p:cNvPicPr/>
          <p:nvPr/>
        </p:nvPicPr>
        <p:blipFill>
          <a:blip r:embed="rId1"/>
          <a:stretch/>
        </p:blipFill>
        <p:spPr>
          <a:xfrm>
            <a:off x="544680" y="4869000"/>
            <a:ext cx="8275320" cy="1649160"/>
          </a:xfrm>
          <a:prstGeom prst="rect">
            <a:avLst/>
          </a:prstGeom>
          <a:ln w="0">
            <a:noFill/>
          </a:ln>
        </p:spPr>
      </p:pic>
    </p:spTree>
  </p:cSld>
  <p:transition spd="slow">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undidad específica, número de hijos total</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tasas de fecundidad también pueden calcularse para grupos de edades específicas para observar las diferencias de fecundidad a diferentes edades o para fines de comparación durante un período.</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número total de hijos” nacidos durante varias edades de la</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re provee una medida de la fecundidad de la población. Esta</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da es útil únicamente si se especifica el grupo de edad de las</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jeres consideradas. Cuando se calcula esta medida para mujeres mayores de 49 años de edad, se llama tasa final de fecundidad; ésta muestra cuántos hijos nacieron de cierta cohorte de mujeres mientras estaban en sus años reproductivos cuando ya han finalizado sus años reproductivos.</a:t>
            </a:r>
            <a:endParaRPr b="0" lang="en-US" sz="2000" spc="-1" strike="noStrike">
              <a:solidFill>
                <a:srgbClr val="000000"/>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GF o TGR</a:t>
            </a:r>
            <a:endParaRPr b="0" lang="en-US" sz="2400" spc="-1" strike="noStrike">
              <a:solidFill>
                <a:srgbClr val="000000"/>
              </a:solidFill>
              <a:latin typeface="Arial"/>
            </a:endParaRPr>
          </a:p>
        </p:txBody>
      </p:sp>
      <p:sp>
        <p:nvSpPr>
          <p:cNvPr id="61"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
          <p:cNvSpPr/>
          <p:nvPr/>
        </p:nvSpPr>
        <p:spPr>
          <a:xfrm>
            <a:off x="755640" y="1484280"/>
            <a:ext cx="7993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lobal de fecundidad es el número promedio de hijos que una mujer habría tenido al final de sus años reproductivos si la misma se hubiera ajustado a las tasas de fecundidad por edad específica durante cada año de su vida reproductiv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lobal de fecundidad resume, en una sola cifra, la fecund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todas las mujeres durante una etapa determinada. La mis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 efectivamente: He aquí el número total de hijos que una muj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ría tenido si se le aplicasen las tasas de fecundidad para un 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ífico durante su vida reproducti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lobal de fecundidad es una medida </a:t>
            </a:r>
            <a:r>
              <a:rPr b="0" i="1" lang="en-US" sz="1800" spc="-1" strike="noStrike">
                <a:solidFill>
                  <a:srgbClr val="000000"/>
                </a:solidFill>
                <a:latin typeface="Arial"/>
              </a:rPr>
              <a:t>sintética; </a:t>
            </a:r>
            <a:r>
              <a:rPr b="0" lang="en-US" sz="1800" spc="-1" strike="noStrike">
                <a:solidFill>
                  <a:srgbClr val="000000"/>
                </a:solidFill>
                <a:latin typeface="Arial"/>
              </a:rPr>
              <a:t>no es muy prob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una mujer se ajuste a las tasas de fecundidad por edad específ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esos años durante tres décadas segu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GF, TBR</a:t>
            </a:r>
            <a:endParaRPr b="0" lang="en-US" sz="2400" spc="-1" strike="noStrike">
              <a:solidFill>
                <a:srgbClr val="000000"/>
              </a:solidFill>
              <a:latin typeface="Arial"/>
            </a:endParaRPr>
          </a:p>
        </p:txBody>
      </p:sp>
      <p:sp>
        <p:nvSpPr>
          <p:cNvPr id="64"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
          <p:cNvSpPr/>
          <p:nvPr/>
        </p:nvSpPr>
        <p:spPr>
          <a:xfrm>
            <a:off x="611280" y="1197000"/>
            <a:ext cx="8208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a mujer está sujeta al “riesgo” anual de dar a luz cinco veces durante cada grupo de edades; por ejemplo, 0,124 a los 20, 0,124 a los 21, y así sucesivamente. Sumar las tasas para todas las categorías de edad resulta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número de hijos que hubiera tenido al llegar a los 49 años de edad; es decir, la tasa global de fecund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 como supuesto que las tasas de fecundidad específicas por grupo se mantendrían en el 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o tiene una relación con el desarrollo de los países: gran parte de los desarrollados tienen una TGF menor a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bruta de reproducción es el número promedio de </a:t>
            </a:r>
            <a:r>
              <a:rPr b="1" lang="en-US" sz="1800" spc="-1" strike="noStrike">
                <a:solidFill>
                  <a:srgbClr val="000000"/>
                </a:solidFill>
                <a:latin typeface="Arial"/>
              </a:rPr>
              <a:t>hijas</a:t>
            </a:r>
            <a:r>
              <a:rPr b="0" lang="en-US" sz="1800" spc="-1" strike="noStrike">
                <a:solidFill>
                  <a:srgbClr val="000000"/>
                </a:solidFill>
                <a:latin typeface="Arial"/>
              </a:rPr>
              <a:t> que una muj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dría durante su vida si se ajustara a las tasas de fecundidad por 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ífica para años particulares durante su período reproduc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e, literalmente, la “reproducción”;es decir, una mujer se reproduce, o se duplica, al tener una hija</a:t>
            </a:r>
            <a:endParaRPr b="0" lang="en-US" sz="1800" spc="-1" strike="noStrike">
              <a:solidFill>
                <a:srgbClr val="000000"/>
              </a:solidFill>
              <a:latin typeface="Arial"/>
            </a:endParaRPr>
          </a:p>
        </p:txBody>
      </p:sp>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NR</a:t>
            </a:r>
            <a:endParaRPr b="0" lang="en-US" sz="2400" spc="-1" strike="noStrike">
              <a:solidFill>
                <a:srgbClr val="000000"/>
              </a:solidFill>
              <a:latin typeface="Arial"/>
            </a:endParaRPr>
          </a:p>
        </p:txBody>
      </p:sp>
      <p:sp>
        <p:nvSpPr>
          <p:cNvPr id="67"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468360" y="1052640"/>
            <a:ext cx="8496360" cy="534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983360"/>
                <a:tab algn="l" pos="8229600"/>
                <a:tab algn="l" pos="9144000"/>
                <a:tab algn="l" pos="10058400"/>
              </a:tabLst>
            </a:pPr>
            <a:r>
              <a:rPr b="0" lang="es-CL" sz="1800" spc="-1" strike="noStrike">
                <a:solidFill>
                  <a:srgbClr val="000000"/>
                </a:solidFill>
                <a:latin typeface="Arial"/>
              </a:rPr>
              <a:t>La tasa neta de reproducción es el número promedio de hijas que nacerían de una mujer si durante toda su vida, desde nacer, se ajustara a las tasa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de fecundidad y mortalidad específicas para un año determinado. Esta</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tasa se parece a la tasa bruta de reproducción, pero siempre es má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baja dado que toma en consideración el hecho de que algunas mujere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morirán antes de finalizar sus años reproductivos.</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Es otra medida de la viabilidad reproductiva de las mujeres en dichas poblaciones. Si se compara con TBR se puede apreciar la viabilidad de la vida de las mujeres de esas poblaciones.</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TNR en período 2005-2010</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España 0,75     Chile : 0,94</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Somalia 2,25     Brasil: 0,89</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Cuba 0,72        Bolivia 1,54</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China 0,77    Argentina: 1,08</a:t>
            </a: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Fuente UN</a:t>
            </a:r>
            <a:endParaRPr b="0" lang="en-US" sz="1800" spc="-1" strike="noStrike">
              <a:solidFill>
                <a:srgbClr val="000000"/>
              </a:solidFill>
              <a:latin typeface="Arial"/>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zón de niños a mujeres y reemplazo</a:t>
            </a:r>
            <a:endParaRPr b="0" lang="en-US" sz="2400" spc="-1" strike="noStrike">
              <a:solidFill>
                <a:srgbClr val="000000"/>
              </a:solidFill>
              <a:latin typeface="Arial"/>
            </a:endParaRPr>
          </a:p>
        </p:txBody>
      </p:sp>
      <p:sp>
        <p:nvSpPr>
          <p:cNvPr id="70"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395280" y="1101600"/>
            <a:ext cx="8497800" cy="63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983360"/>
                <a:tab algn="l" pos="8229600"/>
                <a:tab algn="l" pos="9144000"/>
                <a:tab algn="l" pos="10058400"/>
              </a:tabLst>
            </a:pPr>
            <a:r>
              <a:rPr b="0" lang="es-CL" sz="1800" spc="-1" strike="noStrike">
                <a:solidFill>
                  <a:srgbClr val="000000"/>
                </a:solidFill>
                <a:latin typeface="Arial"/>
              </a:rPr>
              <a:t>La razón de niños a mujeres es el número de niños menores de 5 años por 1.000 mujeres en edad reproductiva durante un año determinado.</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La fecundidad a nivel de reemplazo es el nivel de fecundidad al cual las mujeres dentro de la misma cohorte tienen precisamente suficientes hijas (en promedio) para “reemplazarse” dentro de la población.</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Una tasa neta de reproducción de 1,00 es igual al nivel de reemplazo. Una vez se alcanza la fecundidad a nivel de reemplazo, los nacimientos alcanzarán gradualmente un equilibrio con las muertes y, en ausencia de inmigración o emigración, una población eventualmente dejará de crecer y se volverá estacionaria. El tiempo que toma en realizarse este proceso varía ampliamente dependiendo de la estructura por</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edad de la población.</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La tasa global de fecundidad también puede utilizarse para indicar la fecundidad a nivel de reemplazo mostrando el número promedio de niños que sería suficiente para reemplazar a ambos padres dentro de la población. Actualmente, en los países industrializados, una tasa global de fecundidad de alrededor de 2,1 se considera el nivel de reemplazo.</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4:54:28Z</dcterms:created>
  <dc:creator>Sergio Sanchez</dc:creator>
  <dc:description/>
  <dc:language>en-US</dc:language>
  <cp:lastModifiedBy>Sergio Sanchez</cp:lastModifiedBy>
  <dcterms:modified xsi:type="dcterms:W3CDTF">2009-10-04T21:55:25Z</dcterms:modified>
  <cp:revision>73</cp:revision>
  <dc:subject/>
  <dc:title>Leopoldo María Panero: biografía</dc:title>
</cp:coreProperties>
</file>