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BEA-F7B8-4925-9DE2-15044329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98B-6F8E-4963-9751-D64414C5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477-508A-4B47-BCB1-819B68B4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567-24F0-4261-A8F5-00AB545F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1E6-E8F6-43C7-AFB7-432900B1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B23-1A11-4CC6-B15D-5EC43EEE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69D-7B71-47EF-A988-3E25BAB3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021-7DD1-4F16-B84A-5FED09C1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6C5-F3F3-4EF2-B7D5-AA3CB53E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C51-327F-4AFD-B04C-D0B648F8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36C-E87D-4CCA-8EDA-9A9D29E9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383-D1D3-45AC-8FED-E2C6E54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E04B-CDF4-49D0-BA13-6D25CF5D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nálisis sociodemográfico de la pob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052640"/>
            <a:ext cx="8496360" cy="81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7  de Mayo de 2004: promulgada en diario of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ambos cónyuges lo solicitan de común acuerdo y acreditan que ha cesado su convivencia durante un lapso mayor de un año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ndo se verifique un cese efectivo de la convivencia conyugal durante el transcurso de, a lo menos, tres años, salvo que, a solicitud de la parte demandada, el juez verifique que el demandante, durante el cese de la convivencia, no ha dado cumplimiento, reiterado, a su obligación de alimentos respecto del cónyuge demandado y de los hijos comunes, pudiendo hacerlo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nte: biblioteca nacional. Ley 19947. Capítulo VI. Párrafo 1. Artículo 54 y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52640"/>
            <a:ext cx="84963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datos demográficos se reportan según la ra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grupo étnico, el origen nacional y la afiliación religiosa. Las 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aza y etnicidad varían según el país y a través d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n dentro de distintos campos académicos, no todos están de acuer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bre cómo definir estos concept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aza no es un término científico. No existe un acuerdo acerc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as razas existen o acerca de lo que distingue exactamente a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a de un grupo ét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98560" y="1817640"/>
            <a:ext cx="7489800" cy="3411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44800" y="580392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 : INE. Censo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0" y="5803920"/>
            <a:ext cx="22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 : INE. Censo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50920" y="1693800"/>
            <a:ext cx="5185080" cy="3679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81240" y="1612800"/>
            <a:ext cx="447840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78152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52640"/>
            <a:ext cx="849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022480" y="1224000"/>
            <a:ext cx="442116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: caracterización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27040" y="1400040"/>
            <a:ext cx="6169320" cy="4692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za , etnia, 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7960" y="1652760"/>
            <a:ext cx="6043680" cy="3288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052640"/>
            <a:ext cx="849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: Personas o persona que ocupa una sola viv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: Grupo de personas que viven juntas y vinculadas por sangre o condicion civil . También puede ser familia con un solo individu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os de famil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nopa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u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n 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84360" y="2355840"/>
            <a:ext cx="6315120" cy="2513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indicadores sociodemográficos, por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1400" y="1616040"/>
            <a:ext cx="6600600" cy="4189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05080"/>
            <a:ext cx="849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Nuclear: Es aquel hogar constituido por padre, madre hijos/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extendido: hogar nuclear y otras personas emparentadas con el jefe de ho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gar compuesto: hogar nuclear o extendido y otras personas no emparentadas con el jefe de ho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 Monoparental: una sol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gar sin núcleo: eparentados pero son relación de fil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,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052640"/>
            <a:ext cx="849636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os datos demográficos se reportan según la raz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grupo étnico, el origen nacional y la afiliación religiosa. Las defin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 raza y etnicidad varían según el país y a través del tiem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n dentro de distintos campos académico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todos están de acue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bre cómo definir estos concept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raza no es un término científic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existe un acuerdo acerc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ántas razas existen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erca de lo que disti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actamente a 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aza de un grupo étn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13200" y="2276640"/>
            <a:ext cx="371952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gares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1279440"/>
            <a:ext cx="5184720" cy="2220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50920" y="3794040"/>
            <a:ext cx="5376960" cy="2227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052640"/>
            <a:ext cx="849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97040" y="1413000"/>
            <a:ext cx="5754600" cy="180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65440" y="3763800"/>
            <a:ext cx="5759280" cy="197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052640"/>
            <a:ext cx="84963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personas que presentan una o más discapacidades en 2002, alcanz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34.377, lo que equivale al 2,2% de la población total del país. De este tot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78.563 (53,4%) son hombres y 155.814 (46,6%) son muj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ente: INE. Censo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49400" y="2851200"/>
            <a:ext cx="6978600" cy="2954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052640"/>
            <a:ext cx="84963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enso de 2002 consultó nueve opciones en la pregunta sobre religión, ampli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í el número de alternativas respecto a los censos anteriores. L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tenidos indican que el 70,0% de los habitantes de quince años o más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ó católico; el 15,1% evangélico; el 4,4% se identificó con otra religión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do, y el 8,3% dijo no tener religión, ser ateo o agnóstico. El censo d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stró que el 76,7% de los habitantes de 14 años o más se declaró católico;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2,4% evangélico; el 0,8% protestante; el 4,2% se identificó con otra religión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do, y el 5,8% dijo ser indiferente o at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indicadores sociodemográficos, por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32280" y="1916280"/>
            <a:ext cx="3519360" cy="296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89000" y="1913040"/>
            <a:ext cx="1935360" cy="288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p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92440"/>
            <a:ext cx="828036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nupcialidad se refiere al matrimonio como un fenómeno de la población e incluye la tasa a la cual el mismo sucede, las características de las personas casadas y la disolución de tales uniones (por divorcio, separación, viudez y anul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úmero de matrimonios por cada 1.000 del total de habitantes durante un año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usa el Nº de matrimonios, no el Nº de personas que se ca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gipto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97360"/>
            <a:ext cx="7014960" cy="90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pci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mujeres, normalmente, se casan a una edad anterior que los ho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 actualmente hay un fenómeno de retraso del matrimonio, debido al aumento de las oportunidades de trabajo para las muje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el año 2006 se registraron en Chile 58.155 matrimonios. Sin embargo, desde 1996 los matrimonios celebrados en nuestro país venían disminuy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territorial y social: nup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832040"/>
            <a:ext cx="7932600" cy="3684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dad media para contraer m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322280"/>
            <a:ext cx="8208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el Censo 2002 mostraba que era de 27,7 años para los hombres y de 24,6 años para las muj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comparan estos datos con la edad media calculada a partir de las Estadísticas Vitales 2006, se observa que la edad media al casarse de los hombres habría aumentado 2,1 años (a 29,8 años) y la de mujeres aumentó 3,4 años (a 28,0 añ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052640"/>
            <a:ext cx="8496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asa de divorcio (o tasa bruta de divorcio) indica el número de divorcios por cada 1.000 habitantes durante un año determinado. Esta tasa se calcula utilizando el número de divorcios y no el número de personas que se divorci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3600" y="3359160"/>
            <a:ext cx="860112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orcio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052640"/>
            <a:ext cx="8496360" cy="73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usal de divorcio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º.-Atentado contra la vida o malos tratamientos graves contra la integridad física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síquica del cónyuge o de alguno de los hij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º.-    Trasgresión grave y reiterada de los deberes  de convivencia, socorro y fidelidad propios  del matrimonio. El abandono continuo o reiterado del hogar común, es una forma de trasgresión grave de los deberes del matrimon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º.-    Condena ejecutoriada por la comisión de alguno de los crímenes o simples deli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a el orden de las familias y contra la moralidad pública, o contra las perso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vistos en el Libro II, Títulos VII y VIII, del Código Penal, que involucr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ve ruptura de la armonía conyug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º.-    Conducta homosex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º.-    Alcoholismo o drogadicción que constituya un impedimento grave para la convivencia armoniosa entre los cónyuges o entre éstos y los hijo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º.-    Tentativa para prostituir al otro cónyuge o a los hi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4T16:09:33Z</dcterms:modified>
  <cp:revision>60</cp:revision>
  <dc:subject/>
  <dc:title>Leopoldo María Panero: biografía</dc:title>
</cp:coreProperties>
</file>