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png" ContentType="image/png"/>
  <Override PartName="/ppt/media/image18.wmf" ContentType="image/x-wmf"/>
  <Override PartName="/ppt/media/image20.wmf" ContentType="image/x-wmf"/>
  <Override PartName="/ppt/media/image3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4.wmf" ContentType="image/x-wmf"/>
  <Override PartName="/ppt/media/image10.png" ContentType="image/png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DDF2-9750-46F6-B36E-238E71576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3EB4-EC6E-4BCD-A9BF-1B0D811F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9E57-5B5A-49C1-AE0B-1BDC91C1D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F13E-FF1F-4CB8-9173-727EF1E76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0D6E-30CB-4C83-AE1B-5EFEC2EAD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9684-8C25-4924-8923-E268DB84C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B83E-2CA2-49B6-8642-6D7A23079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0803-E740-444D-9A79-0EF8C976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072D-5CBE-49BB-A5E4-C188CEB41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B2E4-04A7-43F5-8608-4168C765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598F-3635-47F2-97ED-DA5D7C99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93F4-F8B6-429C-BF2F-DCDEF05A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53B7D-57A7-4489-81E0-45CF66C2C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064360" cy="1152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cera Clas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. Sergio Sánchez Bu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Contenidos: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Análisis sociodemográfico de la pobl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lase exposi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vorcio en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1052640"/>
            <a:ext cx="8496360" cy="81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7  de Mayo de 2004: promulgada en diario ofi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 ambos cónyuges lo solicitan de común acuerdo y acreditan que ha cesado su convivencia durante un lapso mayor de un año…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uando se verifique un cese efectivo de la convivencia conyugal durante el transcurso de, a lo menos, tres años, salvo que, a solicitud de la parte demandada, el juez verifique que el demandante, durante el cese de la convivencia, no ha dado cumplimiento, reiterado, a su obligación de alimentos respecto del cónyuge demandado y de los hijos comunes, pudiendo hacerlo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uente: biblioteca nacional. Ley 19947. Capítulo VI. Párrafo 1. Artículo 54 y 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aza , et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052640"/>
            <a:ext cx="849636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s datos demográficos se reportan según la raz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grupo étnico, el origen nacional y la afiliación religiosa. Las defini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raza y etnicidad varían según el país y a través del tiem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un dentro de distintos campos académicos, no todos están de acuer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obre cómo definir estos concepto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raza no es un término científico. No existe un acuerdo acerca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uántas razas existen o acerca de lo que distingue exactamente a 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aza de un grupo étn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aza , et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8360" y="1052640"/>
            <a:ext cx="8496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98560" y="1817640"/>
            <a:ext cx="7489800" cy="34117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844800" y="5803920"/>
            <a:ext cx="22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uente : INE. Censo 200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aza , et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1052640"/>
            <a:ext cx="8496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44800" y="5803920"/>
            <a:ext cx="22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uente : INE. Censo 200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050920" y="1693800"/>
            <a:ext cx="5185080" cy="36799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t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8360" y="1052640"/>
            <a:ext cx="8496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181240" y="1612800"/>
            <a:ext cx="4478400" cy="38322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aza , et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1052640"/>
            <a:ext cx="8496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124000" y="1197000"/>
            <a:ext cx="4781520" cy="53290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aza , et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1052640"/>
            <a:ext cx="849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022480" y="1224000"/>
            <a:ext cx="4421160" cy="53006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aza , etnia: caracterización lab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27040" y="1400040"/>
            <a:ext cx="6169320" cy="46929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aza , etnia, hogares, fami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407960" y="1652760"/>
            <a:ext cx="6043680" cy="32889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ogares, fami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1052640"/>
            <a:ext cx="849636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ogar: Personas o persona que ocupa una sola vivi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amilia: Grupo de personas que viven juntas y vinculadas por sangre o condicion civil . También puede ser familia con un solo individu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ipos de famili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onopar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ucl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mpue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xtend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n Núcl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484360" y="2355840"/>
            <a:ext cx="6315120" cy="25131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gunos indicadores sociodemográficos, por reg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11400" y="1616040"/>
            <a:ext cx="6600600" cy="41893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ogares, fami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1405080"/>
            <a:ext cx="849636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ogar Nuclear: Es aquel hogar constituido por padre, madre hijos/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ogar extendido: hogar nuclear y otras personas emparentadas con el jefe de hog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ogar compuesto: hogar nuclear o extendido y otras personas no emparentadas con el jefe de hog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ogar Monoparental: una sola pers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ogar sin núcleo: eparentados pero son relación de fili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ogares, fami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1052640"/>
            <a:ext cx="8496360" cy="51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os datos demográficos se reportan según la raz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l grupo étnico, el origen nacional y la afiliación religiosa. Las defini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e raza y etnicidad varían según el país y a través del tiemp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un dentro de distintos campos académico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no todos están de acuer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obre cómo definir estos conceptos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a raza no es un término científic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No existe un acuerdo acerca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uántas razas existen 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cerca de lo que disting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xactamente a u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aza de un grupo étnic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813200" y="2276640"/>
            <a:ext cx="3719520" cy="4248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ogares en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1052640"/>
            <a:ext cx="8496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124000" y="1279440"/>
            <a:ext cx="5184720" cy="22208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050920" y="3794040"/>
            <a:ext cx="5376960" cy="22273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ivi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1052640"/>
            <a:ext cx="8496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697040" y="1413000"/>
            <a:ext cx="5754600" cy="1801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765440" y="3763800"/>
            <a:ext cx="5759280" cy="19702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scapac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8360" y="1052640"/>
            <a:ext cx="8496360" cy="56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s personas que presentan una o más discapacidades en 2002, alcanza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34.377, lo que equivale al 2,2% de la población total del país. De este tota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78.563 (53,4%) son hombres y 155.814 (46,6%) son muje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Fuente: INE. Censo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049400" y="2851200"/>
            <a:ext cx="6978600" cy="29541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lig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1052640"/>
            <a:ext cx="8496360" cy="43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censo de 2002 consultó nueve opciones en la pregunta sobre religión, ampli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sí el número de alternativas respecto a los censos anteriores. Los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btenidos indican que el 70,0% de los habitantes de quince años o más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claró católico; el 15,1% evangélico; el 4,4% se identificó con otra religión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redo, y el 8,3% dijo no tener religión, ser ateo o agnóstico. El censo de 19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stró que el 76,7% de los habitantes de 14 años o más se declaró católico; 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2,4% evangélico; el 0,8% protestante; el 4,2% se identificó con otra religión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redo, y el 5,8% dijo ser indiferente o ate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gunos indicadores sociodemográficos, por reg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32280" y="1916280"/>
            <a:ext cx="3519360" cy="2960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989000" y="1913040"/>
            <a:ext cx="1935360" cy="28843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upci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792440"/>
            <a:ext cx="8280360" cy="48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nupcialidad se refiere al matrimonio como un fenómeno de la población e incluye la tasa a la cual el mismo sucede, las características de las personas casadas y la disolución de tales uniones (por divorcio, separación, viudez y anulació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úmero de matrimonios por cada 1.000 del total de habitantes durante un año determin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usa el Nº de matrimonios, no el Nº de personas que se cas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gipto, 19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71640" y="4797360"/>
            <a:ext cx="7014960" cy="9050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upcialidad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mujeres, normalmente, se casan a una edad anterior que los homb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Chile actualmente hay un fenómeno de retraso del matrimonio, debido al aumento de las oportunidades de trabajo para las muje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 el año 2006 se registraron en Chile 58.155 matrimonios. Sin embargo, desde 1996 los matrimonios celebrados en nuestro país venían disminuyen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álisis territorial y social: nupci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11280" y="1832040"/>
            <a:ext cx="7932600" cy="36846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dad media para contraer matrimo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1322280"/>
            <a:ext cx="8208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ún el Censo 2002 mostraba que era de 27,7 años para los hombres y de 24,6 años para las muje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se comparan estos datos con la edad media calculada a partir de las Estadísticas Vitales 2006, se observa que la edad media al casarse de los hombres habría aumentado 2,1 años (a 29,8 años) y la de mujeres aumentó 3,4 años (a 28,0 año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vor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1052640"/>
            <a:ext cx="849636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tasa de divorcio (o tasa bruta de divorcio) indica el número de divorcios por cada 1.000 habitantes durante un año determinado. Esta tasa se calcula utilizando el número de divorcios y no el número de personas que se divorci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63600" y="3359160"/>
            <a:ext cx="8601120" cy="16542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vorcio en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1052640"/>
            <a:ext cx="8496360" cy="73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ausal de divorcio en Ch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º.-Atentado contra la vida o malos tratamientos graves contra la integridad física 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síquica del cónyuge o de alguno de los hij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º.-    Trasgresión grave y reiterada de los deberes  de convivencia, socorro y fidelidad propios  del matrimonio. El abandono continuo o reiterado del hogar común, es una forma de trasgresión grave de los deberes del matrimoni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º.-    Condena ejecutoriada por la comisión de alguno de los crímenes o simples deli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tra el orden de las familias y contra la moralidad pública, o contra las persona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evistos en el Libro II, Títulos VII y VIII, del Código Penal, que involucre u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rave ruptura de la armonía conyug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4º.-    Conducta homosexu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5º.-    Alcoholismo o drogadicción que constituya un impedimento grave para la convivencia armoniosa entre los cónyuges o entre éstos y los hijos,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6º.-    Tentativa para prostituir al otro cónyuge o a los hij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4:54:28Z</dcterms:created>
  <dc:creator>Sergio Sanchez</dc:creator>
  <dc:description/>
  <dc:language>en-US</dc:language>
  <cp:lastModifiedBy>ssanchez</cp:lastModifiedBy>
  <dcterms:modified xsi:type="dcterms:W3CDTF">2009-08-24T16:09:33Z</dcterms:modified>
  <cp:revision>60</cp:revision>
  <dc:subject/>
  <dc:title>Leopoldo María Panero: biografía</dc:title>
</cp:coreProperties>
</file>