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0F7-985B-4B23-998C-BA5C1842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C69-A88C-471F-BB7F-122003CE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B4C-A74B-49C7-B6CB-0496D80B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C71-718E-4B6D-A68E-F42C651F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D46-EB97-4E90-9B50-AF2D530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4C7-87D3-4A92-9F99-57F0710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3BD-628F-4C76-8581-968C17D6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465-A292-4B58-B52A-15ACD7AA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3FC-4498-4ECD-A636-A2295177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671-858C-47E0-A2EB-27A24A49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C42-1A9F-4B69-8A8F-8F9F766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2E2-939A-427B-B7AD-DFED4AB7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620A-D067-498B-996A-5877B65A23B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e un comentario breve acerca de la relación entre  el envejecimiento y el desarrollo de una población, entendido como el despliegue de recursos sociales, financieros, culturales etc, que una población posee en un determinad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56Z</dcterms:modified>
  <cp:revision>51</cp:revision>
  <dc:subject/>
  <dc:title>Leopoldo María Panero: biografía</dc:title>
</cp:coreProperties>
</file>