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13E-45D6-49B5-9F41-A7376914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CEC-A0E1-46D7-8728-F45F308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9A5-BF10-456F-B312-CD22965D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328-7AD6-4D1D-B413-7553C0DD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A42-1E8E-4583-AF90-7DB1616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8D7-32D7-4178-A56C-566D068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6A2-A7DA-4AA5-9120-8468B802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4D6-101D-4D5E-AC83-C7FE9277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048-0278-448B-AAD7-86577278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E9-9D8B-4B72-9E65-EAA4D34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13E-8750-4C4D-8F4D-AA2A381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583-CF06-4824-A470-EF51A76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1C8-59C6-4F95-AD37-9B82D458E76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e un comentario breve acerca de la relación entre  el envejecimiento y el desarrollo de una población, entendido como el despliegue de recursos sociales, financieros, culturales etc, que una población posee en un determina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56Z</dcterms:modified>
  <cp:revision>51</cp:revision>
  <dc:subject/>
  <dc:title>Leopoldo María Panero: biografía</dc:title>
</cp:coreProperties>
</file>